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  <p:sldId id="301" r:id="rId75"/>
    <p:sldId id="302" r:id="rId76"/>
    <p:sldId id="303" r:id="rId77"/>
    <p:sldId id="304" r:id="rId78"/>
    <p:sldId id="305" r:id="rId79"/>
    <p:sldId id="306" r:id="rId80"/>
    <p:sldId id="307" r:id="rId81"/>
    <p:sldId id="308" r:id="rId82"/>
    <p:sldId id="309" r:id="rId83"/>
    <p:sldId id="310" r:id="rId84"/>
    <p:sldId id="311" r:id="rId85"/>
    <p:sldId id="312" r:id="rId86"/>
    <p:sldId id="313" r:id="rId87"/>
    <p:sldId id="314" r:id="rId88"/>
    <p:sldId id="315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slide" Target="slides/slide46.xml"/><Relationship Id="rId76" Type="http://schemas.openxmlformats.org/officeDocument/2006/relationships/slide" Target="slides/slide47.xml"/><Relationship Id="rId77" Type="http://schemas.openxmlformats.org/officeDocument/2006/relationships/slide" Target="slides/slide48.xml"/><Relationship Id="rId78" Type="http://schemas.openxmlformats.org/officeDocument/2006/relationships/slide" Target="slides/slide49.xml"/><Relationship Id="rId79" Type="http://schemas.openxmlformats.org/officeDocument/2006/relationships/slide" Target="slides/slide50.xml"/><Relationship Id="rId80" Type="http://schemas.openxmlformats.org/officeDocument/2006/relationships/slide" Target="slides/slide51.xml"/><Relationship Id="rId81" Type="http://schemas.openxmlformats.org/officeDocument/2006/relationships/slide" Target="slides/slide52.xml"/><Relationship Id="rId82" Type="http://schemas.openxmlformats.org/officeDocument/2006/relationships/slide" Target="slides/slide53.xml"/><Relationship Id="rId83" Type="http://schemas.openxmlformats.org/officeDocument/2006/relationships/slide" Target="slides/slide54.xml"/><Relationship Id="rId84" Type="http://schemas.openxmlformats.org/officeDocument/2006/relationships/slide" Target="slides/slide55.xml"/><Relationship Id="rId85" Type="http://schemas.openxmlformats.org/officeDocument/2006/relationships/slide" Target="slides/slide56.xml"/><Relationship Id="rId86" Type="http://schemas.openxmlformats.org/officeDocument/2006/relationships/slide" Target="slides/slide57.xml"/><Relationship Id="rId87" Type="http://schemas.openxmlformats.org/officeDocument/2006/relationships/slide" Target="slides/slide58.xml"/><Relationship Id="rId88" Type="http://schemas.openxmlformats.org/officeDocument/2006/relationships/slide" Target="slides/slide59.xml"/><Relationship Id="rId89" Type="http://schemas.openxmlformats.org/officeDocument/2006/relationships/slide" Target="slides/slide60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530-662D-4261-A706-912A0D5756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68B-EFE2-44BF-B8DB-58AC7C62C242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D3F-436E-4615-92C6-75C6B39A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CFC-6EFA-4A1E-AEFC-F45D31AE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4C8C-0B1A-44FA-8DBC-232799B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54A4-E3A1-4530-BCAB-EAE5FBC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BE80E-BE5C-4F4D-BB45-AA783CE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9A4B7-6FFD-4BF5-82A6-0681498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7DBCA-8495-480A-9E50-6716F76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8134B-4747-42F0-BF9B-9BC67CA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71585-B285-426D-8A53-940713C6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CDBA-4F25-427B-8DEE-456413BA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75C57-A6FB-474A-904B-414D57E9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DC717-2BDF-482B-9BF8-1C2EEDE0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3BA-F8CD-4C41-B838-78235A8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E35AD-E415-47F5-95C8-43EF3230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CFA3A-1429-4C6D-856A-4D8B62CC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7A871-CF79-4701-874A-73CCD6D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D3FDB-858B-4195-A324-62407F3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2416-31DD-49D3-878B-1E3C108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5D01-964D-4B12-A371-A605B16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7E492-BBDD-4B59-9B98-CA2F68C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9F971-A41B-410C-BDA3-B30A23D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413E0-61B2-4CD5-95BB-6334A85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1F0D1-2B5E-4099-BD83-6F7E23B5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216-CA1A-4D02-80BD-8DB49A5F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6B134-470B-49F8-BC92-6290BC10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9AD6A-AFD0-4DAF-8FF6-30FE2932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0B4A1-0EE2-4C64-9F57-FBF339C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B3BEB-3B89-4CAC-B6ED-C235A0D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CF7E8-A273-4284-BC3C-7A505D1F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33132-9BD1-4045-A20F-E9DDE34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10FD0-3091-42F8-9D01-69E9398A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4A363-8C68-4D99-BEA6-143F35C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39A0D-02BE-4F53-ACC0-EC1C98E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668CA-2EDE-4719-85B6-C170325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3D8-5870-4DF2-94E7-8F18F1EB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93C9A-EBA6-4A72-A629-DC26C149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7D15-CEFD-4919-B1B9-512A5CF9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88326-E417-4CFA-A86A-6D3501E5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F60E0-39AB-449B-9117-08D9F3C8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8D9F-E1CF-4E41-8D0A-A7EFCBE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DAD45-6B58-4129-B527-2F6EBC7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561DF-6025-429F-928A-E24FBAB6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00BF2-8617-4C9B-B35A-98EE1306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1FC0F-51B1-4D02-B828-3FBCDC6B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AA46E-1D61-4DE1-A2B6-CEFCE10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106B-419A-4A41-98B0-6D62F57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8564F-57D4-4B48-ADDC-CEF4026D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C9F9B-A382-4DA1-B647-E1A51A2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FB029-C98D-45FB-B996-16BF463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BB9F2-DFC8-4EF4-AB2F-739EE15D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A0BB4-BA8A-4AFE-9A65-3455DA3E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B11B1-584D-432F-99BF-2F0A0A5F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03A85-D150-4328-91ED-75A005C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C4F42-BBAA-448B-910F-D852D0A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6B344-632C-4A28-ACA5-3363664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4A84F-1A50-4028-9114-D7551000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EA9-A056-4F82-8EA1-0058E575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A61A9-F140-45BE-9B5A-598780BC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9E2C4-4C61-4131-A250-7535DAC9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D398C-EB33-4DBA-B98E-A4DCF3A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7970C-9E5C-43FF-B4C3-488CB5A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16785-FD01-4E79-A879-21C91329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18A09-C67D-4FCA-BAFD-A06F2A76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45111-0243-43BB-B80D-9444834A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2B119-86EE-4445-9E02-A2BE67BB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2B840-BE30-4E77-96AC-7D89DDFE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DA0A0-F5CF-4585-BE6D-BD0C11E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7A8-8961-466D-84F7-EDC6491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FBA74-4604-4139-BE64-CB0A62F8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82DBC-5184-4239-A22B-CB6F7A6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FA0EB-AE5A-4A86-8610-534DEA7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59684-0399-46AF-8961-A6B2340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E66B1-BA7C-4AF3-8B9D-BA28F03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BD82F-7009-4C0B-9FA7-264F1C3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190EB-5AD6-45DE-9370-F6C8DA0A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41C76-B1FC-485B-B684-B02E2368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57110-EBDE-4739-A26B-901FD33C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21E28-9CF8-4D64-859D-651F8D6A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7271-B8BD-4835-8E47-58E1FFF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F2A14-ABC9-4237-ADC7-DE6A12F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7951A-2173-41F2-A955-64E21E1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0F59F-8E52-4AA5-952F-55E91AA4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90C5C-FD5B-44EF-B8BA-2B0A562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14AAF-FD98-43E8-8368-77519C8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603C0-CC33-40B9-AB85-80FCECF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CEB05-266E-43EC-852F-9BD40B0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C1471-F44F-4862-8614-2447C6A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33312-4AEB-42A4-8EBE-509FDF68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8AAEA-6B71-44E7-8F87-FD67B55D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81B-7EF9-4EB2-8021-9113B011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C43DF-D060-4CC9-B223-5EFBE517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09B61-AB28-4A3D-BEAA-B1791F4C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83D9C-93DE-4AB5-86B3-BB7F2831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F7C4D-6397-45CA-A034-612102E0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D6542-3B32-4A21-8002-FD65CB0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E857C-4802-4AC7-868B-F1961FD3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55B61-AD83-473B-934E-6954A8C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1A891-9B8B-418A-A0C5-B8B8CBC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BC85B-BECA-4F3E-96F1-31447EB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84ADE-2649-460B-AC9C-E51DBAB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B1B4-48B5-4A39-9508-D871F5D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A8A7E-8DD2-4A0B-B4D7-EFE2826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6463C-A434-4B7D-BC45-B528763D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15502-D914-41FD-A8A4-B91128BC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E24A5-45BF-4C2B-BF87-B0FAE78D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D00A1-B086-49E0-9848-E08F8F2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8016B-8F56-4030-955C-4F25BC76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9392B-21A5-480A-950F-41FCD057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EFB52-C058-4620-8B47-D4D2A106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047B5-F2CC-4A1C-91AC-12E505D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C7687-374C-4128-9EE8-4283C17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BD0-1504-469C-81F9-1149D13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0050-0CC3-453C-9C94-1962334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78E1E-94D5-49D0-BED7-8C757281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BF572-CA23-4B3E-ADA3-9FF93327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C0862-9067-4BF2-8160-FD582A4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242D2-A7DF-4499-ACE1-B6045F97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F71A4-0C63-4AC9-A0B6-60BF5101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E6F1F-9650-4097-B948-7D373F92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D43E2-D760-4B81-BDBD-36B4B4F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0B251-3BE0-4546-A64F-343CC5A0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3FC07-20E6-46B7-AEAC-3D66687C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E38F3-D06A-4014-806F-C39BB12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33A-2401-4937-AD1F-CDA38EF7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F68D8-40AA-4B08-B9CC-8B8A2CA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1A602-61DC-4494-B502-C22515C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F124C-FBD3-4F25-850A-E983965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3ADC7-99E7-4B72-BDA9-CC645EB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5CC76-3420-40D4-B783-99CF3F4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8CE7D-403C-4400-837C-1E22F0EE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2C851-B2BB-4B0D-9CD6-E5139DB6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1D759-3F8B-4B07-994D-F3CB5637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E45EC-DC5D-4B8D-91FE-2C2318C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61E0C-C196-4AC8-8B76-54665ED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C6E1-C72B-4F06-9096-DA7F9B5F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92FCA-CA87-4D85-ABC9-6C4491E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22F70-6094-41D8-B9EA-F53594F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BA721-2210-47E7-A61E-63954DCE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E215F-C428-46C0-B50C-A2B2DFC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80C43-F761-4A02-ADF9-B2D2BA8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320A1-1333-41BB-885A-4E431C5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11FF3-30DC-43AA-A617-F2AFAC7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125880-9555-41E7-A90F-94C78C50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B7762-6AAA-4BDA-A32F-5A518004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1A20A-09F7-4A04-80CF-7D0645BF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901-783C-4BD2-8C7D-17299CAC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2FE15-CF5E-46F8-9C4B-7E650B43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10FED-07DC-4A69-9854-FEA64FF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E207F-3402-40F3-A6F2-6255CA76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367C09-6F90-4FFE-AF7F-5B503DDA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5AA5F-FC55-4431-BE61-CBCA1DB6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CD06A-D836-415C-AE39-63A87E4D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DF933-124A-4982-939A-EA3AA40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F1A88-83B2-4996-9AB0-698677B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696CA-AB7B-4FF6-9EF5-F85CF2E5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C1C81-2D46-48E9-9410-3BF4D76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A45F-A8E4-4288-B18D-DAAE4EBE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4AA78-B14D-409A-BE6D-4983B7EE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784F2-02A9-436F-81D7-28C3C33D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354F8-779B-425E-91E6-D541947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734F2-452D-4A57-8CA8-38E4B1F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00F71-4912-47E2-BF31-1C2BA42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4E17F-3EF7-4B9B-A022-2306E8A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2F04B-64A2-41FC-8111-E0D97C19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6976F2-F210-4728-9809-3ABFE34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B4DAE-2943-4E33-88ED-AA9C826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C5ED8-D85A-447F-908E-8F9158F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B9FF-D034-4A6A-B14C-4C536A65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03599-EC7C-4CFD-9BB9-B19BD0D6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615128-345B-43B2-992E-62935DB3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D17D7-CF1A-4F9F-91A4-A2FE8710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BEA5F7-6F72-4344-86CC-04EA769D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31311-C280-49FC-9CD4-630FC61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A34797-999E-4C2D-823E-51094F18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42646-7B47-43EC-BDAC-CFFF1C81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E97B63-B1F6-4297-BE3D-C3B361FF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7578C-0D89-4224-A41F-46C2A98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4C68AB-C036-44A2-8584-26B056E7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0C0E-8096-4187-BAB9-15F58372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B7D689-0473-4D2D-9CA0-0F2BE07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B1991-0616-43C1-BC39-35B8D797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E20480-3565-4759-BA4A-E46A35C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5386D-E24A-4625-B24E-5FA74033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CC6F79-42B9-40DA-B4EF-1F473C41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FA51B-A100-4DDA-9290-C075EC48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EC8CD8-605A-4560-8F50-D42CD584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4C673-6D19-461C-970F-1E309809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56012-D38E-469E-ACC6-17089D61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D43FD-C943-4376-B36D-8F84E87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96CD-BBAC-4DB1-9A03-97E3C566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185020-A15B-4B4D-A322-E1518880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C58A8E-9006-4A7E-BEEF-FFF98DB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C9B75-C93D-40C6-8B8D-19CF09A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7429A-5513-47C2-AF75-1FCE892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B43674-7201-4FCF-BA93-904A2A4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5C1A3-BAC9-4F83-AA67-409BCC5A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AA85C-5F75-472C-9D89-AAAAC74D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9B757F-5B5B-4E93-82C4-A7BBCD31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E2A855-1BF2-4298-8426-5DCC9046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A768EC-C5AE-4879-ADAA-3D846D6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FB9D-F1FD-4E86-B49E-9A2CF588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1969D-BACB-406C-9839-F389E9DD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13BDB4-5619-43D6-B44A-A7C7E7F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3974A4-5301-454F-A27D-F23E2D29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AEEB2A-CD38-4E2A-AA1E-5F0F336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C5C993-F693-47E8-AE51-FCEE422B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56F02E-9ADF-48FC-AAC2-E9C7BE98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DFD05F-F6A4-4B40-BD5E-67011DF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80FF1E-34BE-46CA-93EA-C91B6B10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BDFDCC-0D8C-403D-AA40-29F8A696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58F10F-1FB5-483D-9958-23C3B3E9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1D9D-BBBE-4571-9E08-D5BFE473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CC13A3-2C6A-44A8-AAB1-13759D01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7F4CF1-CCC0-4874-AB3D-D02EAC1D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373C40-B540-4209-8CDB-04E1435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B36FD8-F0D4-49AA-9473-373B54B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19E77E-D22C-40CE-860C-9F2AADC8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B95ED6-EB62-42A4-83EE-5150955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5A9582-1D7B-4162-AED2-DAEEC84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A6F519-AF57-4E25-AEE8-6F71A82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AE795B-3941-4334-901A-F5C8AAEF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C15895-D84A-4657-96CA-56CB1E9A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CE4-489C-44E7-BF68-6703C90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F549-A193-4C5F-80C2-D99693EC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842D18-0491-4E77-936D-A7DD0994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0928E4-DB22-4CF3-AD1F-0711A304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7E5A1D-9D30-44DE-95AF-01CE17D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1AE9E2-E170-47B1-A8A1-EB6847AF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FC5880-CE08-4D92-9932-C1AB0F47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2CA6E7-0DCC-4CB3-918A-D886805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792B23-253C-45C5-B21E-35E6DEC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FBABDB-ACC7-4C50-A469-1D1EC3A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2DF864-2FFE-4634-B798-038C420D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2D210C-0ECA-46F0-BD85-A0DBB45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1DC2-2D9A-46A1-AC11-2A995B0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3217A9-F7DC-4FC9-B865-C488F928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E0486-8DF5-4387-BCBD-8B384707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5B8596-349E-42DC-9B3A-8667C8A5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49B4-DCFC-47C0-8DE7-5A100399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6ECD-1E4D-4505-9051-61B2B58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6090-DD96-41B7-8D17-235572DE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232E-4072-4024-B9F8-1E498E54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5B70-4F78-4874-BE59-CDE693BA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D002-590B-4456-8EAF-E6693FC9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ED2E-47D1-495C-A2C6-113F54A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A324-94B3-453D-BB53-28862443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E05-0606-414C-ADA3-8AA99F42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41B0-EDA3-4F2C-8BE6-8E20C643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AAD7-604C-45F4-B3CA-EEDC65D7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2F8B-C0FD-41DF-A80B-38EF554E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ABE5-255E-46DF-85E6-1BA5910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EA4A-75C7-47D7-8232-9DB2BB1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36DD-7931-4E68-AEBD-8D6C51B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72B5-6863-4972-B1D1-1A2A68D8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63A09-8BB6-46D8-BC79-C29964ED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6AB2-9FCC-4174-8955-555150AC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478C1-4D5A-4818-A65F-DE9B7B94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77D-99BC-402E-80A2-DA10EBC9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9856-0B8A-486F-9457-394E33DC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97059-D9CD-47E8-80C2-658EDDF7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1A8F-6D69-4991-831A-3DAA4203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9F22-14C4-4AA1-9D24-3066554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7894-3B15-4532-A7BC-C8B87EF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72B0-49C5-4DE4-A991-0D7F4FD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1AC1-1170-44DE-9AAB-9574F07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A76B-E1B8-4354-A6E4-0C70A174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8F3A-44AF-4910-8EF7-E5909B4F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C5CEC-1F3B-49EB-82F6-C675683F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E6D-3E74-4C8D-B54D-8442604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2DEB-8AED-4537-B154-3A2BB50C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C8A1-555A-47A6-AF6D-D8E5D3D3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7305-A513-48AE-A14C-948F5409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223F-3D40-4B0B-97B5-369E6D17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2E45-A3D8-4124-BD2E-C531116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C3348-8AE8-43C7-9D49-7CA6953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B0AB3-07E6-40B5-AD38-9F9C516F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221B-A35F-402B-A555-D969A6E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514F-592A-45AB-B9C8-C443A8E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5546-D400-4EFE-AD54-81ACB0B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95F-2F27-41B7-81E7-9FAFF4F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7E62-862E-450F-A2E6-38E2323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CA446-F7B8-4D1D-9694-22D94AC1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4D461-9833-40F2-969D-B506ED21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B36C-6273-4AAA-AEDF-7D132675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5EA9-CF6E-401D-B79F-EFA71B8C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260C-2C24-410F-A58F-A2B2CD49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9F94F-4BC7-49F0-8407-594A784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D23F-8C63-472E-86A7-4372357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AC61-41CF-4D47-8B84-DEF04466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3BA5-E9C7-42AD-AB5D-0A0C3541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F1A-AEED-4104-AF8B-0D7F67C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013E-BF80-4393-84B2-326D7D37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E940F-FA1D-43FF-8C57-D4F9020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B76F-1C70-4D2E-86BC-0524A59A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F1A2-5DA1-47C6-A06D-66E0E3E3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20DFE-D572-46B4-AEA3-52E0A633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474C9-B019-41FF-9436-4F68EA4A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26CE6-3637-4837-BC5C-B2DF32F1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16242-C76A-4C34-8C46-DCAB3A1E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B0F5F-5B8D-4D72-80A2-281C01C2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7881-F195-44B5-BB17-0BE166C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3B5-15F9-4DE9-90A0-E25A662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3150E-DC15-477C-87EE-7DE5DCE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1491-2048-4F81-85D1-9691350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F95A-C220-4346-BE24-C64B42E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4A9B-242E-480E-9213-61AAFA4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9B68-EF34-4675-BA3C-363AB69A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3AE5B-9928-49EC-8BFD-35BB2C07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00B9E-D858-4540-8F04-7361A2D5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1205-DE7B-4409-A8EA-08CE1C6F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1416-CD4F-49BE-87A4-4CB1AEC1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82F34-5D55-461A-A732-29C7C14C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5E0-3541-4CFC-B1A5-DCA93E3095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3804-E47B-4175-80CD-DCE63EFCAF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9996-4837-4539-A5AA-7992F73BA3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74B-87B5-417C-974A-449E61BC7B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6574-58BD-428A-9036-09026D13C1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72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72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83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3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4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5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41B1-9519-49C1-AF74-01BB63A153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7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6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7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3D0-64D1-47F8-8E7B-AA21711C6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8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2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4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-1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5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C027-1A9A-4A3E-95C6-C94DFD8543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5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S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程技术</a:t>
            </a:r>
            <a:fld id="{794E4291-61F1-4F36-B893-E41482CE7B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6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5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5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86C-CEDD-421B-A4A9-1CEFA45734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1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5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5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F04A-FF4E-4A15-B9C7-40B8A10D7C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2121-5010-431B-AA6B-FAC094C73E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6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6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E2E-14E6-44F8-9AD8-22C73E2680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6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6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6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64E-1CE1-4EF1-9C3D-66CEB2668A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49AB-08F6-4293-ACE9-A746AFC6BF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7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7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7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518-B315-4E6F-9070-AA4D9E4DDF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BD6-164F-4608-A971-0A3547112B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CBB4-AF9D-4366-889D-732A41E11D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90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5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6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7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6CB-9C56-4322-8C64-BE448E01E4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7D49-1946-4CC7-AF93-A31203D24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5176-6E05-49CD-9C2B-92BEC4C120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B31-6CF0-4F4B-A464-359432E2F3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B3C1-65F6-4402-A87A-DF7EFAC565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3131-7022-4C5B-85AB-EC445B39AF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521-9A19-4C0F-9552-F8D0B78545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4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6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宏编程技术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2" descr=""/>
          <p:cNvPicPr/>
          <p:nvPr/>
        </p:nvPicPr>
        <p:blipFill>
          <a:blip r:embed="rId1"/>
          <a:srcRect l="0" t="6251" r="630" b="0"/>
          <a:stretch/>
        </p:blipFill>
        <p:spPr>
          <a:xfrm>
            <a:off x="1171440" y="1071720"/>
            <a:ext cx="6758280" cy="514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/>
          </p:nvPr>
        </p:nvSpPr>
        <p:spPr>
          <a:xfrm>
            <a:off x="856800" y="928800"/>
            <a:ext cx="828684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5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变量的值为一段完整的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段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=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clpr*date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star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必须使用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R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围住宏变量的值，在以后的程序中可以用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来引用这段程序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=2000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=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(date)=&amp;m and month(date)=&amp;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plo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m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年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月份收盘价时序图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如果不执行宏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程序时，可将其设定为空值（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LET PLOT= ;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）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2" descr=""/>
          <p:cNvPicPr/>
          <p:nvPr/>
        </p:nvPicPr>
        <p:blipFill>
          <a:blip r:embed="rId1"/>
          <a:stretch/>
        </p:blipFill>
        <p:spPr>
          <a:xfrm>
            <a:off x="1057320" y="85716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1357200" y="856800"/>
            <a:ext cx="6019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6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变量的嵌套引用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=2000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=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xvar=dat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var=clpr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=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%st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"&amp;m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年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收盘价时序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"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yvar*&amp;xvar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star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(date)=&amp;m and month(date)=&amp;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plo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m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年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&amp;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n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月份收盘价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2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如何隔开宏变量引用和文本</a:t>
            </a:r>
            <a:r>
              <a:rPr b="0" lang="zh-TW" sz="2800" spc="-1" strike="noStrike">
                <a:solidFill>
                  <a:srgbClr val="002060"/>
                </a:solidFill>
                <a:latin typeface="Times New Roman"/>
                <a:ea typeface="新細明體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57160" y="15714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混合使用宏变量引用和文本的时候，会遇到宏变量后面紧跟着文本的情况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定义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当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name1,&amp;name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如果不定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宏变量，系统就会提示这两个宏变量并不存在，因为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识别宏变量的时候，自动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成了宏变量的名称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宏的引用过程中，当词段扫描器识别一个宏变量名称时，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直到遇到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中不允许出现的字符为止。所以空格等一些不允许出现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中的字符就可以作为分隔符出现，但是为了不显示这些分隔符，一般使用句号来作为分隔符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隔开宏变量引用和文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Res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ame^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ame.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ame..shee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2" name="矩形 3"/>
          <p:cNvSpPr/>
          <p:nvPr/>
        </p:nvSpPr>
        <p:spPr>
          <a:xfrm>
            <a:off x="1357200" y="3714840"/>
            <a:ext cx="5214960" cy="25718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    %let name=Resda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 %PUT &amp;name^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^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   %put &amp;name.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    %put &amp;name..shee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she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33" name="TextBox 4"/>
          <p:cNvSpPr/>
          <p:nvPr/>
        </p:nvSpPr>
        <p:spPr>
          <a:xfrm>
            <a:off x="1285920" y="3214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日志窗口信息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显示宏变量值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000080" y="1500120"/>
            <a:ext cx="7215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宏变量的最简单方法是使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它将文本输出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日志窗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PUT &lt;text | _all_ | _automatic_ | _global_ | _local_ | _user_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宏变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=fir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=macro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&amp;a !!! &amp;b !!!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矩形 4"/>
          <p:cNvSpPr/>
          <p:nvPr/>
        </p:nvSpPr>
        <p:spPr>
          <a:xfrm>
            <a:off x="1143000" y="5500800"/>
            <a:ext cx="3143160" cy="5000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irst !!! macro variable !!!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间接引用宏变量</a:t>
            </a:r>
            <a:r>
              <a:rPr b="0" lang="zh-TW" sz="2800" spc="-1" strike="noStrike">
                <a:solidFill>
                  <a:srgbClr val="002060"/>
                </a:solidFill>
                <a:latin typeface="Times New Roman"/>
                <a:ea typeface="新細明體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857160" y="1356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一系列的宏变量引用，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2, data3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这一系列中部分文本是固定的名称，而另一部分是变化的数字。这时就可以采取间接引用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6.9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间接引用宏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1=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2=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3=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&amp;data&amp;i;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&amp;data&amp;i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不能用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矩形 3"/>
          <p:cNvSpPr/>
          <p:nvPr/>
        </p:nvSpPr>
        <p:spPr>
          <a:xfrm>
            <a:off x="6357960" y="5286240"/>
            <a:ext cx="714240" cy="11430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0" name="TextBox 4"/>
          <p:cNvSpPr/>
          <p:nvPr/>
        </p:nvSpPr>
        <p:spPr>
          <a:xfrm>
            <a:off x="442908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变量范围</a:t>
            </a:r>
            <a:r>
              <a:rPr b="1" lang="zh-TW" sz="2800" spc="-1" strike="noStrike">
                <a:solidFill>
                  <a:srgbClr val="002060"/>
                </a:solidFill>
                <a:latin typeface="Times New Roman"/>
                <a:ea typeface="新細明體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宏变量以使用范围分为全局宏变量和局部宏变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全局变量可以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话运行期间使用并且可以在程序的任何地方引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局部变量则只能在创建该局部变量的宏中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这个宏之外，这个局部变量就没有任何意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变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参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表达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引用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接口程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程序语句和宏函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宏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5680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是被编辑过的可以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中调用的程序。同宏变量一样，一般可以使用宏来产生文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宏的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AC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ResDat.stk000002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收盘价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clpr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600200" y="9903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调用一个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一个百分号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%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加宏名字就可以调用该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并调用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ResDat.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收盘价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以上定义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plot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调用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Picture 4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7029360" cy="560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改变宏内宏变量的值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宏内宏变量的值，分以下几步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/>
          </p:nvPr>
        </p:nvSpPr>
        <p:spPr>
          <a:xfrm>
            <a:off x="857160" y="85680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宏变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=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ice=cl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调用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改变宏变量的值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=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ice=hi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再次调用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各段程序可以连在一起运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Picture 5" descr="“Clpr * Date”图"/>
          <p:cNvPicPr/>
          <p:nvPr/>
        </p:nvPicPr>
        <p:blipFill>
          <a:blip r:embed="rId1"/>
          <a:stretch/>
        </p:blipFill>
        <p:spPr>
          <a:xfrm>
            <a:off x="500040" y="8571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参数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宏变量和宏结合在一起是一种强有力的编程方法。但应用起来并不十分方便。最常用的是在宏中使用宏参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宏参数是一种特殊的宏变量，是定义在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CR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内的宏变量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宏参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,pr,price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C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括号内定义的宏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, P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称为宏参数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/>
          </p:nvPr>
        </p:nvSpPr>
        <p:spPr>
          <a:xfrm>
            <a:off x="857160" y="1714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给宏参数赋值来调用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k00000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运行时，宏处理器把第一个值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k0000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赋给第一个宏参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个值（收盘价）赋给第二个宏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此类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620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是一种可以用来扩展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功能，减少普通工作文本输入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工具。宏工具可以给一段文本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命名，并通过引用这个名称来使用这段程序或文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的功能非常强大，使用宏工具来完成以下任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变量实现文本替代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产生程序语句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循环及条件判断语句完成程序交互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概述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4" descr=""/>
          <p:cNvPicPr/>
          <p:nvPr/>
        </p:nvPicPr>
        <p:blipFill>
          <a:blip r:embed="rId1"/>
          <a:stretch/>
        </p:blipFill>
        <p:spPr>
          <a:xfrm>
            <a:off x="1057320" y="85716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856800" y="1214280"/>
            <a:ext cx="80010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次执行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,pr,pric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(stk000002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(stk000002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对宏参数赋一次值，宏执行一次。这里，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被执行两次。对参数分配的值只在宏执行过程中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4572000" cy="578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  <p:pic>
        <p:nvPicPr>
          <p:cNvPr id="1460" name="Picture 5" descr=""/>
          <p:cNvPicPr/>
          <p:nvPr/>
        </p:nvPicPr>
        <p:blipFill>
          <a:blip r:embed="rId2"/>
          <a:stretch/>
        </p:blipFill>
        <p:spPr>
          <a:xfrm>
            <a:off x="4643280" y="843120"/>
            <a:ext cx="4500720" cy="5800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/>
          </p:nvPr>
        </p:nvSpPr>
        <p:spPr>
          <a:xfrm>
            <a:off x="1071360" y="1285920"/>
            <a:ext cx="7311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宏参数的优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少写几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保证该宏参数变量在宏之外的程序部分不被引用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调用宏时并不需要知道这些宏参数的名字，只要知道相应的取值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参数赋值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宏参数时直接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=stk000002, pr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=cl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宏时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(dat,pr,price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k00000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k000002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pr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调用宏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56800" y="1285560"/>
            <a:ext cx="378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数据集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year(date)=&amp;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画时序图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 &amp;year1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7" name="TextBox 7"/>
          <p:cNvSpPr/>
          <p:nvPr/>
        </p:nvSpPr>
        <p:spPr>
          <a:xfrm>
            <a:off x="5072040" y="1285920"/>
            <a:ext cx="36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宏调用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yze(dat, year, pr,price,year1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;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产生数据集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EMP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; 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作图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运行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(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/>
          </p:nvPr>
        </p:nvSpPr>
        <p:spPr>
          <a:xfrm>
            <a:off x="857160" y="85716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完整的宏调用宏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year(date)=&amp;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 &amp;year1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 create the data set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 plot the variables select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Picture 4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变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56800" y="1428480"/>
            <a:ext cx="6715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宏变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宏程序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定义宏变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SN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宏变量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宏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条件表达式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条件表达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if-%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getdata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no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1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getdata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3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ata Set Created for The Plo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no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于上述的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nalyz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如果用下面语句来调用它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analyze(YES, stk000002, 2000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收盘价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clpr,2000)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　宏处理器就不能调用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来产生数据集，因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件是小写字符值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y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为了避免这种情况出现，可以使用宏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upcas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大小写字符的统一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up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getdata)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这样无论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%IF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条件就都成立了。即：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no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cl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(YES, stk000002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hipr,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生成重复文本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生成重复文本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(name, numbe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umb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name&amp;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宏参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生成一系列的名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调用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dsn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下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DSN1 DSN2 DSN3 DSN4 DSN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Text Box 4"/>
          <p:cNvSpPr/>
          <p:nvPr/>
        </p:nvSpPr>
        <p:spPr>
          <a:xfrm>
            <a:off x="1643040" y="1785960"/>
            <a:ext cx="648036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0  %en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1  %mend nam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2  data %names(dsn, 5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23  ru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2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3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4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SN5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6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4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1357200" y="1143000"/>
            <a:ext cx="280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窗口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某个引用的词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x(name, number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numb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name.x&amp;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s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成生一系列名子的同时，在前缀和数字之间放一个字母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调用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x(dsn, </a:t>
            </a:r>
            <a:r>
              <a:rPr b="1" i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如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DSNX1 DSNX2 DSNX3 DSNX4 DSNX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宏表达式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3571920" cy="5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Times New Roman"/>
                <a:ea typeface="宋体"/>
              </a:rPr>
              <a:t>宏处理器如何处理算术表达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2" name="TextBox 3"/>
          <p:cNvSpPr/>
          <p:nvPr/>
        </p:nvSpPr>
        <p:spPr>
          <a:xfrm>
            <a:off x="1071720" y="1857240"/>
            <a:ext cx="642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默认的来说，宏处理器使用整数算法对数值进行计算，这时默认只有整数和十六进制的整数值可以进行数值计算。其它的如带有小数点的数值文本，则不会被自动转换。只有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%syseval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函数来将带有小数点的数值文本在表达式被解析的时候，算术文本暂时被转换成数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6.2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宏处理器处理算术表达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+1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*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/3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=&amp;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=&amp;y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=&amp;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%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会在日志窗口中展示下列信息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=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=4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=1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syseval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处理算术表达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.0+2.0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.5+2.8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z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9.0/3.2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9.0+2.0 = &amp;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9.5+2.8 = &amp;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9.0/3.2= &amp;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%PU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会在日志窗口中展示下列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.0+2.0 = 1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.5+2.8 = 12.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.0/3.2 = 2.812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逻辑表达式返回一个值，这个值可以被判断为正确还是错误，任何非零的数值都是正确的，而零就是错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&gt;1)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yseva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&gt;2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日志窗口会显示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也就是第一个是正确的，第二个是错误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5" name="文本占位符 2"/>
          <p:cNvSpPr/>
          <p:nvPr/>
        </p:nvSpPr>
        <p:spPr>
          <a:xfrm>
            <a:off x="857160" y="857160"/>
            <a:ext cx="3571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宏处理器如何处理逻辑表达式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步接口程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宏处理器只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编译期间起作用。如果想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产生的信息值创建宏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便于在后面的程序中使用，可以用下面的编程技术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两个接口程序可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执行期间创建宏变量，指定它们的值，及重新得到它们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步接口程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88" name="Object 4"/>
          <p:cNvGraphicFramePr/>
          <p:nvPr/>
        </p:nvGraphicFramePr>
        <p:xfrm>
          <a:off x="1184400" y="3786120"/>
          <a:ext cx="7086600" cy="12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3786120"/>
                    <a:ext cx="70866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宏变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宏变量前加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amp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来引用宏变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宏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a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上段程序等价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785880" y="92844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由数据步产生的信息值创建宏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dat  end=fina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year(date)=&amp;year  then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final then call symput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n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的宏变量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numbe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其值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n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gplot data=tem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2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pr  &amp;year1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&amp;price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mbol1 v=star i=join 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lo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(getdata, dat, year, pr,price,year1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p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getdata)=Y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otnot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Plot of &amp;number Observation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aly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yes, stk000002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pr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yes, stk000002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pr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yes, stk000002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收盘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pr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EST12.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格式输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UMB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居右。为了使该值居左，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F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4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Picture 2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Picture 2" descr=""/>
          <p:cNvPicPr/>
          <p:nvPr/>
        </p:nvPicPr>
        <p:blipFill>
          <a:blip r:embed="rId1"/>
          <a:stretch/>
        </p:blipFill>
        <p:spPr>
          <a:xfrm>
            <a:off x="105732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785880" y="928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F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um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um2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left(x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um3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trim(left(put(x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)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1 = ***&amp;num1***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2 = ***&amp;num2***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3 = ***&amp;num3***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7" name="矩形 3"/>
          <p:cNvSpPr/>
          <p:nvPr/>
        </p:nvSpPr>
        <p:spPr>
          <a:xfrm>
            <a:off x="2928960" y="4786200"/>
            <a:ext cx="3071880" cy="150048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1 = ***           1***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2 = ***1           ***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3 = ***1***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8" name="矩形 7"/>
          <p:cNvSpPr/>
          <p:nvPr/>
        </p:nvSpPr>
        <p:spPr>
          <a:xfrm>
            <a:off x="1118160" y="47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结果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宏程序语句和宏函数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0" name="TextBox 14"/>
          <p:cNvSpPr/>
          <p:nvPr/>
        </p:nvSpPr>
        <p:spPr>
          <a:xfrm>
            <a:off x="1285920" y="12142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宏功能包括很多宏程序语句和宏函数。下面列出部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有效的宏程序设计语句和宏函数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285920" y="2700360"/>
          <a:ext cx="7381800" cy="3657600"/>
        </p:xfrm>
        <a:graphic>
          <a:graphicData uri="http://schemas.openxmlformats.org/drawingml/2006/table">
            <a:tbl>
              <a:tblPr/>
              <a:tblGrid>
                <a:gridCol w="2333520"/>
                <a:gridCol w="5048280"/>
              </a:tblGrid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条件处理至一个匹配的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END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o%Unti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重复循环直到条件为真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结束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DO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组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全局宏变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If-%Then/%Els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有条件执行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为宏变量提供值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宏变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acro-Nam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调用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en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结束宏定义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u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输出文件到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TextBox 16"/>
          <p:cNvSpPr/>
          <p:nvPr/>
        </p:nvSpPr>
        <p:spPr>
          <a:xfrm>
            <a:off x="2286000" y="221472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部分宏程序设计语句及用途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宏函数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856880" y="1356840"/>
            <a:ext cx="428652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2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宏计算函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28880" y="1785960"/>
          <a:ext cx="5357880" cy="1800360"/>
        </p:xfrm>
        <a:graphic>
          <a:graphicData uri="http://schemas.openxmlformats.org/drawingml/2006/table">
            <a:tbl>
              <a:tblPr/>
              <a:tblGrid>
                <a:gridCol w="1579320"/>
                <a:gridCol w="3778560"/>
              </a:tblGrid>
              <a:tr h="601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函数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％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va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计算算术和逻辑表达式 整数格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SYSEVALF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计算算术和逻辑表达式 浮点格式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6" name="文本占位符 2"/>
          <p:cNvSpPr/>
          <p:nvPr/>
        </p:nvSpPr>
        <p:spPr>
          <a:xfrm>
            <a:off x="2000160" y="3857760"/>
            <a:ext cx="4286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9a55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</a:t>
            </a: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宏引用函数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000160" y="4286160"/>
          <a:ext cx="5286600" cy="1727280"/>
        </p:xfrm>
        <a:graphic>
          <a:graphicData uri="http://schemas.openxmlformats.org/drawingml/2006/table">
            <a:tbl>
              <a:tblPr/>
              <a:tblGrid>
                <a:gridCol w="1276560"/>
                <a:gridCol w="4010040"/>
              </a:tblGrid>
              <a:tr h="432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函数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Nrstr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引用固定文本，包括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Quot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引用一个除％和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之外的可分辩值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Str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引用除％和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之外的固定文本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EVA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计算宏表达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x+200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z=&amp;x+2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&amp;y z=&amp;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交上述程序后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的结果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是一数值，而宏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是字符串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+200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9" name="矩形 3"/>
          <p:cNvSpPr/>
          <p:nvPr/>
        </p:nvSpPr>
        <p:spPr>
          <a:xfrm>
            <a:off x="1714680" y="4429080"/>
            <a:ext cx="4786200" cy="5000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300   z=100+2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subst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生成某字符串的子串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subs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sysday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.2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QOU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引用一个可分辩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pt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qu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&amp;X)=f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th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inancial Departmen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ther Departmen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p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t(f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t(mat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511" name="直接箭头连接符 4"/>
          <p:cNvCxnSpPr/>
          <p:nvPr/>
        </p:nvCxnSpPr>
        <p:spPr>
          <a:xfrm>
            <a:off x="2714400" y="5000760"/>
            <a:ext cx="1500840" cy="2160"/>
          </a:xfrm>
          <a:prstGeom prst="straightConnector1">
            <a:avLst/>
          </a:prstGeom>
          <a:ln w="9360">
            <a:solidFill>
              <a:srgbClr val="44aee3"/>
            </a:solidFill>
            <a:miter/>
            <a:tailEnd len="med" type="arrow" w="med"/>
          </a:ln>
        </p:spPr>
      </p:cxnSp>
      <p:sp>
        <p:nvSpPr>
          <p:cNvPr id="1512" name="矩形 5"/>
          <p:cNvSpPr/>
          <p:nvPr/>
        </p:nvSpPr>
        <p:spPr>
          <a:xfrm>
            <a:off x="4357800" y="4714920"/>
            <a:ext cx="3643200" cy="64296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Financial Depart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other Depart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1523520" y="18284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2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宏处理器只能在双引号内进行替代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=january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"This is the time series plot for &amp;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引号内引用宏变量的值时必须用双引号。因为宏处理器只能在双引号内进行替代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Text Box 4"/>
          <p:cNvSpPr/>
          <p:nvPr/>
        </p:nvSpPr>
        <p:spPr>
          <a:xfrm>
            <a:off x="1619280" y="1628640"/>
            <a:ext cx="6335640" cy="30495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6  %let a=januar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7  dat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8  put  "This is the time series plot for &amp;A"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609  ru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his is the time series plot for januar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ORK.DATA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20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1600200" y="152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次引用宏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a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SUBSET OF &amp;A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a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SUBSET OF &amp;A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1000080" y="928800"/>
            <a:ext cx="74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变宏变量的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=20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%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year(date)=&amp;m  and  month(date)=&amp;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m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年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&amp;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n 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月份收盘价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ta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改变宏变量的值，如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T N=2,3,4,5,...,1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分别得到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月的时序图。不过，更好的方法是用宏循环来实现这里的要求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18T01:46:23Z</dcterms:modified>
  <cp:revision>370</cp:revision>
  <dc:subject/>
  <dc:title>第1章 SAS软件入门</dc:title>
</cp:coreProperties>
</file>