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move the slide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9BDD-9D15-4E9C-BABD-64D623B13B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4994-14C4-4370-8F50-FE2407BC7BDC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BAC-7B01-4262-96DD-B5E36CC4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866-B9C7-4338-AC4B-C77D1544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AAC1F-AFAB-4C02-9DE4-D51C2B55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F7C2D-D287-489D-9569-5BE9AC4F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91D30-52A9-424A-9E56-9AC8CFCD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7E721-B9C5-4DEC-ADB9-83AEC4A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7CF95-0060-43DD-8864-23DE10F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6B695-2C0E-48A4-B88D-C4BBE2C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5D336-EC04-451C-98D6-9386BCFF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29F10-D28A-42B9-AD39-D005BF9E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6481C-6C09-43E4-9147-B5D40622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4E5AB-7B06-47BD-A965-FA754C49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B60-B6B5-4529-987E-31FB718C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63926-45C8-4856-8204-4EEAE5F7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CD151-8544-4085-9B23-AAB1107F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56072-B6CF-42B9-AEFD-CD763EDE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D5379-B9B8-4CED-8188-BEE8F4C7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8024A-2F99-4E07-BCE7-F9D40541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E089E-984D-475B-81B5-E6E9959D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E9874-EB15-4ECA-8C6A-96E7324B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BB46C-11A0-457D-B577-F03A6963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820B2-F1E7-48DB-8A67-DD6D5FEF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A492F-B49D-4FD3-BB26-19F93D49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15A-073C-40E7-AB57-BA9E8F1C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37D09-5D00-45CD-9F2C-7ABF0204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AB507-1489-4E0D-878A-9B084E33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8700D-92D2-4D5E-AB8E-02194C02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372B0-1491-4AF1-A7AA-F7A2BEEF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D1148-07DC-4999-AC68-8730F1EB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26896-9DAF-4D93-8BB6-974DF46D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22E4C-2A4C-4AC0-97A1-E7D8BE8D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E428E-BBB4-4ADB-887F-7560AC20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3DA39-5159-4329-865F-EE897075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8AA88-E7E5-47BA-9010-E8288D81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3CE3-E3DC-46C4-A0F3-3EE83E2A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E4F52-9EE8-41E0-BA07-CEB484F2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BA492-7716-4191-9C0D-EAD87354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3DDEE-2194-40B6-8D97-9C5FC763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EBB17-B3F5-4508-B57E-7DCE27ED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287C5-685F-4296-87DD-1D09BA75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774F4-BB98-4C9A-9961-A3AB8E5F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F2192-8B89-4EE4-8ABF-7740B913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CE86B-F584-4B3E-89F3-2EE7FCDF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84C5B-FD00-433E-BE0B-6392275D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D3AC6-AF25-47F6-9BA6-BA1CCA1E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2F76-9561-45E4-8B64-AD6AE180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1EEA9-7042-4536-A26B-9F966762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10B51-886B-41AE-96AD-6F96E707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E4A3F-14DA-45DA-A180-CA9828F1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3ACDE-4A31-47DC-8DC5-C2E2ACAC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592EF-2C87-453E-8463-0DE33A01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A0497-B829-4B0A-BE9D-4CE84307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D5A4F-99C9-4622-86A1-A271DCA3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EF223-D884-411E-B194-3BBF83A9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6A2AA-FB32-4EA7-B657-C04D71F2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ADB3D-5C46-4CE6-82A9-1029E447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8C59-7B16-4838-B6B6-B7D4B607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60005-3198-407C-AAFD-8F2E8B76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E3E1E-D896-43E5-ADDD-B1547391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BFAA3-7BD1-4A5B-B9E5-6EF68D90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0B142-366C-474B-971D-6886CC3D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D8153-F28C-4936-920E-DCF5558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397AB-3240-49FC-BBA1-65C93038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84288-84A3-49D6-B268-75E2203C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EF46F-18E3-4D88-823E-1C248985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1A912-4391-4813-97BB-4C1452D3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EE44E-D995-4814-9054-05FD79E8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6370-B453-4224-B990-39AFA2EF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547C4-CAA8-4F43-992E-6E2EE373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FE5AC8-3176-47B2-9714-64C4D781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E6931-10B2-4747-944C-921E5343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03498-0BBF-4A3C-8D6D-75717514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E921B-7867-4BEA-82B2-732A7AAB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5D125-149D-4424-B6A0-5AF2EEC8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03906-FBE4-4547-9D33-5B90B646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498A0-4C42-4FDD-83EC-1EC4CE32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05698-0636-4A46-AA44-FD1D0A2F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8564-4120-415A-96BD-72A5572F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16F9-D29E-4ADB-BCE0-DEF2DAF1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776F-E839-48BB-B4E7-422542B7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A0B-035D-4A9B-AB6F-21DBFBD0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6C38-3F15-4A7F-AAC9-0AB48890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614C-408C-49B6-A9C6-F08EB32E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D3E6-12BC-421C-9D6F-C3650A88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0BB5-AF34-4C9D-B0B9-6E5E48F5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ED2C-296B-4AD7-ABC9-A10CEDDB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7B0F-B6C2-4D09-9634-24BE8DB3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386F-C9C7-4F57-B4AE-50DD2BB4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B439-C974-457D-8B6A-B47D914C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B6443-1243-423F-AAE7-79AD8558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3A04-C6E6-4F86-A83A-244932C9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7EA-D260-41C3-98F7-C1B0DAA3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2075-339C-4993-85C2-DDA0A0A2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183B-ECFA-4A96-8F6B-4DCDB8FD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8C52B-01EF-4777-8355-CBFD97A6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5B7EE-EA95-4CE1-A9F2-E7413037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659B-CB20-497B-8EE7-001AFF10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55B7-AD80-4744-B0A0-37410872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0358-7672-43F1-AD93-46E28CFD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3F6A-25E3-490C-8765-FB03DC03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6F4B9-F43B-49C0-A534-E3ECABAF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9970C-89A7-489C-9ED2-7E3F7AE4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423-9F9C-4173-9C32-4A262BD3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376C-6A03-414C-A8F8-074AAB8B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2A5CD-922D-4F2B-8718-80A0B5BF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D13C-79F5-4C46-BBF9-CA79E8FB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5D6A-B23B-401A-8D7D-72DDB8A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0D8C-046E-4E64-A38D-3B505A9A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A63C-7EB8-4668-A51E-17D5A189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52674-5483-40FB-ADAD-A86D1C1C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514EB-0B9C-463F-8560-B5586D62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7C902-6EB8-451B-AD41-F61298DA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91898-2B4F-4938-BF0C-BD190332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E7D-6EA5-40E0-8687-95EACD71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12B2E-95A5-4BDF-84BD-61B53FE9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85459-9D34-460E-B347-192ABA71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53BB-754A-4050-A9B3-2304D61C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3E323-5654-48A0-8501-67365B75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8425-1D9F-42DE-AEEB-8716DF56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184BE-950D-47B4-A08C-0817C102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81AF-BA9F-4125-B99E-028C3DDD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3DF98-5E1D-42D4-B95F-7E1A153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C9DE8-BC6D-4AF9-B4CB-D93D58D2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E311A-5B45-48E2-9278-DC6E98AC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0AD-7921-4DF2-9DB2-1EE0EE0C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50D30-4279-4884-BC7E-53AEF74D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E489-BC8D-4E56-A37B-95A4AF1C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225F3-378E-4F30-ACEA-AD9D0C95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4CE2-749C-4F94-9849-40FA9588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AA96F-DE8C-41EC-850C-29790791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11117-187E-4F19-AFCD-27567785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FFC68-8655-42EF-9A97-0FFECDE6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31360-0E26-4A9B-8045-4CB5440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D1D20-9A6F-4E77-8E80-6EECD92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73480-6EC1-4734-88F6-A016719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463-DBC0-4D38-9C43-DD79A3A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E0AE0-7C68-4945-A6FB-D67E0B90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ECC87-BA51-49E8-B44A-3DEC684E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838AE-DBB7-4E4F-8B02-68CE7B3A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47143-6467-40F6-A06F-D9883EB5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FA474-984A-4F38-9EBB-9A1601F5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61DA-C360-42C3-A41A-6C52A187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29BF0-F80D-4DF4-9BFD-2D821FFE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93674-EC88-47AB-BFE3-F8E9695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4077B-6D38-4A3C-A6B5-0CB63B9E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D04AF-8173-4A92-80D4-2AE5354A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B8A-662D-49FF-8B09-C8FF714A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BFDDA-F35E-48C3-AE9D-1662C5FC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1F0C8-5A2B-43CA-80E9-28588B0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4E0FE-AF25-403D-9A61-9A73355C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8324C-D3C6-4F31-B461-0F648208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BEEDF-F100-43F0-B30B-C8ACD2E7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EEB6C-6B65-4114-AD26-5698BFB5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D0D50-5852-4A7B-9E42-D00B5B9E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C09DF-BB68-4B2E-9D35-FBBF379D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BC966-CAFC-405D-8CBD-2BE6EE5F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43A5C-41FB-46A5-B187-06C5418F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F6D-4003-4A6F-A95F-12969863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0461B-9D62-4C2F-8072-BD5A2DFB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41321-0C43-4099-B5CC-7D37455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992C2-370A-44F0-B36B-6FFEEA82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CD407-41C4-4AC7-A6E2-DD3FFF30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5EA19-BBB5-490C-8AC6-6E53559D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4640F-6503-4D2E-AFEB-7843B80B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3451F-BB87-4E10-AC8A-B5694A79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F3E5F-72EC-4410-A9AE-FAF14E68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37AE4-9817-471D-B92C-3A4F1034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27DC9-85A4-4042-A2F7-796B7D61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C3E9-04D8-4F6A-B6E8-77F087A1A6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6FD1-1AB5-4605-820B-DA844A319A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B689-8DC1-42EA-946A-BBB5AC0497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4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915A-1A97-422D-BDAE-685781B284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8A69-5C94-4A14-A808-1849EEEE7A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6B0F-B096-4C89-A3D4-370E81695F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9"/>
          <p:cNvSpPr/>
          <p:nvPr/>
        </p:nvSpPr>
        <p:spPr>
          <a:xfrm>
            <a:off x="1357200" y="1785960"/>
            <a:ext cx="6572520" cy="4286160"/>
          </a:xfrm>
          <a:prstGeom prst="rect">
            <a:avLst/>
          </a:prstGeom>
          <a:solidFill>
            <a:srgbClr val="ffffff"/>
          </a:solidFill>
          <a:ln w="0">
            <a:solidFill>
              <a:srgbClr val="3481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9"/>
          <p:cNvSpPr/>
          <p:nvPr/>
        </p:nvSpPr>
        <p:spPr>
          <a:xfrm>
            <a:off x="1285920" y="1857240"/>
            <a:ext cx="6357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9C41-7D2A-4609-8D6E-EEFA98FAF1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64C6-AA04-4889-B641-3B296508B6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DAF2-A2B2-443E-BB0E-2E6660CF23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271D-7921-471D-B5B9-B62131A43A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2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2047-65B3-41CE-9CE3-90D2F207EB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7530-DABB-4102-817C-3394E973AE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6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6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6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6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6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5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IML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编程技术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1285920" y="13568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创建数值矩阵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含有多个元素的矩阵标识要用括号把元素括起来。用逗号将矩阵的行分开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由矩阵标识创建的数值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一个行向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一个列向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一个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3×2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Z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Z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一个新矩阵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W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它的每个元素是矩阵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Z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相应元素的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倍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1214280" y="18284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创建字符矩阵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字符矩阵时，字符长度取最长字符的长度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{IML  Modual}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字符长度以较长的字符为准，这里为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6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={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bc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EF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140508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重复因子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重复因子用括弧括起来放在要重复的元素前面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与不用重复因子的等价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S={[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Y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[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o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S={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Y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Y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o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o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1523520" y="135684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赋值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果＝表达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z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作为表达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sqrt(b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inv(x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=rank(x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1523520" y="16761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表达式中的三种运算符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表达式中的算符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04" name="Object 2"/>
          <p:cNvGraphicFramePr/>
          <p:nvPr/>
        </p:nvGraphicFramePr>
        <p:xfrm>
          <a:off x="2071800" y="3143160"/>
          <a:ext cx="4725720" cy="150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3143160"/>
                    <a:ext cx="47257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类型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AS/IM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软件语句大致分为三类：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语句；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语句。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的一般形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 = Function (arguments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gume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是矩阵名，矩阵本身或表达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软件中的函数类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查询函数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标量函数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概括函数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变形函数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算术函数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线性代数和统计函数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500040" y="7855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函数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1356840" y="121392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随机数函数应用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=Uniform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uni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Normal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nor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bin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cau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exp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gam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poi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v =Rantri(Repeat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形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EAT(X, Y, Z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随机数种子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产生的随机数个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产生的随机数列数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1523520" y="16761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9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下随机数产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例子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retain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赋初值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给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_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eed_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igma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_i_ =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1 = mu + sigma * rannor(_seed_)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均值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mu,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标准差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igma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_i_  mu sigm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1600200" y="22093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SAS/IML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不支持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OF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mean(of x1-x10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-x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当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而不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0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lang="en-US" sz="36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5920" y="1643040"/>
            <a:ext cx="5214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概述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理解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M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言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线型回归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M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模块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矩阵操作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M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编程语句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操作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访问外部文件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CALL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与子程序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ROUTINE argumen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igen(val,vec,t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lete(DAT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个例句，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创建矩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矩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征值和特征向量。第二句，删除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自建子程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ymod(a,b,c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sqrt(c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=log(c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ymod(a, b, 10)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运行模型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MYMOD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ymod(x, y, 10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建立一个模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YM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得到输入矩阵的平方根和自然对数值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其它一用法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gstart;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激活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graphic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模块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gopen;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打开一个新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graphic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片段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gpoint(x,y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作散点图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gshow;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显示散点图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85920" y="142848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命令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618920" y="2636640"/>
            <a:ext cx="592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用于实现一些具体的系统功能，例如，存贮和加载矩阵、或进行特定的数据处理等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1666440" y="1142640"/>
            <a:ext cx="6629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1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命令用法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nam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ore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storage;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移走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,b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storag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oad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ee a b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清空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, b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缺失值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13920" y="199980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也有缺失值的问题。注意，矩阵中的缺失值不能视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矩阵标识中，数值缺失值用点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支持缺失值的方式是有限的。许多矩阵运算不允许有缺失值，比如，矩阵乘法、矩阵求逆等。另外，支持缺失值的矩阵运算也会产生不一致的结果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04280" y="78552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线性回归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IM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模块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黑体"/>
              </a:rPr>
              <a:t>解方程组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线性解方程组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用符号表示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3848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4724280" y="2085840"/>
            <a:ext cx="34290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方程组程序： 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inv(a)*c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 a c 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26" name="Object 2"/>
          <p:cNvGraphicFramePr/>
          <p:nvPr/>
        </p:nvGraphicFramePr>
        <p:xfrm>
          <a:off x="1476360" y="2708280"/>
          <a:ext cx="194472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19447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Text Box 4"/>
          <p:cNvSpPr/>
          <p:nvPr/>
        </p:nvSpPr>
        <p:spPr>
          <a:xfrm>
            <a:off x="3492360" y="5373720"/>
            <a:ext cx="4176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A                             C         X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3        -1         2         8         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   -2         3         2         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4         1        -4         9 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4716360" y="4941720"/>
            <a:ext cx="187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结果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线性回归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IML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模块程序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905120" y="1928520"/>
            <a:ext cx="4595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1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线性回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块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inv(t(x)*x)*t(x)*y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hat=x*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=y-yha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se=ssq(r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fe=nrow(x)-ncol(x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se=sse/df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1600200" y="1218960"/>
            <a:ext cx="72388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regress;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模块开始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pxi=inv(t(x)*x);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X'X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逆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ta=xpxi*(t(x)*y);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参数估计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hat=x*beta;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预测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id=y-yhat;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残差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se=ssq(resid);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SSE 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=nrow(x);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观测值数 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fe=nrow(x)-ncol(x);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误差自由度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F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se=sse/dfe;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MSE 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ssy=ssq(y-sum(y)/n);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校正平方和 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square=(cssy-sse)/cssy;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RSQUARE 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,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Regression Results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 sse dfe mse rsquar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db=sqrt(vecdiag(xpxi)*mse)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参数估计的标准差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=beta/stdb;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参数的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检验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b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probf(t#t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dfe);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p-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,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Parameter Estimates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,  beta stdb t pro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,y yhat res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ish regress;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模块结束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1523520" y="12949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print;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ress;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执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REGRESS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模块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rint;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打开自动打印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vb=xpxi*mse;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参数估计协方差阵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sqrt(vecdiag(covb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rrb=diag(s)*covb*diag(s)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参数估计的相关系数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1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第二列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orpol(x1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产生正交多项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print;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关闭自动打印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ress;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运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REGRESS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rin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vb=xpxi*ms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sqrt(vecdiag(covb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rrb=diag(s)*covb*diag(s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uzz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rrb=diag(s)*covb*diag(s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矩阵操作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35" name="Text Box 4"/>
          <p:cNvSpPr/>
          <p:nvPr/>
        </p:nvSpPr>
        <p:spPr>
          <a:xfrm>
            <a:off x="1619280" y="2133720"/>
            <a:ext cx="579132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输入数据创建矩阵标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使用赋值语句创建矩阵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使用矩阵表达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利用行列标展现矩阵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</a:rPr>
              <a:t>缺失值运算举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概述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428840" y="185688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teractiv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ri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guage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在一种在动态和交互式环境下实现的强大而灵活的过程语言（交互式矩阵语言）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基本的数据对象是矩阵。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模式下，可以立刻看到语句运行的结果，也可以把语句贮存在一个模块中为以后使用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输入数据创建矩阵标识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可以使用多种方式输入数据创建矩阵标识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创建标量矩阵标识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16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标量矩阵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.3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Hello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Hi there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x y z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8" name="Text Box 2"/>
          <p:cNvSpPr/>
          <p:nvPr/>
        </p:nvSpPr>
        <p:spPr>
          <a:xfrm>
            <a:off x="3708360" y="5157720"/>
            <a:ext cx="4176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X         Y         Z A     B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12     12.34         . Hello Hi ther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1428480" y="135684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Times New Roman"/>
                <a:ea typeface="黑体"/>
              </a:rPr>
              <a:t>创建多元素矩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多元素矩阵时，用括号把元素括起来，用逗号（，）把行分开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多元素矩阵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i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ffee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={Jenny, Linda, Jim, Samuel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 [rowname=names]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4"/>
          <p:cNvSpPr/>
          <p:nvPr/>
        </p:nvSpPr>
        <p:spPr>
          <a:xfrm>
            <a:off x="1835280" y="1125360"/>
            <a:ext cx="705636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OFFEE      4 rows      5 cols    (numeric)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4         2         2         3 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3         3         1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    1         0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         4         4         3         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AMES      4 rows      1 col     (character, size 6)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JENN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LIND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JI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MUE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OFFE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JENNY          4         2         2         3 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LINDA          3         3         1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JIM                2         1         0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MUEL      5         4         4         3         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赋值语句创建矩阵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285560" y="1571760"/>
            <a:ext cx="7358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Times New Roman"/>
                <a:ea typeface="黑体"/>
              </a:rPr>
              <a:t>简单赋值语句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赋值语句创建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pri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ycost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coffe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Daily totals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daycost[rowname=names format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es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ektot=daycost*one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Week total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weektot[rowname=names format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randtot=sum(coffee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verage=grandtot/ncol(coffee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Total number of cups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grandtot,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Daily average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average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1600200" y="16761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Times New Roman"/>
                <a:ea typeface="黑体"/>
              </a:rPr>
              <a:t>创建特殊矩阵函数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/I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软件有很多内置函数来产生一些特殊矩阵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44" name="Object 2"/>
          <p:cNvGraphicFramePr/>
          <p:nvPr/>
        </p:nvGraphicFramePr>
        <p:xfrm>
          <a:off x="1619280" y="2695680"/>
          <a:ext cx="4824360" cy="21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695680"/>
                    <a:ext cx="48243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723924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19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分块对角阵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LOCK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trix1,&lt;matrix2,...,matrix1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=block(a,b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创建分块对角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主对角线元素分别是矩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2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同元素矩阵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row&lt;,ncol&lt;,value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e=j(2,5, 88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一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列矩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元素全部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8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2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单位阵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nsio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3=I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×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3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1599840" y="15998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2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满秩设计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SIGNF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-vect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=designf(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为单因素方差分析创建了一个满秩矩阵，其中，关键因素有三个水平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3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2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=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0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0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0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   1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   1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1  -1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1  -1}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1357200" y="1213920"/>
            <a:ext cx="6934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2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由输入矩阵创建一定形状的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APE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trix&lt;,nrow&lt;,ncol&lt;,pad-valu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br>
              <a:rPr sz="2000"/>
            </a:b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row, nc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d-val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随意的，但一般情况下要给他们赋值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a=shape(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a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row, nco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d-val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全被赋值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a=shape(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a=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ad-val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未赋值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HAP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循环并用值填充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/>
          </p:nvPr>
        </p:nvSpPr>
        <p:spPr>
          <a:xfrm>
            <a:off x="1356840" y="1356840"/>
            <a:ext cx="73105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用指数算符产生向量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指数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: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方便地产生向量。如果步长不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可以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24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用指数算符产生向量。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0" name="Object 2"/>
          <p:cNvGraphicFramePr/>
          <p:nvPr/>
        </p:nvGraphicFramePr>
        <p:xfrm>
          <a:off x="1500120" y="3929040"/>
          <a:ext cx="6172200" cy="185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929040"/>
                    <a:ext cx="617220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矩阵表达式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13920" y="1856880"/>
            <a:ext cx="6620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矩阵表达式由一系列名字、算符和函数构成。它的作用是完成计算，判断条件和巧妙处理数值。表达式可以出现在赋值语句的任何一边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算符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表达式中使用的算符可以分为三种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前缀算符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缀算符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后缀算符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SAS/IML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软件特点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142640" y="1785960"/>
            <a:ext cx="66294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可以轻易地进行高效编程和使用一系列子程序。因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一个模块，所以，可以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和外部文件，也可以对一个已有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进行编辑或者创建一个新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是一种编程语言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对矩阵作运算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有强大的算符功能，有许多函数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将算符应用到整个矩阵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是交互式的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是动态的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可以处理数据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可以作图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算符优先级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5" name="Object 2"/>
          <p:cNvGraphicFramePr/>
          <p:nvPr/>
        </p:nvGraphicFramePr>
        <p:xfrm>
          <a:off x="1609560" y="2428920"/>
          <a:ext cx="4605480" cy="34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2428920"/>
                    <a:ext cx="46054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1600200" y="17521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复合表达式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=x+y+z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=x+y*z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=(-x)#(y-z)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=x+y*z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=x/y/z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523520" y="17521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二目元素算符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二目元素算符是对两个矩阵的元素分别进行操作。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9" name="Object 2"/>
          <p:cNvGraphicFramePr/>
          <p:nvPr/>
        </p:nvGraphicFramePr>
        <p:xfrm>
          <a:off x="1928880" y="3286080"/>
          <a:ext cx="5072040" cy="300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3286080"/>
                    <a:ext cx="507204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下标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下标的一般形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nd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n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是一个矩阵名，也可以是表达式或矩阵本身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矩阵的行数，可以是表达式，也可以是标量或向量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矩阵的列数，可以是表达式，也可以是标量或向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下标的用途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一个元素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一整行或列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子阵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简化矩阵的一行或列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5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一个元素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 coffee[rowname=names]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21=coffee[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coffee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行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列元素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2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以寻找超出行范围的元素，这时得到的是以行为顺序第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元素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6=coffee[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6;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6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一整行或列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im=coffee[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]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行元素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jim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iday=coffee[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列元素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friday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1356840" y="14284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7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矩阵的子阵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bmat1=coffee[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,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]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第一个向量｛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 3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｝选择行，第二个向量｛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2 3 5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｝选择列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submat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可以事先创建一个向量并以他们的名字作为输入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s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事先创建向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rows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s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事先创建向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cols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bmat1=coffee[rows,cols]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以事先创建向量的名字作输入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bmat2=coffee[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选择矩阵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coffee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至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行，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至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列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submat2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.28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下标位置进行相应元素的赋值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ffee[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]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将矩阵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coffee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的第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1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处的元素值改为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4*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ffee[,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]={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;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将矩阵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coffee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的第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5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元素全部设为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0*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={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-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-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}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t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=loc(t&lt;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i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下标也可以包含运算结果为行数或列数的表达式。例如表达式可以为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[loc(t&lt;0)]=0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5" name="Text Box 5"/>
          <p:cNvSpPr/>
          <p:nvPr/>
        </p:nvSpPr>
        <p:spPr>
          <a:xfrm>
            <a:off x="4952880" y="333540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[i]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 t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1676520" y="1142640"/>
            <a:ext cx="7238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简化下标算符</a:t>
            </a:r>
            <a:r>
              <a:rPr b="0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化下标算符列表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7" name="Object 2"/>
          <p:cNvGraphicFramePr/>
          <p:nvPr/>
        </p:nvGraphicFramePr>
        <p:xfrm>
          <a:off x="2214720" y="2500200"/>
          <a:ext cx="4572000" cy="30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500200"/>
                    <a:ext cx="457200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1142640" y="92880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8.29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简化下标算符的应用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={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{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,+];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	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第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求和 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+,{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];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	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第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求和 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+,&lt;&gt;];    </a:t>
            </a:r>
            <a:r>
              <a:rPr b="0" lang="pt-BR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和的最大值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pt-BR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&lt;&gt;, +];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最大值和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1142640" y="92880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, &gt;&lt;][+,];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最小值和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, &lt;&gt;][+,];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最大值和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, &lt;:&gt;];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最大值位置指标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, &gt;:&lt;];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行最小值位置指标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&lt;:&gt;,];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最大值位置指标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&gt;:&lt;,];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列最小值位置指标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=A[:];       </a:t>
            </a:r>
            <a:r>
              <a:rPr b="0" lang="pt-BR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所有元素均值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pt-BR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一个简单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IML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交互程序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405080" y="141408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求平方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激活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IML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lib=ResDat;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指定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ResDa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缺省的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逻辑库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approx(x);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模块开始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初始化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y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(w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e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循环开始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, le-3=0.001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y;            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#(z+x/z);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估计开方根，牛顿迭代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=abs(y-z);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计算估计值之间的差异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循环结束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(y);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返回近似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ish approx;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模块结束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=approx(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);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调用函数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PPROX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t; 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打印矩阵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6" name="Text Box 2"/>
          <p:cNvSpPr/>
          <p:nvPr/>
        </p:nvSpPr>
        <p:spPr>
          <a:xfrm>
            <a:off x="5364000" y="4941720"/>
            <a:ext cx="30956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imes New Roman"/>
              </a:rPr>
              <a:t>               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1.7320508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2.236068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2.645751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6732720" y="4581360"/>
            <a:ext cx="180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UTPU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窗口结果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利用行列标展现矩阵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356840" y="17143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UTONAM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NAME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NAME=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TTRI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来显示相关矩阵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3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自动命名选项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ffee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={Jenny, Linda, Jim, Samuel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 [rowname=names]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utonam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ffe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4"/>
          <p:cNvSpPr/>
          <p:nvPr/>
        </p:nvSpPr>
        <p:spPr>
          <a:xfrm>
            <a:off x="1403280" y="1268280"/>
            <a:ext cx="669600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COFFE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JENNY          4         2         2         3 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LINDA          3         3         1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JIM                2         1         0         2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AMUEL      5         4         4         3         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COFFE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COL1         COL2         COL3         COL4         COL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ROW1            4            2            2            3    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ROW2            3            3            1            2   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ROW3            2            1            0            2            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ROW4            5            4            4            3            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缺失值运算举例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428840" y="1642680"/>
            <a:ext cx="54864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3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缺失值元素参加运算的结果仍是缺失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{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X+Y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矩阵相加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=X#Y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元素相乘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=X[+,]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列求和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IM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编程语句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428840" y="15714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IF-THEN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语句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组语句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循环语句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转移语句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创建和运行模块语句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停止执行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13880" y="71424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IF-THEN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4300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ment1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ment2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34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max(a)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n p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x=y the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abs(y)=z then w=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等价表达式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只有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应元素都不相等时才执行。如果想要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应元素有一个不相等时为真，要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80" name="Object 2"/>
          <p:cNvGraphicFramePr/>
          <p:nvPr/>
        </p:nvGraphicFramePr>
        <p:xfrm>
          <a:off x="1619280" y="5086440"/>
          <a:ext cx="4095720" cy="52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5086440"/>
                    <a:ext cx="40957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1676160" y="1980720"/>
            <a:ext cx="6019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的表达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any(a^=b) 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me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对应元素有一个不相等时值为真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DO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组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组的两个主要用法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一组语句设成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，应用时作为一个单位执行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将条件语句中的一组语句设成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组语句格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ditional statement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3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例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x&lt;y the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1=abs(x+y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2=abs(x-y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5" name="Text Box 4"/>
          <p:cNvSpPr/>
          <p:nvPr/>
        </p:nvSpPr>
        <p:spPr>
          <a:xfrm>
            <a:off x="5105520" y="4597560"/>
            <a:ext cx="26668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1=abs(x-y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2=abs(x+y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循环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785880" y="1500120"/>
            <a:ext cx="7286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宋体"/>
              </a:rPr>
              <a:t>DO DATA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格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3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读入外部数据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file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code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读入外部文件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 data;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开始读循环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x;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读一个数据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x//xx;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连接数据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将外部文件中的数据导入到一个向量。一次读一个数据值到虚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X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中，再用竖直连接算符（／／）把数值导到向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中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4" descr=""/>
          <p:cNvPicPr/>
          <p:nvPr/>
        </p:nvPicPr>
        <p:blipFill>
          <a:blip r:embed="rId1"/>
          <a:srcRect l="36071" t="13572" r="44107" b="71433"/>
          <a:stretch/>
        </p:blipFill>
        <p:spPr>
          <a:xfrm>
            <a:off x="1928880" y="1500120"/>
            <a:ext cx="5602320" cy="31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1600200" y="1980720"/>
            <a:ext cx="6324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黑体"/>
              </a:rPr>
              <a:t>循环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宋体"/>
              </a:rPr>
              <a:t>DO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=star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op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ncrement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2286000" y="990720"/>
            <a:ext cx="518148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牛顿迭代法求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(z)=0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一个实根的方法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牛顿迭代法公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89" name="Object 2"/>
          <p:cNvGraphicFramePr/>
          <p:nvPr/>
        </p:nvGraphicFramePr>
        <p:xfrm>
          <a:off x="2378160" y="2057400"/>
          <a:ext cx="278604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8160" y="2057400"/>
                    <a:ext cx="27860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2362320" y="3352680"/>
            <a:ext cx="36576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上例中函数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Object 3"/>
              <p:cNvSpPr txBox="1"/>
              <p:nvPr/>
            </p:nvSpPr>
            <p:spPr>
              <a:xfrm>
                <a:off x="2290680" y="3929040"/>
                <a:ext cx="2357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宋体"/>
              </a:rPr>
              <a:t>DO While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格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(count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u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=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1600200" y="16761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宋体"/>
              </a:rPr>
              <a:t>DO UNTIL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格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4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(count5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cou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=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转移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625788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O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N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都可以使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M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立刻转移到标记语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都被限制在同一个模块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中，如下面两段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4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程序段一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;    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x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n goto negative;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sqrt(x);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y;  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gative:   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Sorry, X is negative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程序段二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en link negativ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sqrt(x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y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gative: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Using Abs. value of negative X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abs(x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1600200" y="1752120"/>
            <a:ext cx="55627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4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en prin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Sorry, X is negative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sqrt(x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y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停止执行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AUS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停止执行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QUI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也是一个停止语句，不过它要求退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环境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PAUSE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message &gt;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g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执行语句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5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U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use *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To suppress the display of any messages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use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Please enter an assignment for X, then enter RESUME;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sg 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Please enter an assignment for X, then enter RESUME;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use msg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/>
          </p:nvPr>
        </p:nvSpPr>
        <p:spPr>
          <a:xfrm>
            <a:off x="1071720" y="17571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STOP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ABORT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SAS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操作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333080" y="1695600"/>
            <a:ext cx="723924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打开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宋体"/>
              </a:rPr>
              <a:t>USE</a:t>
            </a:r>
            <a:r>
              <a:rPr b="0" lang="zh-CN" sz="18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仅用于打开和读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US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-data-set &lt; </a:t>
            </a:r>
            <a:r>
              <a:rPr b="1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operand  &lt; </a:t>
            </a:r>
            <a:r>
              <a:rPr b="1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(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pression</a:t>
            </a:r>
            <a:r>
              <a:rPr b="1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1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宋体"/>
              </a:rPr>
              <a:t>EDIT</a:t>
            </a:r>
            <a:r>
              <a:rPr b="0" lang="zh-CN" sz="18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DT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读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D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 &l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erand  &l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宋体"/>
              </a:rPr>
              <a:t>CREATE</a:t>
            </a:r>
            <a:r>
              <a:rPr b="0" lang="zh-CN" sz="18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创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 &l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erand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rom-nam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        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[COLNAME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-nam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NAME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-name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356840" y="928440"/>
            <a:ext cx="4643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编辑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142640" y="1785600"/>
            <a:ext cx="7162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D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对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进行编辑，以及更新变量值，标记要删除的观测，删除已标记观测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储存修改后的结果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D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perand 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已存在的数据集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变量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为真或假的表达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1499760" y="78552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更新观测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更新观测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dit 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all where(name={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Joh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) into 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st point 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g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st poin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56760" y="9284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理解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IM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言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定义矩阵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对矩阵作运算，这里矩阵的定义同矩阵代数中矩阵的定义一样，是一个两维的（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）数组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/I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可以定义数值矩阵也可以定义字符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7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特殊矩阵定义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称作行向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×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称作列向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×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称作标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723888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删除观测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range  &l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ng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观测范围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为真或假的表达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5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语句正确例句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905" name="Group 1044"/>
          <p:cNvGrpSpPr/>
          <p:nvPr/>
        </p:nvGrpSpPr>
        <p:grpSpPr>
          <a:xfrm>
            <a:off x="1600200" y="4267080"/>
            <a:ext cx="5943240" cy="1652400"/>
            <a:chOff x="1600200" y="4267080"/>
            <a:chExt cx="5943240" cy="1652400"/>
          </a:xfrm>
        </p:grpSpPr>
        <p:grpSp>
          <p:nvGrpSpPr>
            <p:cNvPr id="906" name="Group 1042"/>
            <p:cNvGrpSpPr/>
            <p:nvPr/>
          </p:nvGrpSpPr>
          <p:grpSpPr>
            <a:xfrm>
              <a:off x="1607760" y="4271760"/>
              <a:ext cx="5927400" cy="1643040"/>
              <a:chOff x="1607760" y="4271760"/>
              <a:chExt cx="5927400" cy="1643040"/>
            </a:xfrm>
          </p:grpSpPr>
          <p:grpSp>
            <p:nvGrpSpPr>
              <p:cNvPr id="907" name="Group 1031"/>
              <p:cNvGrpSpPr/>
              <p:nvPr/>
            </p:nvGrpSpPr>
            <p:grpSpPr>
              <a:xfrm>
                <a:off x="1607760" y="4271760"/>
                <a:ext cx="2892960" cy="547560"/>
                <a:chOff x="1607760" y="4271760"/>
                <a:chExt cx="2892960" cy="547560"/>
              </a:xfrm>
            </p:grpSpPr>
            <p:sp>
              <p:nvSpPr>
                <p:cNvPr id="908" name="Rectangle 1024"/>
                <p:cNvSpPr/>
                <p:nvPr/>
              </p:nvSpPr>
              <p:spPr>
                <a:xfrm>
                  <a:off x="1718640" y="4271760"/>
                  <a:ext cx="267120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lete;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1030"/>
                <p:cNvSpPr/>
                <p:nvPr/>
              </p:nvSpPr>
              <p:spPr>
                <a:xfrm>
                  <a:off x="1607760" y="4271760"/>
                  <a:ext cx="289296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Group 1033"/>
              <p:cNvGrpSpPr/>
              <p:nvPr/>
            </p:nvGrpSpPr>
            <p:grpSpPr>
              <a:xfrm>
                <a:off x="4501080" y="4271760"/>
                <a:ext cx="3034080" cy="547560"/>
                <a:chOff x="4501080" y="4271760"/>
                <a:chExt cx="3034080" cy="547560"/>
              </a:xfrm>
            </p:grpSpPr>
            <p:sp>
              <p:nvSpPr>
                <p:cNvPr id="911" name="Rectangle 1025"/>
                <p:cNvSpPr/>
                <p:nvPr/>
              </p:nvSpPr>
              <p:spPr>
                <a:xfrm>
                  <a:off x="4611240" y="4271760"/>
                  <a:ext cx="281268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</a:rPr>
                    <a:t>删除当前观测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1032"/>
                <p:cNvSpPr/>
                <p:nvPr/>
              </p:nvSpPr>
              <p:spPr>
                <a:xfrm>
                  <a:off x="4501080" y="4271760"/>
                  <a:ext cx="303408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Group 1035"/>
              <p:cNvGrpSpPr/>
              <p:nvPr/>
            </p:nvGrpSpPr>
            <p:grpSpPr>
              <a:xfrm>
                <a:off x="1607760" y="4819320"/>
                <a:ext cx="2892960" cy="547920"/>
                <a:chOff x="1607760" y="4819320"/>
                <a:chExt cx="2892960" cy="547920"/>
              </a:xfrm>
            </p:grpSpPr>
            <p:sp>
              <p:nvSpPr>
                <p:cNvPr id="914" name="Rectangle 1026"/>
                <p:cNvSpPr/>
                <p:nvPr/>
              </p:nvSpPr>
              <p:spPr>
                <a:xfrm>
                  <a:off x="1718640" y="4819320"/>
                  <a:ext cx="267120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lete point 10;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1034"/>
                <p:cNvSpPr/>
                <p:nvPr/>
              </p:nvSpPr>
              <p:spPr>
                <a:xfrm>
                  <a:off x="1607760" y="4819320"/>
                  <a:ext cx="2892960" cy="54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Group 1037"/>
              <p:cNvGrpSpPr/>
              <p:nvPr/>
            </p:nvGrpSpPr>
            <p:grpSpPr>
              <a:xfrm>
                <a:off x="4501080" y="4819320"/>
                <a:ext cx="3034080" cy="547920"/>
                <a:chOff x="4501080" y="4819320"/>
                <a:chExt cx="3034080" cy="547920"/>
              </a:xfrm>
            </p:grpSpPr>
            <p:sp>
              <p:nvSpPr>
                <p:cNvPr id="917" name="Rectangle 1027"/>
                <p:cNvSpPr/>
                <p:nvPr/>
              </p:nvSpPr>
              <p:spPr>
                <a:xfrm>
                  <a:off x="4611240" y="4819320"/>
                  <a:ext cx="2812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</a:rPr>
                    <a:t>删除第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10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</a:rPr>
                    <a:t>个观测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1036"/>
                <p:cNvSpPr/>
                <p:nvPr/>
              </p:nvSpPr>
              <p:spPr>
                <a:xfrm>
                  <a:off x="4501080" y="4819320"/>
                  <a:ext cx="3034080" cy="54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Group 1039"/>
              <p:cNvGrpSpPr/>
              <p:nvPr/>
            </p:nvGrpSpPr>
            <p:grpSpPr>
              <a:xfrm>
                <a:off x="1607760" y="5367240"/>
                <a:ext cx="2892960" cy="547560"/>
                <a:chOff x="1607760" y="5367240"/>
                <a:chExt cx="2892960" cy="547560"/>
              </a:xfrm>
            </p:grpSpPr>
            <p:sp>
              <p:nvSpPr>
                <p:cNvPr id="920" name="Rectangle 1028"/>
                <p:cNvSpPr/>
                <p:nvPr/>
              </p:nvSpPr>
              <p:spPr>
                <a:xfrm>
                  <a:off x="1718640" y="5367240"/>
                  <a:ext cx="267120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lete all where (age&gt;12);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1038"/>
                <p:cNvSpPr/>
                <p:nvPr/>
              </p:nvSpPr>
              <p:spPr>
                <a:xfrm>
                  <a:off x="1607760" y="5367240"/>
                  <a:ext cx="289296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Group 1041"/>
              <p:cNvGrpSpPr/>
              <p:nvPr/>
            </p:nvGrpSpPr>
            <p:grpSpPr>
              <a:xfrm>
                <a:off x="4501080" y="5367240"/>
                <a:ext cx="3034080" cy="547560"/>
                <a:chOff x="4501080" y="5367240"/>
                <a:chExt cx="3034080" cy="547560"/>
              </a:xfrm>
            </p:grpSpPr>
            <p:sp>
              <p:nvSpPr>
                <p:cNvPr id="923" name="Rectangle 1029"/>
                <p:cNvSpPr/>
                <p:nvPr/>
              </p:nvSpPr>
              <p:spPr>
                <a:xfrm>
                  <a:off x="4611240" y="5367240"/>
                  <a:ext cx="281268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</a:rPr>
                    <a:t>删除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AGE&gt;12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宋体"/>
                    </a:rPr>
                    <a:t>的所有观测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1040"/>
                <p:cNvSpPr/>
                <p:nvPr/>
              </p:nvSpPr>
              <p:spPr>
                <a:xfrm>
                  <a:off x="4501080" y="5367240"/>
                  <a:ext cx="303408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5" name="Rectangle 1043"/>
            <p:cNvSpPr/>
            <p:nvPr/>
          </p:nvSpPr>
          <p:spPr>
            <a:xfrm>
              <a:off x="1600200" y="4267080"/>
              <a:ext cx="5943240" cy="1652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1523880" y="137160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一个文件的许多观测被删除后，可以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R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对观测进行重新排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dit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all where(name={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oh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) into 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lete point 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 all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rg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 all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9680" y="856800"/>
            <a:ext cx="4643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排序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356840" y="18568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直接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据集排序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rt class out=sorted by descending nam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name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rt class by nam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创建矩阵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000080" y="17856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读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并创建矩阵。注意，要读的数据集必须已经打开。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D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以打开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如果打开了多个数据集，可以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指向需要的数据集，使得它成为一个当前输入数据集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range 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perand 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     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an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观测范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变量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为正确或错误的表达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要创建矩阵的名称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1600200" y="12193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从句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lib=ResDa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st all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s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 {age height weight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nam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前面两个语句也可写成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class var{age height weight}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从句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 _num_  into 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23924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从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 _num_ into female where(se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femal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{name} into j where(name=: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J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j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创建一个包含姓名以子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的学生信息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{name} into al where(name?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Al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al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创建一个包含姓名含有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串的学生信息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由矩阵创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071360" y="192852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从一个矩阵创建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，矩阵的列变成数据集的变量，矩阵的行变成数据集的观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因而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×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变成一个含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变量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观测的数据集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打开一个新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作为输入和输出对象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把数据写到数据集后面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带有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FROM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的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CREATE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trix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       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COLNAME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-na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OWNAME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ow-nam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要创建的数据集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tri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包含数据的矩阵名；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lumn-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数据集中的变量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ow-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数据集中增加一个包含行标题的变量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1676160" y="1599840"/>
            <a:ext cx="647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创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ll var {age height weight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twt=height/weigh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name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ratio from htwt[colnam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htw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pp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rom htw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dataset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content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ratio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4"/>
          <p:cNvSpPr/>
          <p:nvPr/>
        </p:nvSpPr>
        <p:spPr>
          <a:xfrm>
            <a:off x="1619280" y="1214280"/>
            <a:ext cx="6624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SYMBOL   ROWS   COLS TYPE   SIZE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------ ------ ------ ---- -----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AGE            19      1 num       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HEIGHT     19      1 num       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HTWT        19      1 num       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WEIGHT    19      1 num       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umber of symbols = 6  (includes those without values)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LIBNAME  MEMNAME                          OPEN MODE   STATUS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-------- -------------------------------- ---------   -------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WORK     CLASS                            Input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WORK     RATIO                            Update      Current Input/Output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DATASET : WORK.RATIO.DATA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VARIABLE                          TYPE  SIZE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--------------------------------  ----  ---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htwt                              num      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umber of Variables   : 1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umber of Observations: 19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矩阵名字与标识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600200" y="22856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名字是一个合法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名字，不能超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节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标识是由它的值表示的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名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,  XX,  MATRIX1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标识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, 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I, {1 2 2 8 8 }, {3, 3, 6,6}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带有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VAR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从句的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CREATE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句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创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据集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ratio2 var{name htwt}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pp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content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ratio2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由矩阵标识创建矩阵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619280" y="22093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创建标量矩阵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标量矩阵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i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flib=ResDat;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IML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1T03:04:42Z</dcterms:modified>
  <cp:revision>614</cp:revision>
  <dc:subject/>
  <dc:title>第1章 SAS软件入门</dc:title>
</cp:coreProperties>
</file>