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move the slide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8BAE-5AA5-435C-9BFD-D436DA04E9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F52F-7D71-45D2-9A54-1A6FBD5924A4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F4A-D3F3-49A1-8AEF-C83DE911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752-F0AA-49FD-9FE5-C7262E5C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C1B18-9B4F-420A-BB77-89FEA4D2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9FD2E-46B9-4EA0-A4D8-35E0EFDA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ECEE2-6603-4B94-B11E-70D03B98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BA438-1785-400F-93F3-DA96E503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8E61F-7AD1-49C2-9250-DB8C7078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E0343-FD8B-4477-BE52-88592BA6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5707A-25FE-479A-8EC6-20A7A4C1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1A70F-FF16-4D57-8B94-8D00BE28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ECC2D-E6F4-44BC-8EF6-B083BB4C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50610-FAB1-4449-B7B3-A3007533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904-9988-4BBF-A970-5919F442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DAA31-BFF6-446A-BC98-2B5F4123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C279D-7C7B-43D4-A810-6D7DD462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6A862-CB0D-4AC0-B47E-B16301B5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B3944-090B-4BFD-AEA6-9BD8868B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8CB93-832C-4DCD-8B70-80BA1733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83BE1-A946-4DBF-8D1B-CBCB67DE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D3777-0BCE-4C65-A73E-A5B2FC3C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60359-1285-45AE-8D29-6C69F75A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27ED0-BAEC-4527-8DD1-32FC6486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EDEE4-9AED-440F-BD26-7AD647D8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26B-FB18-40CE-B8C3-90D9EDE8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0E19B-BF66-46BE-AA96-EA2717D5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485B5-B2DB-424B-ABB8-D348EA0D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C341F-4D5D-4280-8FE3-F5D70374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801C6-7514-496B-87D6-42881550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D50D9-AFD5-4A24-BF27-387FD068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113B4-4BA1-4294-A2AC-D83DA5CE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91163-9AEA-4BF9-B9C1-173272F5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1BFDD-4798-4C47-84BE-C1FB1884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A28D4-B6E3-4922-A513-26D65BD0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7250E-B656-4BB0-AAB2-D99AE558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4910-133A-4DFA-A093-98C9C38A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9D1D6-F61D-4D06-8E1F-9E7C4DDF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86C2A-B118-4565-8646-FF004B1D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04565-7D95-4E82-A8A5-79832294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30576-F5AF-424F-BE4A-5EDBE916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4DD67-5B19-4466-B932-2F903397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14466-F597-4B8E-AECB-CA6BA412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74DD9-8D58-4723-835B-8A415077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0D139-E7A6-48A8-8F39-FF5B40E6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6A995-72DA-4D79-9ABB-DBEEEA5A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E94A8-E13C-477C-B45C-DA817346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74C4-2677-4B50-B167-DFFAD66C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F86F6-B78B-4204-BD1D-433392F8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D72CB-37A3-434E-BF8C-CE6477B5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7A980-EDB5-409D-AABA-81D1096D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D9C8D-E402-4E5A-83C7-11D30D4E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0416A-CFF3-43B1-A4D6-1FF65E38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EA398-158B-4B86-9ADD-C98A7005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0918F-D944-40CD-8464-F383BAEC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E451E-5EBB-47BA-984F-B3C20A49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CB2BF-C7ED-45B5-9663-D2F539C1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67295C-E575-4EC9-9210-E4A0D8C3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668D-ADB2-436D-AC87-367479D5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7191F-A7F5-4C5E-B3FB-7496ECD7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C330A-46AA-4EBD-A83D-15D7454C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6F100-C948-4BD2-BC32-C9D780F3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F343A-4772-49D5-9874-CDB9B75D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ED6F8-3BF1-4103-BC5B-353B12E9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BBEEC-5141-4E70-98D9-0E785CBD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7A9BD-BD91-43A5-85D8-FE39F6CB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59E21-1BCF-49C7-A8A7-5B50F3C5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3FB2B-C549-4B23-90C8-87EA5EEE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13F068-1227-41F5-9614-08D9FD55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538E-7735-4F83-B4C4-E5B5D0B6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CCAA1F-7CCF-49B9-B3AE-6A8A2CA2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59E64-FBFC-4618-B333-98964F87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856CD-A877-456D-98EB-C5412D04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FB577-CDB6-4F8A-8D04-0B7EEDE7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404039-E697-45BE-8B51-384A883E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C412B-87BD-4C7D-B420-CE820016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DE26C2-B4FC-4164-878B-C1AB5DF8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9803A-C092-4E94-A58D-57449603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B7804-FF07-4182-B111-5BFE0B41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F2CF-2E56-4AC4-AA7F-08E7039C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CCAF-E8AC-4412-BE7A-372A21E8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2B4F-74BE-45CC-A16E-37FDC63A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A0E-06AC-41E1-8471-76564B28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9435-CAE8-481F-8B8F-79ED8101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C742-60C1-4CAB-882C-24CF2BDC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AD2D-4919-4BDA-AA16-DF2B5105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AD19-2112-466C-82DC-E3762575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61D9-7233-4F73-B4B7-D131BFC8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2F8B9-BEAC-4E26-A8BA-2B60014B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05AD6-7B3D-4E58-9DC2-DC75109E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01771-9364-4EF9-902D-3DB49F98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97A0F-C1CB-42C1-8254-1DEA7971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CE7FD-66CD-450F-B21A-5905F08C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011-A25D-4283-A1A0-214C457D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5984A-A444-4EFF-8930-4D0D2DAA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3338C-FF2E-4080-AECC-56E9976F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2444-062E-46A6-87C4-3E34B12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D7CF6-D229-4F91-BA98-9298959A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14C3B-BFDE-43B6-AC40-B44F4DCE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70A0C-C809-4942-878E-D22C8A62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D1D82-50D1-4C98-9F7B-5826B5B8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C755E-33A2-4605-AB04-A209733B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C931C-C05E-4024-B2E4-DC8E7535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C4B16-166A-4A0B-AEEB-85D70B1D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054-4DDD-4D40-9B16-CA9DC21D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C2B80-EAB4-467A-A352-24923C44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D70F5-BC61-4F6E-9F06-2A8B0E60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E7A83-17AB-4BE8-9AAE-736BA95B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D06EB-7CA6-440E-8553-F9E0815D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BDE2F-FEF5-4B89-9BEB-4AED4442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D5C9E-929E-4FAC-A2A1-95EC8457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13C1A-0DDE-406F-AC67-A99BCB69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9B82A-5581-4B10-B23E-8D4363D5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ED86C-6008-4AE8-A71F-B017A0E2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09A89-6CDF-4EFF-A2BE-E4D42E26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622-9991-41FB-BFFF-7F5A57B7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25062-7612-4428-A05A-B673C2C1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1F783-B93C-4357-B680-136497AC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8EDCC-BA47-466C-AD75-C72ECC4D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F0C10-791E-443A-97A6-D516C552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4A410-3C24-445F-99B3-ECC878FE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31654-DC30-42A7-8AFE-8F4405FE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E0FD6-8C3D-445A-A274-9AABB3AC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5A52E-CCB4-4EA6-BF44-291D1602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16A8D-3459-47AB-9AB5-E6FE5244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D4247-9DF6-4C34-B33D-5D1EC9A6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BE7-2725-4804-ADE1-F96EA219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2AC01-B1F5-479C-A33B-E5F63742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98D5E-6B53-4FB1-A775-B91DE781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A022E-6763-448A-BB62-F0FCEE06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8D55B-BC15-4451-9AF7-22262094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FE386-CD19-494E-B6DE-C1E14669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85641-C821-47F5-9444-7C46BD05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52216-5A98-468A-A594-1955452D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6F195-5733-42D6-B2C3-9842AAB0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FCB2E-9452-4AF0-9480-D364A23D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A6D92-8D6A-4A53-A836-10B2DC82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8E2-A371-4799-8AAC-2F831E59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AF429-BA5B-40C5-B86D-06B8014F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5970B-DCBD-49F8-AA97-478F417A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E7F6C-589F-48CD-A7C7-465486C3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EB680-D206-436B-8BA0-EB2BA4E2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4E8F4-2727-43F4-95F6-FB17C7C2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BC8A3-3C80-4FFA-9BF0-4A793F5E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15E42-47CD-4077-8B86-C36F448F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DDF4E-E3B1-4984-90B1-F8685FED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37B8F-3FD3-4A3D-8E86-7F0934CB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17886-E5D0-494F-8960-DAA3B59D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E47-6463-442B-9FED-2B1E4A1B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4D958-BF5A-41BD-BDAC-12FD1782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40911-A999-4DFB-B62B-64828593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61B9B-9320-41C1-B561-5B2857D8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72638-0E67-4AAD-99EC-F7ABC7B0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CC704-5AC2-46D5-92D8-E81E5922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B1D08-9A64-49BF-98CC-56AB4295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A71FE-F997-4080-90FF-5BD7FF50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3B4A8-59D7-40DA-ADCB-37D37FB5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81447-CD08-46D1-8A2A-D550F422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7EB24-C7C4-4D7E-BB4F-A17E3A7E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C76B-81A5-4380-8E72-2DAFD15C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5AFDC-D397-4998-9FA0-1031C87D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F388B-DBE2-4B37-85E3-898AA91F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B732C-165F-496E-B7A1-65C94262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B4E36-8874-43AE-B791-7BCFFCAF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D41E3-FA31-4729-8439-989294C8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0A086-9F97-4B9C-9B62-F7055571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834BD-144F-4B54-9FEF-26843595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8E4CA-5672-40DB-948E-45CDF983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54B76-6DAA-4701-8313-3610BCAC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B51D3-7A49-4AF5-9C94-F4C9593C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89E3-2231-403A-B1DF-0087115C22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32DB-DB8E-4B83-93CD-E80548AF6F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7D42-A549-4991-B7FD-296524735F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4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97CD-9C37-43E3-A962-72AD53D2E1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C08F-5334-4DD6-90E0-56AF76C87F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37D5-7BBF-4DD4-817B-59E1EECFF9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矩形 9"/>
          <p:cNvSpPr/>
          <p:nvPr/>
        </p:nvSpPr>
        <p:spPr>
          <a:xfrm>
            <a:off x="1357200" y="1785960"/>
            <a:ext cx="6572520" cy="4286160"/>
          </a:xfrm>
          <a:prstGeom prst="rect">
            <a:avLst/>
          </a:prstGeom>
          <a:solidFill>
            <a:srgbClr val="ffffff"/>
          </a:solidFill>
          <a:ln w="0">
            <a:solidFill>
              <a:srgbClr val="3481a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9"/>
          <p:cNvSpPr/>
          <p:nvPr/>
        </p:nvSpPr>
        <p:spPr>
          <a:xfrm>
            <a:off x="1285920" y="1857240"/>
            <a:ext cx="6357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400E-09EC-4C0C-BF26-507A48D729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5181-68C7-4F76-A2FA-1A4DFD81EA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DBE8-EECA-49AE-9786-04D3FADA8C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EC0A-4DA7-42FE-8D59-AEADDE647D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2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DB61-6A77-414C-BE3B-56C9AEF800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0E24-0105-4EFE-9C9E-F21984D15D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14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SQL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过程编程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4"/>
          <p:cNvSpPr/>
          <p:nvPr/>
        </p:nvSpPr>
        <p:spPr>
          <a:xfrm>
            <a:off x="1403280" y="1559880"/>
            <a:ext cx="661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ESCREIB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可以查看每个表词典是如何定义的，如：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scri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ctionary.table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类似的，可以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DESCRIBE VIEW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语句查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ASHEL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视图是如何构造的。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scri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shelp.vtabl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1763640" y="3933720"/>
          <a:ext cx="5616720" cy="198144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9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165  proc sql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166     describe view sashelp.vtable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SQL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视图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ASHELP.VTABLE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定义为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elect *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from DICTIONARY.TABLES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167  quit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56760" y="856800"/>
            <a:ext cx="46436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070c0"/>
                </a:solidFill>
                <a:latin typeface="宋体"/>
                <a:ea typeface="宋体"/>
              </a:rPr>
              <a:t>DICTIONARY.TABLES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1968480" y="1794600"/>
            <a:ext cx="5175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4.3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检索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RESDA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逻辑库下所有永久性表和视图的信息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outob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黑体"/>
              </a:rPr>
              <a:t>'All Tables and Views in the RESDAT Library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libname, memname, memtype, nob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dictionary.table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libnam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黑体"/>
              </a:rPr>
              <a:t>'RESDA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1571760" y="3929040"/>
          <a:ext cx="6337080" cy="228600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ll Tables and Views in the RESDAT Library 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ibrary                                  Member        Number of Physica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ame       Member Name           Type            Observation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--------------------------------------------------------------------------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    BANKIR                DATA               10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    BCHMKIR              DATA              8048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    BDID                       DATA               1480   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070c0"/>
                </a:solidFill>
                <a:latin typeface="宋体"/>
                <a:ea typeface="宋体"/>
              </a:rPr>
              <a:t>DICTIONARY.COLUMNS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9" name="Rectangle 4"/>
          <p:cNvSpPr/>
          <p:nvPr/>
        </p:nvSpPr>
        <p:spPr>
          <a:xfrm>
            <a:off x="1565280" y="1924920"/>
            <a:ext cx="5181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4.4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找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RESDA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逻辑库下所有含有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Stkc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的列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   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outob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黑体"/>
              </a:rPr>
              <a:t>'All Tables that Contain the Stkcd Colum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libname, memname,nam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dictionary.column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nam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黑体"/>
              </a:rPr>
              <a:t>'Stkcd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libnam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黑体"/>
              </a:rPr>
              <a:t>'RESDA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   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1643040" y="4000680"/>
          <a:ext cx="5329440" cy="2011320"/>
        </p:xfrm>
        <a:graphic>
          <a:graphicData uri="http://schemas.openxmlformats.org/drawingml/2006/table">
            <a:tbl>
              <a:tblPr/>
              <a:tblGrid>
                <a:gridCol w="532944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ll Tables that Contain the Stkcd Column 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ame      Member Name                  Column 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da-DK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--------------------------------------------------------------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da-DK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    DIST                              Stkcd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da-DK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    DRET                             Stkcd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da-DK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    HALT                             Stkcd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SQL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中使用宏工具</a:t>
            </a:r>
            <a:r>
              <a:rPr b="1" lang="zh-TW" sz="2400" spc="-1" strike="noStrike">
                <a:solidFill>
                  <a:srgbClr val="0070c0"/>
                </a:solidFill>
                <a:latin typeface="Times New Roman"/>
                <a:ea typeface="新細明體"/>
              </a:rPr>
              <a:t> 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宏工具是一个很强大的编程工具，使用宏可以避免大量重复工作，改善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QL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的性能和用途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SQL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中创建宏变量</a:t>
            </a:r>
            <a:r>
              <a:rPr b="1" lang="zh-TW" sz="2400" spc="-1" strike="noStrike">
                <a:solidFill>
                  <a:srgbClr val="0070c0"/>
                </a:solidFill>
                <a:latin typeface="Times New Roman"/>
                <a:ea typeface="新細明體"/>
              </a:rPr>
              <a:t> 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402920" y="22046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宏工具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:macro-variab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可以储存查询结果。该结果可以通过宏变量被其它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查询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引用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如果一个查询结果中有多个观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则该宏变量只包含第一个观测的值。如果这个查询结果中没有观测，则不会创建宏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自动宏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QLOB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包含了查询所产生的观测数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 &lt;DISTINCT&gt; object-item &lt; ...object-item&gt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	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	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INTO macro-variable-specification &lt; ... macro-variable-specification&gt;&gt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	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OM from-li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由查询结果的第一个观测创建宏变量</a:t>
            </a:r>
            <a:r>
              <a:rPr b="1" lang="zh-TW" sz="2800" spc="-1" strike="noStrike">
                <a:solidFill>
                  <a:srgbClr val="0070c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1116000" y="2259360"/>
            <a:ext cx="6840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若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NT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子句中设定一个宏变量，则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PROC SQ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会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中相应列的第一个观测值赋给该宏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4.5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将最新股票信息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sDat.lstkinfo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中第一个观测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tkc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stknm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赋值给宏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tkc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stknm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。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%PU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把宏变量的内容写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日志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cd,lstkn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stkcd,:lstkn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lstkinf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stkcd &amp;lstknm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3786120" y="3786120"/>
          <a:ext cx="5143680" cy="2773440"/>
        </p:xfrm>
        <a:graphic>
          <a:graphicData uri="http://schemas.openxmlformats.org/drawingml/2006/table">
            <a:tbl>
              <a:tblPr/>
              <a:tblGrid>
                <a:gridCol w="5143680"/>
              </a:tblGrid>
              <a:tr h="27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39  proc sql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40  select stkcd,lstkn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41  into :stkcd,:lstkn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42  from resdat.lstkinfo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43  quit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ROCEDURE SQL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44  %put &amp;stkcd &amp;lstknm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00001 S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深发展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5840" y="785520"/>
            <a:ext cx="52149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从汇总函数结果中创建宏变量</a:t>
            </a:r>
            <a:r>
              <a:rPr b="1" lang="zh-TW" sz="2800" spc="-1" strike="noStrike">
                <a:solidFill>
                  <a:srgbClr val="0070c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09" name="Rectangle 14"/>
          <p:cNvSpPr/>
          <p:nvPr/>
        </p:nvSpPr>
        <p:spPr>
          <a:xfrm>
            <a:off x="2492640" y="1787400"/>
            <a:ext cx="3968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宏变量的一个比较有用的特性就是可以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标题中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4.6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找出某只股票历年的最高收益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ob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x(yrret)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myrre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yrre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cd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000002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最高年收益为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&amp;myrret.%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cd,date,yrre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yrre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cd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000002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2247840" y="4714920"/>
          <a:ext cx="4753080" cy="1798560"/>
        </p:xfrm>
        <a:graphic>
          <a:graphicData uri="http://schemas.openxmlformats.org/drawingml/2006/table">
            <a:tbl>
              <a:tblPr/>
              <a:tblGrid>
                <a:gridCol w="475308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最高年收益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.340115%  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股票代码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|Sto            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年收益率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|Ye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k Code   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日期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|Date    rly Retur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-----------------------------------------------------------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00002        1992-12-31        1.40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00002        1993-12-31        0.092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00002        1994-12-30       -0.540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56760" y="84600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在宏变量中实现连接</a:t>
            </a:r>
            <a:r>
              <a:rPr b="1" lang="zh-TW" sz="2800" spc="-1" strike="noStrike">
                <a:solidFill>
                  <a:srgbClr val="0070c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12" name="Rectangle 4"/>
          <p:cNvSpPr/>
          <p:nvPr/>
        </p:nvSpPr>
        <p:spPr>
          <a:xfrm>
            <a:off x="1403280" y="2429280"/>
            <a:ext cx="626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可以将一个列的值连接到一个宏变量中。这在建立一列宏变量和常数的时候非常有用。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EPARATED BY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关键词设定一个字符来分隔宏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4.7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nob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选项限制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proc sq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读入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个观测，再将其读入到宏变量中。一般用逗号或空格来分隔宏变量的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ob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cd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stkcds separated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,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lstkinf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%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stkcd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1403280" y="1844640"/>
          <a:ext cx="6481800" cy="365760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97  proc sql inobs=3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98  select stkcd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99  into :stkcds separated by ','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00  from resdat.lstkinfo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WARNING: Only 3 records were read from RESDAT.LSTKINFO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由于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OBS=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选项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01  quit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ROCEDURE SQL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02  %put &amp;stkcds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00001,000002,00000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使用宏创建表</a:t>
            </a:r>
            <a:r>
              <a:rPr b="1" lang="zh-TW" sz="2400" spc="-1" strike="noStrike">
                <a:solidFill>
                  <a:srgbClr val="0070c0"/>
                </a:solidFill>
                <a:latin typeface="Times New Roman"/>
                <a:ea typeface="新細明體"/>
              </a:rPr>
              <a:t> 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357200" y="1500120"/>
            <a:ext cx="662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4.9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用宏计算制定代码和年份的股票交易天数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rday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stkcd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,trdays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u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%macr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rad(stkcd,year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 count(*) into :cou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om ResDat.dre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 stkcd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stkcd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year(date)=&amp;year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sert into trdays(stkcd,trdays) values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&amp;stkcd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&amp;count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%me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rad(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0000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rad(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0000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rad(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00016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rad(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00016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00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lang="en-US" sz="36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5920" y="1642680"/>
            <a:ext cx="6286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建立和调试查询 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优化查询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表词典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(dictionary tables)</a:t>
            </a: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定义以及作用。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如何在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中使用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宏工具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如何使用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传输系统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(ODS)</a:t>
            </a: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来对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6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进行格式化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7580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使用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SQL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来建立和调试查询</a:t>
            </a:r>
            <a:r>
              <a:rPr b="1" lang="zh-TW" sz="2400" spc="-1" strike="noStrike">
                <a:solidFill>
                  <a:srgbClr val="0070c0"/>
                </a:solidFill>
                <a:latin typeface="Times New Roman"/>
                <a:ea typeface="新細明體"/>
              </a:rPr>
              <a:t> 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(OPTIONS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可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对查询进行控制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OBS=, OUTOBS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OOPS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通过限制观测和反复的数量来减少程序运行的时间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XEC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LID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快速检查查询的语法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EEDBACK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展示出由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  *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所选中的列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 STIM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记录和展示查询运行的时间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4"/>
          <p:cNvSpPr/>
          <p:nvPr/>
        </p:nvSpPr>
        <p:spPr>
          <a:xfrm>
            <a:off x="1699560" y="1552680"/>
            <a:ext cx="2990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edbac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yrre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日志信息如下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763640" y="2924280"/>
          <a:ext cx="6161040" cy="2835000"/>
        </p:xfrm>
        <a:graphic>
          <a:graphicData uri="http://schemas.openxmlformats.org/drawingml/2006/table">
            <a:tbl>
              <a:tblPr/>
              <a:tblGrid>
                <a:gridCol w="6161040"/>
              </a:tblGrid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46  proc sql feedback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47  select * from resdat.yrret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Statement transforms to: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elect YRRET.Stkcd, YRRET.Lstknm, YRRET.Date, YRRET.Yrtrds, YRRET.Yrre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from RESDAT.YRRET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48  quit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ROCEDURE SQL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4"/>
          <p:cNvSpPr/>
          <p:nvPr/>
        </p:nvSpPr>
        <p:spPr>
          <a:xfrm>
            <a:off x="2327760" y="935640"/>
            <a:ext cx="393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4.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比较普通查询语句与包含子查询的查询语句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tim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new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.stkcd,b.dret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lstkinfo a,ResDat.dret b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.stkcd=b.stkcd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.stktyp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黑体"/>
              </a:rPr>
              <a:t>'A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1428840" y="2714760"/>
          <a:ext cx="6697440" cy="3749400"/>
        </p:xfrm>
        <a:graphic>
          <a:graphicData uri="http://schemas.openxmlformats.org/drawingml/2006/table">
            <a:tbl>
              <a:tblPr/>
              <a:tblGrid>
                <a:gridCol w="6697440"/>
              </a:tblGrid>
              <a:tr h="37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4   proc sql stimer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QL Statement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5   create table new as select a.stkcd,b.dr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6   from resdat.lstkinfo a,resdat.dret b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7   where a.stkcd=b.stkcd and a.stktype='A'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表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WORK.NEW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创建完成，有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9339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行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QL Statement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4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4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8   quit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ROCEDURE SQL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1926000" y="1204920"/>
            <a:ext cx="4187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ime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re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cd,dret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dret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cd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cd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lstkinfo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ktype=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1619280" y="2855880"/>
          <a:ext cx="5832360" cy="3992760"/>
        </p:xfrm>
        <a:graphic>
          <a:graphicData uri="http://schemas.openxmlformats.org/drawingml/2006/table">
            <a:tbl>
              <a:tblPr/>
              <a:tblGrid>
                <a:gridCol w="5832360"/>
              </a:tblGrid>
              <a:tr h="399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9   proc sql stimer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QL Statement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0  create table new as select stkcd,dr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1  from resdat.dr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2  where stkcd in (select stkcd from resdat.lstkinfo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3                  where stktype='A')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表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WORK.NEW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创建完成，有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9339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行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QL Statement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7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7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4  quit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ROCEDURE SQL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所用时间（总处理时间）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际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PU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时间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5"/>
          <p:cNvSpPr/>
          <p:nvPr/>
        </p:nvSpPr>
        <p:spPr>
          <a:xfrm>
            <a:off x="1071720" y="2060640"/>
            <a:ext cx="65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比较两个查询的运行时间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第一个使用连接查询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用时为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0.0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秒，第二个使用子查询语句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用时为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0.0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秒。一般来说，一个连接会比同等情况的子查询运行起来要快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优化查询</a:t>
            </a:r>
            <a:r>
              <a:rPr b="1" lang="zh-TW" sz="2400" spc="-1" strike="noStrike">
                <a:solidFill>
                  <a:srgbClr val="0070c0"/>
                </a:solidFill>
                <a:latin typeface="Times New Roman"/>
                <a:ea typeface="新細明體"/>
              </a:rPr>
              <a:t> 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190160" y="1428840"/>
            <a:ext cx="72392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优化查询的方法包括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简单索引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ndex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和复杂索引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omposite indexe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算符连接查询结果时，如果事先知道查询结果中没有重复的观测，或者允许结果有重复观测，可以使用关键词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l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来优化查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在创建表和视图时不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RDER 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子句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线内视图代替临时表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连接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join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代替子查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表达式限制结果表的大小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用表词典来访问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SAS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系统信息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071360" y="1571400"/>
            <a:ext cx="7358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表词典（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DICTIONARY table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）是特殊的只读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表。这些表包含所有的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逻辑库、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表、系统选项以及和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 SESSION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有关的外部文件信息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zhushw</cp:lastModifiedBy>
  <dcterms:modified xsi:type="dcterms:W3CDTF">2013-03-04T03:14:24Z</dcterms:modified>
  <cp:revision>695</cp:revision>
  <dc:subject/>
  <dc:title>第1章 SAS软件入门</dc:title>
</cp:coreProperties>
</file>