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686-500A-4EC1-ABC9-3B11F4BDB4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F59B-89BD-46A1-88CF-D9C6B4C27866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1157-6065-45C7-95FE-D50FD582EB04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5CE3-31F5-4BB4-9538-E7CEEC4458BB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7F13-9FBD-483D-AB1C-64CF2BAD696F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1129-E7BF-4EF3-B8EB-5E4196520E52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060-DAD9-4F26-A908-4259DA3CF2E8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E20-04C3-4DDD-8967-36F408A3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9A7-CFBC-42BB-8048-0FF11E99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C9195-41F1-4BE0-90BB-94A3D227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9C8B4-FAE4-4608-9845-3E24A1A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6E1FE-4C45-41DE-B51A-3E91FEDD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42558-ED2D-4ADE-A7A4-F5C118B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13286-219D-439E-B20C-253D5CD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006B0-C808-4970-B4FC-DCDF319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A450A-8E6F-4D79-A210-4B4226A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B8C7-8594-4EDE-95D9-B0C5CC5E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BD73-578A-47CC-9F24-4EAA365A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84983-B15E-4083-BE67-9DBA33B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851-2246-42FE-B10A-4A32257E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7074F-8360-44BF-8552-E9347659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56E2C-7BA6-4246-BC49-705B6A6A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57B9E-AF45-469C-9720-C06D9B75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415E-7E7B-4DCF-8F7D-19FC30E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AD318-5F96-4CE4-B9FA-B6425F6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B84F5-9F9F-41F6-AF38-0D22802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EFF6B-559E-4B36-8905-BCFB604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28B4-7139-4DCB-AAD2-7CC267EC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4CDE2-BC22-4E89-A4F9-46096B6E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DC75A-B438-4002-B75C-81C468D6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73F-B5F5-4F50-A099-B247DB82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1262F-7FD8-4EE2-B7D8-09FFB636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7829F-DE42-448A-BB96-3CF20928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4C1DB-F718-4C60-97FA-E68A51D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EF9F7-F99D-4E3B-82E1-44DCBE82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9270-78BA-4818-98E3-D3AB27C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F0140-66B2-4CB7-A669-031B887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A2AC-E039-4D46-9E42-49DCCC0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84207-5077-4BD7-AFDD-14337E2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7C267-F3B2-4590-8D57-2112FD1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E3C3-C411-46DC-BDF5-21BDD58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4C7-04D1-413F-B3FC-155FB415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2430-1E07-42A8-A684-C62F75C6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B1A5-8BEB-4BF9-9F24-545F11F3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6D3D7-853B-4106-8FEA-3502E5A6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F190A-2ABB-47CF-A24E-B972BDD3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7EE5-998A-49A4-BF36-CB6433D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C274-77BA-4245-941B-1F0663E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6E71-6251-4F88-9B53-45F4575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DD8D1-A4D6-498D-8E60-6F34CA7B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52A32-61D4-405B-9D73-0839B4CD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23440-599D-4EF7-9CC4-07ADCE7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5DE9-C20A-4165-AE1C-77BCA9E2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F1078-A3C8-4ADF-BF69-F10555E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6E4F4-0C1C-4B31-8358-CB36172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23DD-D933-485D-A97D-AFCF8B8D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4AE89-5EC0-4B0E-A213-7EE523D9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851C0-546F-4955-9369-F614BEC8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1D05B-5C37-4B95-9EC6-EA502982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1557C-E014-4B58-8225-C4D09128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0162F-689D-49DD-9F6A-7D50648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0DBB4-EEFA-46CF-AE71-BECE713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926F4-7013-4AB2-8545-A7EF3E8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4119-953B-44BC-83D3-4200443C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DC534-4BE6-460E-B41E-3054ABD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82919-E657-41A5-B34F-554A8DF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ADB07-F128-47B3-8A63-1E3E6DC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7CA22-6760-4166-B41B-A003F77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031D6-2808-4C6F-B0F0-3CF8B3C1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AF915-8BE5-4E89-AA48-59D63ABF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4F132-7E84-4EA2-A197-C6112326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8A6EB-F42F-42C1-BAA3-438A46B6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179CE-1F79-49F4-9DB1-6A48C6E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18E40-99E9-460D-A2DB-23BF5A8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985-813E-4512-B91E-9C7103D4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F78C4-1ABE-4CC4-B18D-A7F52B7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E5AE5-E56C-444D-90BF-41CB80C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3FEEE-7C59-4BD4-8619-8C9C3EE2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941BB-8ECD-4FF2-9D6A-910B8B3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24534-48B1-457C-9ED4-7AD3A5A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B1944-7F71-4558-A235-90C37F9C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193A0-B5B9-4EE4-9692-B9413D1F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4DC1D-D73F-49B5-86A6-9C95ADDF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A126A-75F3-4B37-A797-DA0B7B35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ABC-C2C8-4AE0-AC38-0535CE52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B5E0-900B-40DB-B54B-3154023F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EF9-96E0-42C5-BA8B-39D0253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022-0A20-4D26-9E41-D6AFFD1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3412-A679-44B5-BA24-4ED8232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28C-3E1A-49E2-A50F-D9C8E8A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579-BBA2-41D7-A7C7-EDAF0D7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F8B7-19C1-4D5B-AAB5-90F33550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412-003D-4827-847C-A846CF1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FE12-6152-47E3-B41A-CC3D4B3A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E677-F835-40B7-89CD-7326FDF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D191-165F-4E60-B5B8-3085C70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D0C1-DD8D-42C7-BA37-D9591CC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CBB2-F1CA-4ABF-9C99-9661720B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A11-0038-4753-94C1-7BD6665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4A61-266D-4019-8718-31B2E374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EAAB-A61E-4C86-80A9-0BE840DE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EB1E-8E7E-4820-96CE-72930FF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E874-BE36-47E9-9091-49DB412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6C28-39D6-42AB-BCF6-369B200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063E-8FAF-4233-BEF0-125FD6B5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39AB-F054-47CF-A3CB-6FDB2219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BF21-A17E-43DB-8840-334712F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85F7-4A05-4668-854D-581F839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053A-8D1F-4BED-96DD-A7D165AF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0E1-4E3E-42E5-B57F-4798D31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3CB5-B580-4760-8FA7-BD889EC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8CD3-8A95-4DC7-AECD-9CA96F5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7862-A8FA-4B41-B4A9-2149F47A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6BEA-7D61-470E-877E-8BB3E0C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941D-F289-4543-A088-1111155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DC98-E3AD-470E-AA7C-F04CD58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8D28-B316-4F6A-AA4F-36C4D6FD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69F1-F0EC-43C0-9F44-A6886617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AE4C-1D32-433C-B817-1E7E95AA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4B8A-9431-4148-BDE8-AE26BCB2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383-5356-4C2A-8473-DBEBF6B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E73C-CDED-45DC-997A-E7E73C45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85F5-6DEE-45FA-A711-C0D78FC4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DBF6-F0AC-4204-AB89-CF95086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68E0-1BDB-4EA3-8B5C-0B0045A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38D4-1F1D-4AC0-9289-AF5325DD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BF08-31B8-43C3-A749-445E506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2BD3-D0A1-4E78-9643-4E032E3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5150-807B-4564-AC69-F30D41B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F1A8-4705-48C3-B3AE-7EEF951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8B15-F92B-4D38-9FBE-5DFEAEFD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37F-94F2-4378-BF1E-C6404BA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06C1-D46C-4F60-8D5A-2721B85A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1396-8377-47F4-93FC-E4E0A9BC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4EFF-1C45-4FAB-87FB-096E7B2A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0904-92E7-49B1-AACC-5414446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FA45-CCC3-4A76-AB30-0DEE00C5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CC452-94B8-4697-8782-6E1B80C6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7991-0689-41F7-87EB-5B98BFA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473F-A4B1-437F-B44E-17DD775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293A-7B85-43C7-A753-741752E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D28F-5CE1-4985-AE3A-9221040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096-64C8-49DF-A2B0-1CE3A34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2872-CA4E-46E3-8E36-DA135637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8BB1-0D88-429F-8949-79DFC7A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CD4C-459A-4F55-8CC1-42EC1435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6C96-11DB-4BB6-9734-5BEFFCB3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05C0C-560E-4E26-A077-6AD0684E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DE62-D7F6-4851-BD57-E2986956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D8F5B-B309-4FCE-95D5-D67B8D5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7DB7-DC4D-4872-ABEE-5F934A3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2374-A1D1-42C1-BFEE-26CA79F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382CB-3EB9-48F0-A757-2388F5E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F8D-D12B-40C7-8460-F1B7CD3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2FE2-95E4-4855-ADB4-2C24E0E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0BF5-F458-49D3-A094-4FDAEB1E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5324-8D65-4D24-86E1-47EB54B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5C010-EA1A-452D-95C2-DFE43FE0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4BC3-62F8-44F0-803F-630C4D44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FDDAD-1035-439E-8E38-EC0E9F36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5802F-D06C-45A1-AD0E-D5F4F23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3A82F-28B7-45F3-98AE-1B78D15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92C1-1482-4C29-8EA6-03191D91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85CB-4E79-4685-A119-8C0A51B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B06-DCE2-4B8B-9E3D-A4D47F35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3130-4C35-4C7C-A3C1-459C6F5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2F9E-32E4-4C91-9EA9-AC6686E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EC785-B658-4926-999C-05E0A82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C8744-7F57-4E19-9D0F-5F09CFE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B854-18CB-4E39-890C-5B1ED93C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C3FB-BBAD-40F4-8DB9-B689BA5E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7DC2F-B341-4853-ACA2-32397ADA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F073-AD32-4FC1-A6D6-3B4D9694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550C4-8B83-46CE-9C6C-92E13E2A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431C8-D9DD-4ADF-BE9A-8E8EA1E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8C0-4618-4B9A-8B26-A79DC048EB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C5D-271E-49C5-94CB-28FDD171A3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B98-9772-40A4-A56E-CED06574B7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85CB-0672-440F-A913-4D590B2333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69B1-B037-4440-BF02-AFB6190531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7F54-1457-43D9-9B26-7B6C8CD07C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6D0A-FFE5-457F-993F-F78704C5AF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A43-A636-41EC-A6E8-BC62FFA80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3EC7-F7B1-480B-9D78-274E8D4C77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ADD9-50C3-4620-8CBF-A94C46C99E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88C-61D1-42BA-BC3E-BB7EA30712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0E7-A8B5-4126-AEAB-5095AA0428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7F9-D372-4321-BF28-E0A4EC5F85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61840" y="392832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QL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讲义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285560" y="1856880"/>
            <a:ext cx="6972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条件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表达式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比较算符和逻辑算符还有一些等价形式，具体参见教材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所有算符前面加一个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t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算符，可以得到相反的选择条件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条件较复杂时，可以将表达式用括号括起来，以突出逻辑关系、增强可读性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714680" y="2286000"/>
          <a:ext cx="5857560" cy="1584360"/>
        </p:xfrm>
        <a:graphic>
          <a:graphicData uri="http://schemas.openxmlformats.org/drawingml/2006/table">
            <a:tbl>
              <a:tblPr/>
              <a:tblGrid>
                <a:gridCol w="2757240"/>
                <a:gridCol w="3100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常用算符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^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gt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gt;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逻辑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|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amp;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^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条件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y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ll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s null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contain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xist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ke</a:t>
                      </a: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ween-an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071360" y="185688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几个重要条件算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符合选项之一；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+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etween-an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一定范围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ik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：部分或全部匹配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代替任意数量的字符；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代替一个字符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between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sex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or (sex=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&lt;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%h%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_h%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GROUP BY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ORDER BY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8440" y="192852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与汇总函数结合使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汇总函数按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进行分组汇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默认整个表为一组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没有汇总函数，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纯分组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der by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果排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sex, count(sex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vg(h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ex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572080" y="1817640"/>
          <a:ext cx="3143160" cy="268308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汇总函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vg, mea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均值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ount, freq, 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非缺失值个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x, mi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最大、最小值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求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var, st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方差、标准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s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修正平方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异系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HAVING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28440" y="1928520"/>
            <a:ext cx="742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VING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筛选组数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V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组设定条件，进行检索筛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汇总函数后运行，可以引用汇总函数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的区别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观测设定条件，进行检索筛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B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汇总函数前运行，不可以引用汇总函数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, avg(h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av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h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213920" y="1785600"/>
            <a:ext cx="6829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te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表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a.comcd, b.stkcd, b.lstknm,   a.csrciccd1, count(a.comc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 a left join resdat.lstkinfo b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a.Stkcd=b.stkc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estdt&g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1jan1985'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查询语句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终止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综合练习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57160" y="18568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名字首字母不是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学生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年龄分组统计平均体重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g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、每组人数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平均体重大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组，列示年龄、平均体重、每组人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年龄倒序排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程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, avg(weight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w, count(*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not like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B%'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av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vgw&g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二、多表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57160" y="192852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ROM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后面直接加一个表名，实现从单个表中检索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涉及多个表，常使用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连接或子查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连接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从多个表中选取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数据来自不同的表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子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通过表与表之间的联系选取数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选择一个表的数据时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需要参照其他表的信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4643280" y="2217600"/>
          <a:ext cx="4000680" cy="3997440"/>
        </p:xfrm>
        <a:graphic>
          <a:graphicData uri="http://schemas.openxmlformats.org/drawingml/2006/table">
            <a:tbl>
              <a:tblPr/>
              <a:tblGrid>
                <a:gridCol w="500400"/>
                <a:gridCol w="642600"/>
                <a:gridCol w="1357560"/>
                <a:gridCol w="1500120"/>
              </a:tblGrid>
              <a:tr h="3070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多表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连接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交叉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ROSS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内部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INNER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外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LEFT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RIGHT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FULL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自然连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ATURAL JO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不相关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相关子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EXIST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AN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AL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合并查询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并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UN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差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ERSEC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国队和美国队打乒乓球比赛，队员分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水平，每个水平的球员都要和对手同一水平的队员打一场比赛，基础表数据如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TextBox 5"/>
          <p:cNvSpPr/>
          <p:nvPr/>
        </p:nvSpPr>
        <p:spPr>
          <a:xfrm>
            <a:off x="1143000" y="2571840"/>
            <a:ext cx="23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hina Player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level  chin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0        c0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1        c0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   c03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3        c04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357800" y="2571840"/>
            <a:ext cx="3456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USA player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level   us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1     u00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u0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2     u0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3     u03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0808"/>
                </a:solidFill>
                <a:latin typeface="Times New Roman"/>
              </a:rPr>
              <a:t>4     u04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0" name="矩形 6"/>
          <p:cNvSpPr/>
          <p:nvPr/>
        </p:nvSpPr>
        <p:spPr>
          <a:xfrm>
            <a:off x="1273680" y="785880"/>
            <a:ext cx="195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基础表数据：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交叉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143000" y="192852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连接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JO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连接 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基本的连接，笛卡尔积形式，所有可能组合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cross join resdat.us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, resdat.us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观测行数很多，这种连接会产生巨大的数据结果，且绝大部分没有意义，可以用其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选择相应的子集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内部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143000" y="18190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两表中匹配连接条件的行：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ner jo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条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inner jo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usa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查询时经常遇到两个表有相同列，为了引用清楚，在列前加表名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书写和阅读方便，可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中设定表的别名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关键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ner, a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选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仍然可以使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der by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等子句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等价于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5" name="Picture 4" descr="[Inner join diagram]"/>
          <p:cNvPicPr/>
          <p:nvPr/>
        </p:nvPicPr>
        <p:blipFill>
          <a:blip r:embed="rId1"/>
          <a:stretch/>
        </p:blipFill>
        <p:spPr>
          <a:xfrm>
            <a:off x="6000840" y="1000080"/>
            <a:ext cx="9460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概念和标准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言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语句（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汇总函数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ROUP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AVING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、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多表查询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JOI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连接、子查询、合并查询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与更新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外部连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85520" y="1928880"/>
            <a:ext cx="77151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内部连接的行以及部分不匹配连接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LEFT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右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RIGHT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右边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FULL JOIN):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部连接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两表中不符合匹配条件的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right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full join resdat.usa b on a.level=b.level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8" name="Picture 4" descr="[Left outer join diagram]"/>
          <p:cNvPicPr/>
          <p:nvPr/>
        </p:nvPicPr>
        <p:blipFill>
          <a:blip r:embed="rId1"/>
          <a:stretch/>
        </p:blipFill>
        <p:spPr>
          <a:xfrm>
            <a:off x="1285920" y="3357720"/>
            <a:ext cx="792000" cy="5378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[Right outer join diagram]"/>
          <p:cNvPicPr/>
          <p:nvPr/>
        </p:nvPicPr>
        <p:blipFill>
          <a:blip r:embed="rId2"/>
          <a:stretch/>
        </p:blipFill>
        <p:spPr>
          <a:xfrm>
            <a:off x="3500280" y="3357720"/>
            <a:ext cx="743040" cy="5047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4" descr="[Full outer join diagram]"/>
          <p:cNvPicPr/>
          <p:nvPr/>
        </p:nvPicPr>
        <p:blipFill>
          <a:blip r:embed="rId3"/>
          <a:stretch/>
        </p:blipFill>
        <p:spPr>
          <a:xfrm>
            <a:off x="5786280" y="3357720"/>
            <a:ext cx="743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571680" y="214200"/>
          <a:ext cx="3261960" cy="2446560"/>
        </p:xfrm>
        <a:graphic>
          <a:graphicData uri="http://schemas.openxmlformats.org/drawingml/2006/table">
            <a:tbl>
              <a:tblPr/>
              <a:tblGrid>
                <a:gridCol w="815760"/>
                <a:gridCol w="816120"/>
                <a:gridCol w="814320"/>
                <a:gridCol w="81576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2" name="矩形 4"/>
          <p:cNvSpPr/>
          <p:nvPr/>
        </p:nvSpPr>
        <p:spPr>
          <a:xfrm>
            <a:off x="969840" y="2714760"/>
            <a:ext cx="22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左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EFT JOI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4929120" y="214200"/>
          <a:ext cx="3429000" cy="244656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4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5218560" y="2714760"/>
            <a:ext cx="24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右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RIGHT JOI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2286000" y="3214800"/>
          <a:ext cx="4071960" cy="285408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360"/>
                <a:gridCol w="101772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27" name="Rectangle 2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3261240" y="62150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完全外部连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FULL JOIN)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MERG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很多情况下可以产生相同结果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所有行匹配且无重复值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=inner 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行匹配且无重复值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=full 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区别在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重复值的情况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位置顺序合并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具体值连接，可以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所有组合，并可以选择其子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之前不需要排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进行不等值连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总的来说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更灵活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见下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856800" y="1285920"/>
            <a:ext cx="5072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  只对相同水平的运动员进行连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, resdat.us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hina.level=usa.lev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1833480" y="4286160"/>
          <a:ext cx="5167440" cy="2190960"/>
        </p:xfrm>
        <a:graphic>
          <a:graphicData uri="http://schemas.openxmlformats.org/drawingml/2006/table">
            <a:tbl>
              <a:tblPr/>
              <a:tblGrid>
                <a:gridCol w="1292400"/>
                <a:gridCol w="1290600"/>
                <a:gridCol w="1292040"/>
                <a:gridCol w="1292400"/>
              </a:tblGrid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S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38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u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833" name="TextBox 4"/>
          <p:cNvSpPr/>
          <p:nvPr/>
        </p:nvSpPr>
        <p:spPr>
          <a:xfrm>
            <a:off x="1000080" y="3786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34" name="Picture 1" descr="[Inner join diagram]"/>
          <p:cNvPicPr/>
          <p:nvPr/>
        </p:nvPicPr>
        <p:blipFill>
          <a:blip r:embed="rId1"/>
          <a:stretch/>
        </p:blipFill>
        <p:spPr>
          <a:xfrm>
            <a:off x="6000840" y="1357200"/>
            <a:ext cx="2313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JOI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连接综合练习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71388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的原则匹配中美两队队员，分别选择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队所有队员的匹配情况；美国队所有队员的匹配情况；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中美两队成功匹配的队员；中美两队所有队员的匹配情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程序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righ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inner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full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分别如何实现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队内部按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原则匹配？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美国队员比中国队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低的原则匹配？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a left join resdat.usa b on a.level=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 a left join resdat.usa b on a.level&gt;b.level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查询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简单子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个查询语句中，用到了另一个查询的结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子查询（不相关子查询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独立于外部查询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返回的结果要与该查询外的算符相对应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是比较算符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子查询只能返回一个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是条件算符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子查询可以返回多个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&lt;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ax(level)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查询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——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混合子查询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混合子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查询用到外部查询传输进来的值，该子查询运行后再给外部查询返回结果；可以返回单值或多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yrret a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 b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.stkcd=b.stkcd)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5'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date&lt;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'31dec2005'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实子查询可以拆分成两个单独的查询，学习创建表之后可以实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合并查询（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）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785880" y="192888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合并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两个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匹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查询结果进行并、差、交运算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横向连接不同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算符是竖直的连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+ 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算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selec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UNION: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多个查询中所有的非重复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XCEPT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只属于第一个查询、不属于第二个查询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SECT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产生两个查询共同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OUTER UNION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对多个查询结果直接连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3" name="Picture 4" descr="[UNION diagram]"/>
          <p:cNvPicPr/>
          <p:nvPr/>
        </p:nvPicPr>
        <p:blipFill>
          <a:blip r:embed="rId1"/>
          <a:stretch/>
        </p:blipFill>
        <p:spPr>
          <a:xfrm>
            <a:off x="5929200" y="3214800"/>
            <a:ext cx="428760" cy="630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4" descr="[EXCEPT diagram]"/>
          <p:cNvPicPr/>
          <p:nvPr/>
        </p:nvPicPr>
        <p:blipFill>
          <a:blip r:embed="rId2"/>
          <a:stretch/>
        </p:blipFill>
        <p:spPr>
          <a:xfrm>
            <a:off x="7286760" y="3857760"/>
            <a:ext cx="428400" cy="6300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4" descr="[INTERSECT diagram]"/>
          <p:cNvPicPr/>
          <p:nvPr/>
        </p:nvPicPr>
        <p:blipFill>
          <a:blip r:embed="rId3"/>
          <a:stretch/>
        </p:blipFill>
        <p:spPr>
          <a:xfrm>
            <a:off x="5715000" y="4500720"/>
            <a:ext cx="455760" cy="6714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" descr="[OUTER UNION diagram]"/>
          <p:cNvPicPr/>
          <p:nvPr/>
        </p:nvPicPr>
        <p:blipFill>
          <a:blip r:embed="rId4"/>
          <a:stretch/>
        </p:blipFill>
        <p:spPr>
          <a:xfrm>
            <a:off x="6643800" y="5081760"/>
            <a:ext cx="504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4"/>
          <p:cNvSpPr/>
          <p:nvPr/>
        </p:nvSpPr>
        <p:spPr>
          <a:xfrm>
            <a:off x="857160" y="1240560"/>
            <a:ext cx="4714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以下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SE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算符例子都基于下面两个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able 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  y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-----------------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 on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3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  Thre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JOI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的横向连接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连接是竖直的连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3786120" y="2000160"/>
            <a:ext cx="309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able 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  z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------------------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1  on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  tw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  fou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786280" y="1143000"/>
            <a:ext cx="2928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y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hre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z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w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fou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由多个查询产生非重复观测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UNIO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1" name="Picture 4" descr="[UNION diagram]"/>
          <p:cNvPicPr/>
          <p:nvPr/>
        </p:nvPicPr>
        <p:blipFill>
          <a:blip r:embed="rId1"/>
          <a:stretch/>
        </p:blipFill>
        <p:spPr>
          <a:xfrm>
            <a:off x="6929280" y="1643040"/>
            <a:ext cx="505080" cy="74304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5"/>
          <p:cNvSpPr/>
          <p:nvPr/>
        </p:nvSpPr>
        <p:spPr>
          <a:xfrm>
            <a:off x="1264680" y="2718000"/>
            <a:ext cx="271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UNION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5003640" y="2637000"/>
          <a:ext cx="2913120" cy="3017520"/>
        </p:xfrm>
        <a:graphic>
          <a:graphicData uri="http://schemas.openxmlformats.org/drawingml/2006/table">
            <a:tbl>
              <a:tblPr/>
              <a:tblGrid>
                <a:gridCol w="291312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UNION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  four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SQL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概念和标准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SQL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言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642960" y="128592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英文全称是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tructured Query Language,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即“结构化查询语言”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是关系数据库操作的国际标准语言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928800" y="2500200"/>
          <a:ext cx="7143480" cy="3786480"/>
        </p:xfrm>
        <a:graphic>
          <a:graphicData uri="http://schemas.openxmlformats.org/drawingml/2006/table">
            <a:tbl>
              <a:tblPr/>
              <a:tblGrid>
                <a:gridCol w="1311120"/>
                <a:gridCol w="1339920"/>
                <a:gridCol w="2114640"/>
                <a:gridCol w="2377800"/>
              </a:tblGrid>
              <a:tr h="379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语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5ba7dd"/>
                    </a:solidFill>
                  </a:tcPr>
                </a:tc>
              </a:tr>
              <a:tr h="37800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定义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D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EA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创建表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LT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修改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7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ROP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删除数据库对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操作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M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查询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LEC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查询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更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插入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UPDA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更新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删除数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944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数据控制语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C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GRA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授权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  <a:tr h="378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VOK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取消授权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b1d5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8072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产生只属于第一个查询的观测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EXCEP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5" name="Picture 4" descr="[EXCEPT diagram]"/>
          <p:cNvPicPr/>
          <p:nvPr/>
        </p:nvPicPr>
        <p:blipFill>
          <a:blip r:embed="rId1"/>
          <a:stretch/>
        </p:blipFill>
        <p:spPr>
          <a:xfrm>
            <a:off x="7143840" y="1785960"/>
            <a:ext cx="504720" cy="74304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5"/>
          <p:cNvSpPr/>
          <p:nvPr/>
        </p:nvSpPr>
        <p:spPr>
          <a:xfrm>
            <a:off x="1406160" y="2610000"/>
            <a:ext cx="28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EXCEPT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cep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076720" y="2924280"/>
          <a:ext cx="2952720" cy="192060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EXCEPT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21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从多个查询中产生公共部分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INTERS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9" name="Picture 4" descr="[INTERSECT diagram]"/>
          <p:cNvPicPr/>
          <p:nvPr/>
        </p:nvPicPr>
        <p:blipFill>
          <a:blip r:embed="rId1"/>
          <a:stretch/>
        </p:blipFill>
        <p:spPr>
          <a:xfrm>
            <a:off x="7000920" y="1785960"/>
            <a:ext cx="504720" cy="74304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5"/>
          <p:cNvSpPr/>
          <p:nvPr/>
        </p:nvSpPr>
        <p:spPr>
          <a:xfrm>
            <a:off x="977040" y="264672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INTERSECT B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sect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76720" y="2708280"/>
          <a:ext cx="2976840" cy="2286000"/>
        </p:xfrm>
        <a:graphic>
          <a:graphicData uri="http://schemas.openxmlformats.org/drawingml/2006/table">
            <a:tbl>
              <a:tblPr/>
              <a:tblGrid>
                <a:gridCol w="29768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INTERSECT B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   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直接连接查询结果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(OUTER UNION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算符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)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3" name="Picture 4" descr="[OUTER UNION diagram]"/>
          <p:cNvPicPr/>
          <p:nvPr/>
        </p:nvPicPr>
        <p:blipFill>
          <a:blip r:embed="rId1"/>
          <a:stretch/>
        </p:blipFill>
        <p:spPr>
          <a:xfrm>
            <a:off x="7358040" y="1357200"/>
            <a:ext cx="504720" cy="99072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5"/>
          <p:cNvSpPr/>
          <p:nvPr/>
        </p:nvSpPr>
        <p:spPr>
          <a:xfrm>
            <a:off x="1050480" y="2427480"/>
            <a:ext cx="335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 OUTER UNION 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                 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4788000" y="2492280"/>
          <a:ext cx="3311280" cy="350532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35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 OUTER UNION 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  y                x  z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------------------------------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 one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  two  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  three            .     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1  one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2  two    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                   4  four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三、创建与更新表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785880" y="1928880"/>
            <a:ext cx="792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表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列定义方式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列名、类型、长度、格式、标签）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cod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, nam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,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at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nu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ate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ata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从查询结果创建表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TABLE +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+ AS + SEL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新表包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所选择的列，且保持原来的列属性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 selec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* from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785880" y="1196640"/>
            <a:ext cx="792936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表过渡，将子查询拆分成两个查询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拆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ve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hin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usa a join a b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level=b.lev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755280" y="108576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表名后，可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(rename=(age=age1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表中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set 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列名赋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插入行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ert into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VALUES +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列的位置赋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il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age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sex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heigh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uc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785520" y="192888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宋体"/>
              </a:rPr>
              <a:t>还可以对表进行以下操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宋体"/>
              </a:rPr>
              <a:t>更新观测、删除观测；增加列、修改列、删除列；删除表 等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在这些功能上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 SQL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步相比，没什么优势，因此不做赘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 SQL</a:t>
            </a: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还包括视图功能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对视图（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iews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）的各种操作与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Table)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基本相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差别在于：视图不储存数据，只是储存一个查询语句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在使用该视图时调用该查询并展现结果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功能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43000" y="214308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汇总统计表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从表和视图中检索数据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合并表和视图中的数据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建立表、视图和索引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、添加、提出表中的数据列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表中的数据值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的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7238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继承了标准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其功能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继承了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、函数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和通用的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与其他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一些区别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检索数据的同时会在输出窗口输出数据，使用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NOPRIN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可以阻止该项输出。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持续运行直至遇到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步或其它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。因此，不用在每个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前重复书写“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</a:t>
            </a:r>
            <a:r>
              <a:rPr b="0" lang="en-US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QL</a:t>
            </a:r>
            <a:r>
              <a:rPr b="0" lang="zh-CN" sz="22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不起作用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QL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213920" y="1571760"/>
            <a:ext cx="6929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开始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tes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表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a.comcd, a.lcomchnm, b.stkcd, b.lstknm,         a.csrciccd1, count(a.comcd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info a left join resdat.lstkinfo b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a. stkcd=b.stkc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estdt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'1jan1985'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.csrciccd1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查询语句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终止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QL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、查询语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047240" y="2042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 SQ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最主要、最常用的工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来识别、检索和操作表中数据，使用子句可以设定查询条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常用子句及其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固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顺序：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的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来源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名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 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条件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roup by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标志（变量）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aving   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针对组的选择条件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 by   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排序标志（变量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只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om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是必须的，其他子句都是可选的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600200" y="185688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列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特定列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个列名用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隔；按照语句中顺序显示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所有列：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*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重复观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select distinct+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多个列，只删除所有变量取值都相同的观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name, age, 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*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istin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ag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SELECT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子句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285560" y="1856880"/>
            <a:ext cx="6972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新列值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为列分配别名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指定列属性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weight/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hratio format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新计算的列：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lculated +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列名</a:t>
            </a: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只能在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子句中设定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lculate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列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sq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, age, weight/heigh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hratio format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4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/calculated whratio)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hwratio format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.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25T02:36:54Z</dcterms:modified>
  <cp:revision>487</cp:revision>
  <dc:subject/>
  <dc:title>第1章 SAS软件入门</dc:title>
</cp:coreProperties>
</file>