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66EF-1309-46D7-A281-EC3FEB40DE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D32-2336-4D96-BE50-DB48B0D75EB3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9C3-C2EE-4DF9-933E-F672A4F2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628-77E2-4635-960F-46A9024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84C7C-5FAE-475A-83C5-FC230CB4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A0C0-5012-411C-A62D-1702AF30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DE60B-64AF-4ADA-A1CC-C0FB44D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38A53-0488-453C-BF18-66291F8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962B9-B13A-49F2-A111-190A687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1E479-C760-43BD-B47D-1DB80A8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B9C2F-6C2E-4101-A6C0-C3CE4C8E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EE70F-21A9-423D-BFF6-84D2FB5B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BA320-9F4C-4282-9741-EFDB5B71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79EE-F1E8-469C-AA55-0A7D288D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6A5-E7F9-400E-9D87-415B38DF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25C82-BC42-4F2D-8F16-7E00D291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F110B-D6F3-414F-BAE8-8E5A6F88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5405E-B0F6-4B43-A9A6-F50CF66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D94D7-FFD5-4764-8D82-9D8E896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6ED4-BC16-416C-B5FB-96EFA3A3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05039-18FE-4B1F-A7C2-267B5C6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39E3-ADE3-453E-9179-A562318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55D4F-01C9-412B-BDC3-C93A89D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DDD32-EE60-42D0-8CA0-525964D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E4792-A247-473F-970D-0C83F9E8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FF6-59C6-4B28-A111-4660FE86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63D81-27AE-4486-B847-24407797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F7365-DF83-4229-AB38-4E70320A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8C8A7-F77E-431C-BA70-D9B4BA3E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8B50E-6F29-4AED-AC17-4077DC8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29EED-7180-4D1B-BD55-432562C4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82246-CB03-4E7B-84BC-09E545E8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BF0BE-262A-4021-8574-83FFDDE7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282A-8597-4408-8CE8-5C3627B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D242-F213-4087-BC39-1515624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B2B58-5729-4163-81DD-AEF8768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4CCE-0379-4CF2-8F1F-1B48B04F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A00B-98F6-4D8D-9D18-7ACD75C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6CCA5-3E26-44C5-A889-73714EAE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4F19-CB3F-4410-851D-749B733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F5EE7-09E5-4D73-B0C2-F0904259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B5A6D-F4B3-40DD-BC66-971ACBD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776A9-84DD-4454-A8DB-DE6C9B4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65C9B-D5E5-497F-8BD5-3E2C68C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68B6-CC99-45C5-8EAB-4BC87C4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29AAE-1836-4018-9868-FE3A0AE3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7D31C-F394-4F74-9116-22F5753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A07-0021-4ADA-8EFE-EBDB6991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AFA04-066B-4E2A-991B-E09683B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24116-8F21-44FA-8C04-339DD92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59C7D-EE72-4A63-8F12-CA302BA3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42AE1-E5A4-45A2-BA86-797A094C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10F7C-D578-4B33-8916-CE05D12E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A93A3-FDEF-4838-BA27-8B00457E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7F379-33C3-43FC-8D0D-7662A8F9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ABB0A-B21D-470A-A144-4674CA2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BA95D-9A5E-4D37-952D-2D596ED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C1379-4DF7-47B2-A275-DBBC631F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9A7-CFDF-4171-9098-4D0F61F3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E6A0B-47BF-4793-9957-D33519C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C2776-D392-4C09-80E3-DEF9AEC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74CFC-EE37-4C4F-A4A1-518FE81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9C545-F6BD-4125-9E0E-BC21921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B9408-B9AE-474A-B5C5-73E234F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441D8-4CCE-481D-BF3F-C9DAE74E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7696F-D3A8-4C1E-8B97-7AAFAFE4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9495-557D-427A-B4A6-122FAC2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8549-9423-4677-AA47-B7B099E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562C-2082-49E8-98DC-1985382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742D-1ABC-4DD0-B01A-0276B73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A68-C76E-4639-B81E-7038589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16C9-C3A6-4599-B252-6D76C15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47A-9D7E-4FF5-BDD5-A7CFA86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087-4126-47AB-8BAE-CFDCBC2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183B-0411-49D4-97D2-6002BA13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1341-EECF-40F3-96A9-33A0DDAE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78F0-43D0-4D9F-80AF-3FD6C248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4DA0-D9EB-4A62-88F1-6EB9C22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D941-199A-4A98-9A92-2DBF330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106E-9C08-436C-B946-F22EE280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D54B-AACD-47A0-A9E1-068D137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496-80A8-4273-8E33-676B2DE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4C31-B983-49AD-A445-226BFBE9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2160-2AB3-4FCF-A94F-93E90D7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F70E-D5F2-4652-97E7-208D1AC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CB96-4681-4FE9-9FF1-F9951AA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8808-02EA-4689-848D-F00FBB7E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C226-9575-4D42-89CA-107913DA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52C3-7627-4B72-9B2A-20230FE3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9561-5904-47DD-8A4B-69B93DF6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BAB2-1AD2-4A55-8406-1DBB1EC9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37B7-AFE7-4DEC-84EE-8511EB9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982-6E2C-40F9-BB43-E0F2197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3E59-4BD2-4D87-AE77-0AAC06B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A5B4-D77C-483C-804A-9679C69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2D10-8A9C-446C-B2B7-433E0A9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82A0-21C5-419C-9790-371818F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55B2-5A27-4499-B031-5C3242A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FA44-1EA8-4922-8F96-24EC0EA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5DFF-1BB2-48D1-9AA9-432F020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C546-0E1C-45AE-962C-88FA9381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8C62-4ADF-4145-8802-A48653F1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1D51-0FC8-4097-87DE-EE87E0FE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E67-B6E4-4F18-BFE9-91939DC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2D1B-8F6D-4E6C-9570-92142179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E4776-32EF-46B3-A06C-16D7D69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702D8-CE49-4E92-A979-36E51AC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70E3B-478C-4D96-9A7A-EEB7460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0CBF-CE42-4FF6-8230-9ECAC079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C90C-10FA-485A-986B-DBC473E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0AA3-7941-40DD-98A0-8F65464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FE45-6ED4-4960-A884-C789781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32B6-0A9C-4EE3-A449-B1BA27C4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AD4E-F5C3-415A-B1D4-ED6EFD19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9D6-9AAF-494E-9992-296883B8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E2FD9-D828-478F-BD70-64E224CB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49BB-9671-4C27-A295-F4C2D84C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16E5-CC32-48CE-838A-8F81F66E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DCAE-5AA2-49C5-8F2B-9621CFC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66139-9C9D-4FB4-AABA-DA836EB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D939-2C51-4C0F-8299-9E21ECE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BAC2-8AB2-41CA-89AF-A6A92F52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73D2-7756-4455-AECC-C7EF1D9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AD72-235C-49D6-8FC3-0476532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0024-8730-43D3-873C-79A0A60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51B-B2A3-48D7-B364-320C4D2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B264-0BE4-4870-B9D0-BBF74E8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469D-9994-4937-9D1E-AC59855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8D03-F413-41D3-9AA3-40FAC8CF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3E32-61AD-435A-864E-7636E88C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D3DC-3ECD-4075-A8E9-3367933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A413-6452-45ED-82E7-D0DFB673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0AA1-8416-4B21-82D5-2CCC62A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0CFB-E136-422F-8C41-747BD784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5D1F-5637-4917-B48A-E33CF6A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DB59-58B2-42E7-81C1-AE40588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372-F92C-494A-98B5-9A8D6C9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C616-FF00-4B85-BE42-C862DE0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19CD-4CAD-4220-98F3-B57244B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0727-2B46-4E07-9152-4E321ADD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AA7A-BFE8-4300-9085-84B5BC0A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9D20-9B99-43D7-A5E6-4B133B6D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CF0D-5809-4C64-81FA-236BB70C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B78F-A844-4EDC-9947-4F55474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CCC0-36A9-45B4-BE73-18A91ED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01D8F-4B7D-4C2C-AC20-03DFA86E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49330-BC58-4E93-AB92-3FF5C915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FF5-6ED9-4BC8-9127-D57742F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5845-C185-46F3-B5F5-49990B7A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1EA99-588F-4F57-90CB-2F65357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84278-D580-44FE-B4C4-3AD410A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5F31D-3AE8-4420-B2E1-2C13C88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CB50C-9439-41BC-92AE-98A129BD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9CE6-A618-43C9-B676-A3FD1FB1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B2DF-7B56-42B9-82A5-C456536A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67CB-0BAD-442F-A0AC-136DE621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FE985-D61C-4D75-B9A5-B9119E3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A8EE-FA77-413D-9E92-51108CFB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BEE-8CB9-43C0-A69B-8381D62F7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EA6B-3EF1-43CE-9258-4CC7B2CA4B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1AA-7D86-4F1C-A5FF-AA97E43767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126C-44E9-494C-A91B-42B41972D7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D8D-F7EF-4C20-ACA0-22522AC44E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8BE-C851-4F53-8A4D-D4548A6EE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02C-9938-48F0-B9CD-FF4C4F69F2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8DB-58F0-4B98-93A6-A62B01402B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9E2F-F772-41B6-A8BE-C19FD47156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F13-210B-4BDE-ABA5-89E90DC6B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245-C2A8-4C22-8F19-71D355F296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2E5-9A9F-4605-BF9A-03A59E8B19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2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制表与绘图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 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出现在报表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clu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type*expenditures / rt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857160" y="1285920"/>
          <a:ext cx="7715520" cy="4710240"/>
        </p:xfrm>
        <a:graphic>
          <a:graphicData uri="http://schemas.openxmlformats.org/drawingml/2006/table">
            <a:tbl>
              <a:tblPr/>
              <a:tblGrid>
                <a:gridCol w="2014560"/>
                <a:gridCol w="1900440"/>
                <a:gridCol w="1900080"/>
                <a:gridCol w="1900440"/>
              </a:tblGrid>
              <a:tr h="339840">
                <a:tc gridSpan="4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4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 gridSpan="2" row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31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定制行列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 rt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642960" y="1214280"/>
          <a:ext cx="8072280" cy="4240440"/>
        </p:xfrm>
        <a:graphic>
          <a:graphicData uri="http://schemas.openxmlformats.org/drawingml/2006/table">
            <a:tbl>
              <a:tblPr/>
              <a:tblGrid>
                <a:gridCol w="2584440"/>
                <a:gridCol w="1874880"/>
                <a:gridCol w="2152440"/>
                <a:gridCol w="1460520"/>
              </a:tblGrid>
              <a:tr h="333360">
                <a:tc gridSpan="4">
                  <a:txBody>
                    <a:bodyPr lIns="7200" rIns="7200" tIns="7200" bIns="7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" marR="72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4">
                  <a:txBody>
                    <a:bodyPr lIns="7200" rIns="7200" tIns="7200" bIns="7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" marR="72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gridSpan="2" rowSpan="2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92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92040"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47480">
                <a:tc rowSpan="2"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1071720" y="1142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5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通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L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概况信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4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(division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ubtota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for 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Custom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42960" y="1000080"/>
          <a:ext cx="7786800" cy="5481720"/>
        </p:xfrm>
        <a:graphic>
          <a:graphicData uri="http://schemas.openxmlformats.org/drawingml/2006/table">
            <a:tbl>
              <a:tblPr/>
              <a:tblGrid>
                <a:gridCol w="1803240"/>
                <a:gridCol w="1695600"/>
                <a:gridCol w="1695600"/>
                <a:gridCol w="1544400"/>
                <a:gridCol w="1047960"/>
              </a:tblGrid>
              <a:tr h="349200">
                <a:tc gridSpan="5">
                  <a:txBody>
                    <a:bodyPr lIns="6120" rIns="6120" tIns="6120" bIns="6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gridSpan="5">
                  <a:txBody>
                    <a:bodyPr lIns="6120" rIns="6120" tIns="6120" bIns="6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 gridSpan="2" row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74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,60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rowSpan="3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,45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7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,85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,2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7,06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rowSpan="4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,20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,5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,43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7,3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6,7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44400">
                <a:tc gridSpan="2">
                  <a:txBody>
                    <a:bodyPr lIns="43920" rIns="4392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otal for All Reg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6,2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37,55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3920" rIns="43920" tIns="43920" bIns="4392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83,84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1143000" y="1071720"/>
            <a:ext cx="69292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行标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o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714240" y="1143000"/>
          <a:ext cx="7572600" cy="4187880"/>
        </p:xfrm>
        <a:graphic>
          <a:graphicData uri="http://schemas.openxmlformats.org/drawingml/2006/table">
            <a:tbl>
              <a:tblPr/>
              <a:tblGrid>
                <a:gridCol w="2427480"/>
                <a:gridCol w="2314440"/>
                <a:gridCol w="1274760"/>
                <a:gridCol w="1555920"/>
              </a:tblGrid>
              <a:tr h="328680">
                <a:tc gridSpan="4"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gridSpan="4"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2" rowSpan="2"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Ba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200"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200"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47480">
                <a:tc rowSpan="2"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6880" rIns="56880" tIns="56880" bIns="56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1447920" y="1294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多页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egion: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ivision al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 Divis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ustomer Bas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expenditur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su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rt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_page_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de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 and All Region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1071720" y="287280"/>
          <a:ext cx="6095880" cy="525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nergy Expenditures for Each Region and All Reg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62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1071720" y="930240"/>
          <a:ext cx="6095880" cy="1581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: Northeast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85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0,20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71720" y="2706840"/>
          <a:ext cx="6095880" cy="1581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: West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43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7,34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1071720" y="4430880"/>
          <a:ext cx="6095880" cy="22129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16080"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Reg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Customer Bas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16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All Division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6,29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7,55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制表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作图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1143000" y="857160"/>
            <a:ext cx="6929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 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重相应调查数据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_null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f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hen set ResDat.customer_response nobs=cou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symput('num',left(put(count,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)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orma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icture pctfmt low-high='009.9 %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 data=ResDat.customer_respons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factor1-factor4 custom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 factor1='Co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2='Performance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3='Reliability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actor4='Sales Staff'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n='Count'*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 pctn&lt;customer&gt;='Percent'*f=pctfmt9.)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1143000" y="9997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'Customer Survey Results: Spring 1996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3 'Factors Influencing the Decision to Buy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nonumb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 data=ResDat.customer_respons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source1-source3 custom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 source1='TV/Radio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ource2='Newspaper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ource3='Word of Mouth'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n='Count'*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7. pctn&lt;customer&gt;='Percent'*f=pctfmt9.)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'Source of Company Name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 "Number of Respondents: &amp;num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formdlim=' '  numb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1523880" y="928800"/>
          <a:ext cx="6096240" cy="6969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2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ustomer Survey Results: Spring 199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32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32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actors Influencing the Decision to Bu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1714680"/>
          <a:ext cx="6096240" cy="17334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.5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liability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5.0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ales Staff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.0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523880" y="3513240"/>
          <a:ext cx="6096240" cy="23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1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ource of Company 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1547640" y="4021200"/>
          <a:ext cx="6096240" cy="1387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7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V/Radio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6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spaper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7.5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47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ord of Mouth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1.6 %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523880" y="5513400"/>
          <a:ext cx="6096240" cy="23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31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umber of Respondents: 120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114300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多重选择调查数据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$timefm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-9 a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9 a.m. to noon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3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oon to 1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4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-4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5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4-6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6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-10 p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7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0 p.m. to 2 a.m.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*** Data Entry Error ***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$pgmfmt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Don't Listen"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ock and Top 40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ountry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4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5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6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Jazz, Classical, and Easy Listening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7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ews/ Information /Talk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8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Other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114300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*** Data Entry Error ***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radi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adio_transposed(rename=(col1=Choice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Timespa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sten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1-time7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time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ic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pgm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adio_transposed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 choic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pa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of Da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hoic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hoice of Radio Progra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n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umber of Listen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istening Preferences on Weekday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3"/>
          <p:cNvSpPr/>
          <p:nvPr/>
        </p:nvSpPr>
        <p:spPr>
          <a:xfrm>
            <a:off x="2860200" y="12142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istening Preferences on Weekday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42960" y="1914480"/>
          <a:ext cx="7858080" cy="2998800"/>
        </p:xfrm>
        <a:graphic>
          <a:graphicData uri="http://schemas.openxmlformats.org/drawingml/2006/table">
            <a:tbl>
              <a:tblPr/>
              <a:tblGrid>
                <a:gridCol w="1122480"/>
                <a:gridCol w="1122120"/>
                <a:gridCol w="1122480"/>
                <a:gridCol w="1123920"/>
                <a:gridCol w="1122480"/>
                <a:gridCol w="1122120"/>
                <a:gridCol w="1122480"/>
              </a:tblGrid>
              <a:tr h="313200">
                <a:tc rowSpan="3"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6"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hoice of Radio Program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on't Listen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ck and Top 40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untry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azz, Classical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nd Easy Listening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s/ Informatio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/Talk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5160" rIns="651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umber of Listener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87440">
                <a:tc>
                  <a:txBody>
                    <a:bodyPr lIns="65160" rIns="651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ime of Day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24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30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8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4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5160" rIns="65160" tIns="65160" bIns="65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78240">
                <a:tc>
                  <a:txBody>
                    <a:bodyPr lIns="65160" rIns="651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*** Data Entry Error ***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523520" y="12193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百分比统计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ctfmt low-high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009 %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Fundraiser Sale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undrai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am classrm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team all)*sale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r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Classroo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(su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l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w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pctsum*f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pctfmt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 /rt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floa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3"/>
          <p:cNvSpPr/>
          <p:nvPr/>
        </p:nvSpPr>
        <p:spPr>
          <a:xfrm>
            <a:off x="4009320" y="8571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undraiser Sa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928800" y="1428840"/>
          <a:ext cx="7215120" cy="3354120"/>
        </p:xfrm>
        <a:graphic>
          <a:graphicData uri="http://schemas.openxmlformats.org/drawingml/2006/table">
            <a:tbl>
              <a:tblPr/>
              <a:tblGrid>
                <a:gridCol w="720720"/>
                <a:gridCol w="722160"/>
                <a:gridCol w="720720"/>
                <a:gridCol w="722520"/>
                <a:gridCol w="720720"/>
                <a:gridCol w="722160"/>
                <a:gridCol w="722160"/>
                <a:gridCol w="720720"/>
                <a:gridCol w="722520"/>
                <a:gridCol w="720720"/>
              </a:tblGrid>
              <a:tr h="3769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gridSpan="8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l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w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p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l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ow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pPct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a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6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3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7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LU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GREE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1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6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2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3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7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8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6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5 %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1523880" y="5370480"/>
          <a:ext cx="6096240" cy="263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umber of Respondents: 120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499760" y="100008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的报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html.htm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eight=bold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just=center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le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just=left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siz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ywo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ll sum /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idth=wide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y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l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Total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(region all)*(division all*[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background=yellow]]),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type all)*(expenditures*f=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0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/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background=red]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misst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labe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Missing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weight=light]]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label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"Region by Division by Type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[font_style=italic]]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1071720" y="214200"/>
          <a:ext cx="6095880" cy="5256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63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nergy 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  <a:tr h="262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1285920" y="814320"/>
          <a:ext cx="5857920" cy="6043680"/>
        </p:xfrm>
        <a:graphic>
          <a:graphicData uri="http://schemas.openxmlformats.org/drawingml/2006/table">
            <a:tbl>
              <a:tblPr/>
              <a:tblGrid>
                <a:gridCol w="1171440"/>
                <a:gridCol w="1171800"/>
                <a:gridCol w="1171440"/>
                <a:gridCol w="1171440"/>
                <a:gridCol w="1171800"/>
              </a:tblGrid>
              <a:tr h="300600">
                <a:tc gridSpan="2" rowSpan="4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 by Division by Typ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sidential Customer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Business Customers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Expenditure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Su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0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rowSpan="3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orthea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4,45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85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0,20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7,06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0600">
                <a:tc rowSpan="4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West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0,20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5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43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7,34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6,78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0600">
                <a:tc rowSpan="6"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7,47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1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0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New England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iddle Atlanti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9,37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5,0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4,45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Mountain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5,47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,72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0,20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Pacific 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3,95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12,61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26,57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46,29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37,55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  <a:ea typeface="宋体"/>
                        </a:rPr>
                        <a:t>$83,84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38" name="矩形 5"/>
          <p:cNvSpPr/>
          <p:nvPr/>
        </p:nvSpPr>
        <p:spPr>
          <a:xfrm>
            <a:off x="2941560" y="7000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umber of Respondents: 120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制表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制作汇总报表展现数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制表过程既有频数统计和常用描述统计的计算功能，又有很强的用表格展现数据的功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作图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形是展现数据的重要方法，图形的形象直观是数据报表无法替代的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/GRAP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具有强大的作图功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SAS/GRAP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软件可以展现图形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散点图及连线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地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P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三维图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 GRAPHIC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幻灯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XT SLIDES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章介绍制作图形的两个基本过程：作图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和图表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作图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高精度散点图及连线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作图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650600" y="200628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ANNOTAT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nnotate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GOUT=&l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MAGEMAP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UNIFORM&gt;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-request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LO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O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横轴变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行在前面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竖轴变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在后面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1612800" y="3137040"/>
          <a:ext cx="6991560" cy="155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137040"/>
                    <a:ext cx="699156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YMBO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600200" y="2145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图中线和符号的特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1612800" y="3149640"/>
          <a:ext cx="5191200" cy="23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149640"/>
                    <a:ext cx="519120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XI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87600" y="2184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XI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图形的轴的表现形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612800" y="3200400"/>
          <a:ext cx="67042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200400"/>
                    <a:ext cx="67042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简单泡沫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1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1" descr="gplot"/>
          <p:cNvPicPr/>
          <p:nvPr/>
        </p:nvPicPr>
        <p:blipFill>
          <a:blip r:embed="rId1"/>
          <a:stretch/>
        </p:blipFill>
        <p:spPr>
          <a:xfrm>
            <a:off x="1714680" y="1357200"/>
            <a:ext cx="527652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1523520" y="1142640"/>
            <a:ext cx="723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泡沫的大小和标签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2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um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7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lab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i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1" descr="gplot1"/>
          <p:cNvPicPr/>
          <p:nvPr/>
        </p:nvPicPr>
        <p:blipFill>
          <a:blip r:embed="rId1"/>
          <a:stretch/>
        </p:blipFill>
        <p:spPr>
          <a:xfrm>
            <a:off x="1762200" y="135720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制表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ABULAT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&lt;DESCENDING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NOTSORTED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LEV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=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element-nam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| &lt;PARENT&gt;&g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[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attribute-specifica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]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LABEL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-1='description-1'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-n='description-n'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=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element-nam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| &lt;PARENT&gt;&g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[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-attribute-specifica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]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&lt;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age-expressio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ow-expression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olumn-expression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-option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analysis-variable(s)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523520" y="13716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.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右侧加一垂直轴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jobs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j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en=dollars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ember Profi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aries and Number of Member Engine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3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599840" y="107928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jobs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um ye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9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llars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lab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i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ubb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en*eng=nu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0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50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1" descr="gplot2"/>
          <p:cNvPicPr/>
          <p:nvPr/>
        </p:nvPicPr>
        <p:blipFill>
          <a:blip r:embed="rId1"/>
          <a:stretch/>
        </p:blipFill>
        <p:spPr>
          <a:xfrm>
            <a:off x="1905120" y="12812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785520" y="213840"/>
            <a:ext cx="6643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连接图形的观测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reset=global gunit=pct border cback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ors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title=swissb ftext=swiss htitle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 htext=4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1 'Dow Jones Yearly Highs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1 h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 j=l ' Source: 1997 World Almanac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j=r 'GR21N05 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1 color=red  interpol=join value=dot 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 data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lot high*year / haxi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955 to 1995 by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xi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o 6000 by 1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re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000 3000 50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vref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vref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xis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text=re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ui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gplot3"/>
          <p:cNvPicPr/>
          <p:nvPr/>
        </p:nvPicPr>
        <p:blipFill>
          <a:blip r:embed="rId1"/>
          <a:stretch/>
        </p:blipFill>
        <p:spPr>
          <a:xfrm>
            <a:off x="1619280" y="12812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1447920" y="1219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4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1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叠加图形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ow Jones Yearly Highs and Low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l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ource: 1997 World Almanac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21N06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pol=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marker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pol=joi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600200" y="110448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99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j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ymbol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top center insid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har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igh*year low*year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verl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r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vr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gplot4"/>
          <p:cNvPicPr/>
          <p:nvPr/>
        </p:nvPicPr>
        <p:blipFill>
          <a:blip r:embed="rId1"/>
          <a:stretch/>
        </p:blipFill>
        <p:spPr>
          <a:xfrm>
            <a:off x="1785960" y="121428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285920" y="85680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1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填充图形下面的区域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reset=global gunit=pct border cback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ors=(blue red) ctext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title=swissb ftext=swiss htitle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 htext=4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1 'Dow Jones Yearly Highs and Lows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1 h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3 j=l ' Source: 1997 World Almanac' j=r 'GR21N07 '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ymbol1 interpol=joi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xis1 order=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955 to 1995 by 5) offset=(2,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j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n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xis2 order=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 to 6000 by 1000) offset=(0,0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=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j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nor=(height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1285920" y="85680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接上页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plot data=ResDat.dji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lot low*year high*year / overl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axis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xis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minor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xis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reas=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ui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523520" y="1676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98" name="Object 2"/>
          <p:cNvGraphicFramePr/>
          <p:nvPr/>
        </p:nvGraphicFramePr>
        <p:xfrm>
          <a:off x="1562040" y="2286000"/>
          <a:ext cx="6826320" cy="30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286000"/>
                    <a:ext cx="68263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gplot5"/>
          <p:cNvPicPr/>
          <p:nvPr/>
        </p:nvPicPr>
        <p:blipFill>
          <a:blip r:embed="rId1"/>
          <a:stretch/>
        </p:blipFill>
        <p:spPr>
          <a:xfrm>
            <a:off x="2000160" y="14288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1"/>
          <p:cNvSpPr/>
          <p:nvPr/>
        </p:nvSpPr>
        <p:spPr>
          <a:xfrm>
            <a:off x="1571760" y="857160"/>
            <a:ext cx="6429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2.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同刻度值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blue green red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verage Monthly Temperature for Minneapoli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Source: 1984 American Expres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          Appointment Book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21N09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p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eed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t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p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A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EB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A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P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A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UN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JU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UG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P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OC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OV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C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1357200" y="1000080"/>
            <a:ext cx="607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gre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ust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 Centigrad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egrees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ustif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f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ahrenhei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pl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minntemp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2*month 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2*month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gplot6"/>
          <p:cNvPicPr/>
          <p:nvPr/>
        </p:nvPicPr>
        <p:blipFill>
          <a:blip r:embed="rId1"/>
          <a:stretch/>
        </p:blipFill>
        <p:spPr>
          <a:xfrm>
            <a:off x="1571760" y="135720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1"/>
          <p:cNvSpPr/>
          <p:nvPr/>
        </p:nvSpPr>
        <p:spPr>
          <a:xfrm>
            <a:off x="1143000" y="1000080"/>
            <a:ext cx="66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回归结果作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从锐思数据库下载股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006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月持有期收益：股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收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持有期收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——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月收益，选择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006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股票并下载生成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s_sas.Monret_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计算超额收益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600603_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_sas.Monret_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00603=Monret-MonRfR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_m=Mretmc-MonRfRe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回归与作图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600603_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600603=r_m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1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  l95=l  u95=u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m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兴业房产股票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1"/>
          <p:cNvSpPr/>
          <p:nvPr/>
        </p:nvSpPr>
        <p:spPr>
          <a:xfrm>
            <a:off x="1357200" y="671400"/>
            <a:ext cx="5500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1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_ou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data(keep=y_value pt_type r_m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_ou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_type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Observation Typ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var(</a:t>
            </a:r>
            <a:r>
              <a:rPr b="1" lang="pt-BR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600603  p  l u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label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ua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Predicted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Lower Limi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Upper Limi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_value=regvar(i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_type=varlabel(i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1"/>
          <p:cNvSpPr/>
          <p:nvPr/>
        </p:nvSpPr>
        <p:spPr>
          <a:xfrm>
            <a:off x="1357200" y="928800"/>
            <a:ext cx="64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接上页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pl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gdat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_value*r_m=pt_typ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min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*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green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bol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1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0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r600603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MSUN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实际值和预测值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MSUN 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带有上、下置信限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" descr="reg"/>
          <p:cNvPicPr/>
          <p:nvPr/>
        </p:nvPicPr>
        <p:blipFill>
          <a:blip r:embed="rId1"/>
          <a:stretch/>
        </p:blipFill>
        <p:spPr>
          <a:xfrm>
            <a:off x="1714680" y="1285920"/>
            <a:ext cx="5495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图表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71360" y="185688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高精度图表。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制作二维或三维的柱状图和饼图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图表过程句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CHA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&lt;ANNOTATE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nnotate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GOUT=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&g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IMAGEMAP=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data-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LOCK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BAR | HBAR3D | VBAR | VBAR3D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IE | PIE3D | DON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A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/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现的是数据的汇总信息，即在某种分类下分析变量的某些统计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12189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图形类别及相关统计量数值的表示方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2" name="Object 2"/>
          <p:cNvGraphicFramePr/>
          <p:nvPr/>
        </p:nvGraphicFramePr>
        <p:xfrm>
          <a:off x="708120" y="2000160"/>
          <a:ext cx="804060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000160"/>
                    <a:ext cx="80406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TAB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&lt;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ge-expressi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w-expressi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lumn-expression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/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-option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没有一个缺省的报表格式，所有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UL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输出报表时，必须先对报表的进行布局设计。报表布局设计要用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非常复杂，这里我们通过例子来说明一些选项的使用方法 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分类变量及类别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类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t-variable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也称为作图变量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根据它的值将数据分成若干类，然后分别对柱或角来表示分析变量在某一类中的汇总结果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分类变量确定类别的方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6" name="Object 2"/>
          <p:cNvGraphicFramePr/>
          <p:nvPr/>
        </p:nvGraphicFramePr>
        <p:xfrm>
          <a:off x="1638360" y="3772080"/>
          <a:ext cx="718164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3772080"/>
                    <a:ext cx="718164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428840" y="1214280"/>
            <a:ext cx="7238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还提供不同的选项允许按不同的要求进行分类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不提供分析变量时，作图时使用的缺省统计量是频数，指明分析变量时使用的缺省统计量是总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为了控制柱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饼的角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排列顺序和用数值变量分类时类的个数。可以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GCHA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与分类变量有关的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与分类变量有关的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9" name="Object 2"/>
          <p:cNvGraphicFramePr/>
          <p:nvPr/>
        </p:nvGraphicFramePr>
        <p:xfrm>
          <a:off x="1428840" y="4000680"/>
          <a:ext cx="705492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000680"/>
                    <a:ext cx="7054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1642680" y="114300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类变量选项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v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/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10000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 / mindpoint=’BJ’ ‘SH’ ‘GZ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择分析变量和统计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14280" y="2057400"/>
            <a:ext cx="73584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择分析变量时，缺省使用每个类的观测频数为输出统计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择分析变量和统计量的选项有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VAR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分析变量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YPE=FREQ|CFREQ|PERCENT|CPERCENT|MEAN|SU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别设定统计量为频数、累积频数、百分比、累积百分比、均值或总和。没有规定分析变量时，缺省统计量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分析变量时，缺省统计量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统计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必须规定分析变量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071720" y="4857840"/>
            <a:ext cx="6929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分析变量和统计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h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city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sale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0008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2.2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总和统计量柱形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242424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98" name="Picture 1" descr="1st"/>
          <p:cNvPicPr/>
          <p:nvPr/>
        </p:nvPicPr>
        <p:blipFill>
          <a:blip r:embed="rId1"/>
          <a:stretch/>
        </p:blipFill>
        <p:spPr>
          <a:xfrm>
            <a:off x="4714920" y="3049560"/>
            <a:ext cx="39290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928800" y="9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柱形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verage Sales by Departmen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2 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Quarter: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middle left outsid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otec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000080" y="11426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uarter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om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'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p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'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ea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d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ydne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tlanta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quart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headi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x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1" name="Picture 1" descr="2nd"/>
          <p:cNvPicPr/>
          <p:nvPr/>
        </p:nvPicPr>
        <p:blipFill>
          <a:blip r:embed="rId1"/>
          <a:stretch/>
        </p:blipFill>
        <p:spPr>
          <a:xfrm>
            <a:off x="4714920" y="2714760"/>
            <a:ext cx="418464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Box 3"/>
          <p:cNvSpPr/>
          <p:nvPr/>
        </p:nvSpPr>
        <p:spPr>
          <a:xfrm>
            <a:off x="1071720" y="11430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总和统计量柱形图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red blue green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tal Sal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3(a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l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3(b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bar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[IMAGE]"/>
          <p:cNvPicPr/>
          <p:nvPr/>
        </p:nvPicPr>
        <p:blipFill>
          <a:blip r:embed="rId1"/>
          <a:stretch/>
        </p:blipFill>
        <p:spPr>
          <a:xfrm>
            <a:off x="2643120" y="142920"/>
            <a:ext cx="4334040" cy="31050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3" descr="[IMAGE]"/>
          <p:cNvPicPr/>
          <p:nvPr/>
        </p:nvPicPr>
        <p:blipFill>
          <a:blip r:embed="rId2"/>
          <a:stretch/>
        </p:blipFill>
        <p:spPr>
          <a:xfrm>
            <a:off x="2643120" y="3286080"/>
            <a:ext cx="43340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1213920" y="642600"/>
            <a:ext cx="7239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2.2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子组垂直柱形图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ack red green blue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ha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 by Sit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4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r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56840" y="1213920"/>
            <a:ext cx="7572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二维报表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fm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orthea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outh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idwest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Wes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fm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New England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iddle Atlantic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ountain'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acific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usetyp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esidential Customers‘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Business Customers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143000" y="57132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接上页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ip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cya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atter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i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quarter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oman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bar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pc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xis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fr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ra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7" name="Picture 1" descr="5th"/>
          <p:cNvPicPr/>
          <p:nvPr/>
        </p:nvPicPr>
        <p:blipFill>
          <a:blip r:embed="rId1"/>
          <a:stretch/>
        </p:blipFill>
        <p:spPr>
          <a:xfrm>
            <a:off x="4049640" y="2643120"/>
            <a:ext cx="462780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3"/>
          <p:cNvSpPr/>
          <p:nvPr/>
        </p:nvSpPr>
        <p:spPr>
          <a:xfrm>
            <a:off x="1357200" y="785880"/>
            <a:ext cx="578664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2.2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控制水平柱形图中点和统计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lack 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itness Program Participant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5(a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umber of Peop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ome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e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ya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tern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fi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to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p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xis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6tha"/>
          <p:cNvPicPr/>
          <p:nvPr/>
        </p:nvPicPr>
        <p:blipFill>
          <a:blip r:embed="rId1"/>
          <a:stretch/>
        </p:blipFill>
        <p:spPr>
          <a:xfrm>
            <a:off x="1857240" y="1357200"/>
            <a:ext cx="5248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3"/>
          <p:cNvSpPr/>
          <p:nvPr/>
        </p:nvSpPr>
        <p:spPr>
          <a:xfrm>
            <a:off x="1357200" y="857160"/>
            <a:ext cx="614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接上页程序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13N05(b)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umber of Peopl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i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Group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bar3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/ midpoints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label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tal in Group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roup=ag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s=axis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xis=axis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end=legend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line=bla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6thb"/>
          <p:cNvPicPr/>
          <p:nvPr/>
        </p:nvPicPr>
        <p:blipFill>
          <a:blip r:embed="rId1"/>
          <a:stretch/>
        </p:blipFill>
        <p:spPr>
          <a:xfrm>
            <a:off x="1785960" y="1214280"/>
            <a:ext cx="5248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071360" y="1142640"/>
            <a:ext cx="73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.2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总和统计量饼图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globa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pc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8(a)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r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8(b)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ie3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xpl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ari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13" name="Picture 4" descr="[IMAGE]"/>
          <p:cNvPicPr/>
          <p:nvPr/>
        </p:nvPicPr>
        <p:blipFill>
          <a:blip r:embed="rId1"/>
          <a:stretch/>
        </p:blipFill>
        <p:spPr>
          <a:xfrm>
            <a:off x="5786280" y="1785960"/>
            <a:ext cx="3027600" cy="21607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[IMAGE]"/>
          <p:cNvPicPr/>
          <p:nvPr/>
        </p:nvPicPr>
        <p:blipFill>
          <a:blip r:embed="rId2"/>
          <a:stretch/>
        </p:blipFill>
        <p:spPr>
          <a:xfrm>
            <a:off x="4419720" y="4178160"/>
            <a:ext cx="30272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1143000" y="856800"/>
            <a:ext cx="69292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.3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圆环图或饼图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hit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blue green red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Sales by Site and Departme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GR13N09 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cr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h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1143000" y="107172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页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cha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total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le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n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ite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m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sal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ub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nutp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ll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just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Quarters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head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g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legend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u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ac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gchart2"/>
          <p:cNvPicPr/>
          <p:nvPr/>
        </p:nvPicPr>
        <p:blipFill>
          <a:blip r:embed="rId1"/>
          <a:stretch/>
        </p:blipFill>
        <p:spPr>
          <a:xfrm>
            <a:off x="2071800" y="142884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72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tabula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energ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division typ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enditu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*division, type*expenditures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g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vision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ivfm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usetyp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Energy Expenditures for Each Reg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(millions of dollars)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928800" y="1000080"/>
          <a:ext cx="7929360" cy="4576680"/>
        </p:xfrm>
        <a:graphic>
          <a:graphicData uri="http://schemas.openxmlformats.org/drawingml/2006/table">
            <a:tbl>
              <a:tblPr/>
              <a:tblGrid>
                <a:gridCol w="2536560"/>
                <a:gridCol w="2421000"/>
                <a:gridCol w="1543320"/>
                <a:gridCol w="1428480"/>
              </a:tblGrid>
              <a:tr h="500760">
                <a:tc gridSpan="4">
                  <a:txBody>
                    <a:bodyPr lIns="6840" rIns="6840" tIns="6840" bIns="6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ergy Expenditures for Each 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(millions of dollar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2" rowSpan="4"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2288"/>
                          </a:solidFill>
                          <a:latin typeface="宋体"/>
                          <a:ea typeface="黑体"/>
                        </a:rPr>
                        <a:t> 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sidential Customer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usiness Customers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82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xpenditur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7,47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1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ew England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iddle Atlantic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9,37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5,07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3800">
                <a:tc rowSpan="2"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Wes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ountain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5,4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4,72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acific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3,95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880" rIns="47880" tIns="47880" bIns="478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$12,61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7880" marR="4788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9:25:43Z</dcterms:modified>
  <cp:revision>473</cp:revision>
  <dc:subject/>
  <dc:title>第1章 SAS软件入门</dc:title>
</cp:coreProperties>
</file>