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08D7-6A79-468D-BC21-0D2ED4A616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627C-8795-4F90-947C-EEC2F858E9D6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7F0-98B7-4445-99E0-8EB00247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DEF-21BD-43DD-AA0C-6FCF1772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B43E6-0D98-4665-A0A7-883F90BD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F52B8-35D4-4475-A7F6-5427D36D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5353B-9E4D-4FBB-A517-66ECECF9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DEC0C-D49A-44F5-AA54-931E4BF9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40F69-2594-4C2E-BECC-0F60C55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F5C38-4AFC-4F94-BBDC-9A6D4B5F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18ABB-74C5-464A-A7B5-E2AA4FD9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EB973-3221-47C1-B11E-BC329237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DC72E-9442-4724-B723-310CFC16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E4CF5-6C39-4D27-B589-8BEC8736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620-34A3-41AC-A704-9E768AE5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CFFD9-71E9-4EEE-8F6C-F5470476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A5005-D1CD-461D-BE28-90FE58D7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C6993-CB9E-44DC-8312-DF6C912B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029C0-0B55-4ED6-B8E8-A87810FC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8F427-69C2-40BE-AC61-A69D5D90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E6DCD-5531-44C6-BC4E-20042A63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0CEEA-B4BE-4751-94AA-8073276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BDD9B-A9F3-4A63-951A-5BB7E744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02C21-AF89-45A9-AFA8-BDBB4F7A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19146-B58B-4880-9E9C-75A80B31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498-49EE-4A7B-9F75-0F305191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72B5A-E54D-4787-ACBB-DF404A79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91F71-F1DD-4237-833D-578F1F38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A13A8-CE1A-4959-9FEC-E8225706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FA193-2976-4048-87F3-47A787DA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E51BA-2320-4E6F-8308-C3171774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EA0EB-F988-46F6-99B6-18632275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FFFA2-93AA-461C-9093-B2DF3900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30DCA-C14B-4D75-AD7C-0841892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9B1D0-7DBA-4CDE-A3A8-F3AB9E4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AF6BF-F642-4D06-B8AF-7AD99F53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B633-9C7B-4233-A534-DDC517A0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1A7A6-8505-41A0-BBB2-AB43962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A8F47-1269-4552-9D12-0078BA02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F92F3-0B7A-4086-AF23-E78124B2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9D3C7-4EAA-4468-B064-D2310A19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1BCB1-F976-453B-A49E-7F95C9BD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6B3B8-9452-4C11-84E8-9F514645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35153-34D1-4FBA-8D85-2C6B7ADD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C73D2-6A03-4492-9187-3F469D66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C15BF-5DF6-4EFE-9F1E-6115D6F3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ED6B2-44B7-4A48-9315-CF6F356F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A7E1-97AE-4D20-855C-E5617004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10982-50BE-49CA-A12B-52B902D2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3ACFA-20BF-40DB-A394-3B93793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B84D6-5BF8-424A-B84B-939413EF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F2BF8-B64D-4F2A-9044-BE31F5A0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89365-52E4-4409-A401-1C85C2C9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01D05-C819-4931-ACEA-7F4B7205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1EA4D-4140-442C-806C-4C937A9B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349D1-0F1E-4C77-8E26-B626DFE4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F154A-B715-4144-A34F-3556AC3F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926C5-ED77-4C05-9692-325DEC63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8A0A-77A0-4A9D-901F-A8CD8CB0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83C82-C0DE-4AA4-9DE3-327FDD9B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CA2B9-0209-4691-87F6-4F92D190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574D9-1B42-43BC-B092-2172AFB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721F7-CECC-4FF2-BF7B-FCB4C9F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3B0CF-7AB7-40D6-BC6B-F789B0E4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B849A-C5F4-4E53-B8A4-C5A61D1F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50D43-0883-416F-A463-7F0E7DB4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7DDBE-4752-4829-87A0-BE423717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8EF76-A682-4073-A570-DABDB9CF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7299D-CFB3-46B1-BD9D-3521F180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AF63-5591-4490-842B-C217D9C4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53985-50C1-428B-AE3C-2DED92E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DA739-A1E5-49E1-82EA-81DDA837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C3F10-0C38-4B1C-8126-14B7C760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D2081-0F64-45E0-818C-E0E13A99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29267-AA7E-471B-9059-38616C4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F4B5C-1A19-40AE-AF85-7273178D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5FF04-7896-438D-8DF0-F02345AD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CCA9B-0AD1-436D-A288-2311BCC0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39337-8D52-40DA-9615-0DEFE715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97A2-ABB6-4014-96AB-7B32BFD6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9188-07CB-443E-859A-5C0DB53D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8073-4607-42E1-89FF-B481A04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CE0-BB45-4BD5-B54F-EF52A939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4449-736B-4CB3-A17E-F1CB360A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9CC-0523-4132-BF18-983EC827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7A00-A991-49E9-B103-23AD2B72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8139-8CB7-405F-8577-137F01A9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6F64-F76D-481D-A289-72E6082C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E1A1-FEEA-4B91-9295-B5256C8D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1BA1-9EF8-4709-9210-9623CE3A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132E-B12D-4C60-BA5D-E2F28BBD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D733-65D6-459E-B76F-9A8E95F6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7E5A-0B28-4709-8459-53512EC1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A9A-CE13-40B7-9F5A-392EE0C3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51E44-2382-48E2-9DE9-38B6AA48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BC21-2BB2-4420-B018-94C9ED84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0D06-2E00-4ECE-A9BC-AA078452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9D5B-9E82-4428-AE8F-3971F32E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F412-3C85-41E5-B4D2-F3DEB2B1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9E21-1395-450C-97C2-FE255034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1D02-2A33-4543-8607-CB53D92B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913E-2379-4EE7-B459-67964232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A3EF-4FDF-409A-B0A5-638F8211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2EF9-A27E-490A-8F69-E78C179D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33E-804B-415B-89FB-6605D22D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DC9C-31BD-45A1-945C-FDB210D4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D5CDF-9ED2-4D6A-8324-685786B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0469-747B-4332-A57B-51EC1DF6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7F43-43BA-4C82-972E-95C0170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2C242-89FE-4B52-ADA8-52DCC684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4C98-B90A-480C-97AD-E54FB982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6567-8504-4829-BF3C-86AF0E2C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B49A4-6C85-4BA2-B685-B8476DAB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8476-496F-4F8B-825F-44DDA7E8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3712-36F8-43E1-A7F8-1C7524E3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D7F-FCFF-4087-96F3-1378DB4F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F432-1AFE-4D2B-887F-BA1B91CE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DCCC-1C57-44E9-8134-A9032F4B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4DF81-5B25-4928-BDC7-7B0EE4F3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7B811-7AA3-4625-9088-1827FB5B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3BFBF-D0AD-469F-9B2F-55F42437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9CE2-DBB8-4864-8BA9-A001B681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CB6B-54B6-4AFB-89F2-2CC03696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8803D-D410-4D9F-94B7-2004762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A1D35-B268-4CF7-B184-F086575E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2864-AD84-42F8-9599-D028CE4B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3BF-D5FC-4F16-B7F7-430D0038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AFA2D-B0CC-4AC3-A248-46F3A30F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CB4ED-17AC-4CCF-9A79-5F97B090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45400-23DC-4BB9-91C8-99DBEC3E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BC072-B1A2-4CC2-B0D7-0D026EED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0D196-6032-46DF-B2B6-EF87B0B3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CC212-09B0-4D50-9020-AEDDEACF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4F0A3-4EEC-4FAA-A07B-2556EBC4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5523-D47D-427A-BFDB-80999240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099CB-BAB0-4C70-9E8D-3F17C534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BA389-82B4-4BD5-B1F1-A4F1D31C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0E1-E98B-4418-A4E6-0DD7F04C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91F29-42C8-4FC0-AD50-CCBE67BF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ADCA6-1E7A-4425-8DE5-1A145C05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47F6D-FAA3-4CB8-98B7-79FB150E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73683-5FC4-4FA5-86F1-2A8772CC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A1EF6-C35A-4392-B04C-A77F7918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A3A5D-98F8-427A-949C-CF9E38F7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52DBD-029C-4389-B80B-1BF7B1C8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66D71-5597-4670-B611-4EFDDA7C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196CE-F005-43C7-AC9F-875D3C1B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2CDE1-0A70-40B7-9065-AFD5CC7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F19-BAA7-4E68-AF6E-2C873977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BAE2-379E-40F0-9C06-93E6DD96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ED023-31ED-4B0D-AB84-A4079D0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5E1E0-E79D-46D6-8F9C-F4C7455B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D8EB1-DA84-4BB6-9897-3379DCE9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5E62-21EF-413B-B28B-74ED0113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B78BC-29CC-4018-9113-D4011B6A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DEA26-B95E-4D7E-B28A-26C2044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CE5EF-E6AC-43E1-A23D-C644AABF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AB55-AF7F-4039-9125-FD730AA7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859C5-1E2D-4493-A98E-7F605386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AA3-82DF-4D18-8A9C-9C89C74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263A4-BB9B-429C-A6BF-505E0222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E3667-F48C-4839-B9F9-00756B78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27CAC-E035-45E2-94B3-7D312C9E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D1B8F-E0BD-44D8-AAE9-57789516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41EDA-69D3-44B7-8DF5-D15BAD72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4B38E-CCBE-4AB3-9700-D2D9DCFE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A44DE-4586-4D13-BB29-54627119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48F99-A462-4D26-8795-33491BAA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6E595-5EFB-401F-BA41-83946432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F2B60-D63D-4211-862F-1D4F89DA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7A6C-E365-417D-9F8B-C092DD9DB4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4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1D5D-48FC-415C-8F28-1026B8F9FD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D3BD-8382-4076-B25C-8015D15773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9B60-2FA0-4B32-B383-ECE1F65D26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7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8881-FD74-4F6D-8CC6-DF3A4C61F4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CDDA-93F8-42A0-92D1-F745E458E1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6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7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A819-4FE3-4344-81D4-E3FBF5D3BA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DA6B-5F2C-42C2-A7C5-32FB48B952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1237-4933-4908-B3AC-1BF8DA5343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2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5946-36D0-4231-8725-2E07C857A4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05D4-C431-4B70-9BCF-FEFCCB739C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BD9-9CE6-4301-812C-FE50B6285A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5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807-443D-482B-A4D8-7BF68C2A5B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1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统计量计算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1071360" y="990360"/>
            <a:ext cx="761508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2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并输出相关指标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ears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spearm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kend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hoeffd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clpr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Spearman 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的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rho, Kendall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的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tau-b, Pearson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和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Hoeffding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相关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ssc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arti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偏相关阵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alph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corrou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协方差阵和相关阵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=corrou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PROC CORR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产生的输出数据集</a:t>
            </a:r>
            <a:r>
              <a:rPr b="0" lang="zh-CN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计算上证指数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中变量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OPPR,  HIPR, LOPR, CLPR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之间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种类型的关联测度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,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EARSON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偏相关阵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RONBACH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系数并产生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TYPE=CORR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的含有协方差及相关阵的输出数据集。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713880" y="1143000"/>
            <a:ext cx="7929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两个数据集中相同变量之间的相关系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数据集准备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(keep=date oppr clpr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Idx399001(keep=date oppr clpr rename=(oppr=oppr_sz clpr=clpr_sz) 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mi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_sz clpr_s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clp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长方形的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COV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CORR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阵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ssc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oup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从含有缺失值的数据集中计算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CSSCP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COV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对上证指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深证成指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3990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变量开盘价和收盘价作相应的计算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999720" y="714240"/>
            <a:ext cx="6929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1.4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偏相关系数到一个数据集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20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fitnes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pearm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kend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osi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fitcor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 oxygen runtim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ar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g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=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Age of subject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ight =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Wt in kg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untime = </a:t>
            </a:r>
            <a:r>
              <a:rPr b="0" lang="it-IT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1.5 mi in minutes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=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O2 use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Partial Correlations for a Fitness and Exercise Study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频数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频数过程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用于计算各种形式的频数及一些检验统计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13920" y="1928520"/>
            <a:ext cx="7239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频数过程句法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43000" y="264312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REQ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optio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UT= SAS-data-set&gt;&lt;output-statistic-lis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equests / optio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XACT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atistic-keyword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1600200" y="17521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7" name="Object 2"/>
          <p:cNvGraphicFramePr/>
          <p:nvPr/>
        </p:nvGraphicFramePr>
        <p:xfrm>
          <a:off x="1357200" y="2643120"/>
          <a:ext cx="7309080" cy="18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2643120"/>
                    <a:ext cx="730908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FREQ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28440" y="2133360"/>
            <a:ext cx="79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REQ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;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1357200" y="3425760"/>
          <a:ext cx="7194600" cy="17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425760"/>
                    <a:ext cx="719460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1472760" y="19047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RDER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及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04" name="Object 2"/>
          <p:cNvGraphicFramePr/>
          <p:nvPr/>
        </p:nvGraphicFramePr>
        <p:xfrm>
          <a:off x="1476360" y="2492280"/>
          <a:ext cx="7129440" cy="13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92280"/>
                    <a:ext cx="71294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1285920" y="1071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ORMCHAR(1,2,7)= '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符号串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'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垂直线字符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水平线字符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水平与垂直交叉线字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通常情况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ORMCHAR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CHAR(1,2,7)= '| - +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格没有轮廓线和分隔线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ORMCHAR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CHAR(1,2,7)= '    ' ;  /*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三个空格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/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按格式化值的顺序排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sfm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' =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l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 ' =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emale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ormatt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s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分布，并以格式化值的顺序排列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00080" y="207144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相关过程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频数过程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均值过程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单变量过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1332000" y="1916280"/>
            <a:ext cx="61196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REQ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过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                          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累积       累积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ex      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频数      百分比       频数      百分比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--------------------------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emale           9     47.37            9     47.3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male            10     52.63           19    100.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WEIGH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57040" y="1781280"/>
            <a:ext cx="662940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规定一个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它的值表示相应观测的权数。该变量的值应大于零。若这个值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，假定该值为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BY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定义的观测组分别计算其相应的简单统计量。当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要求输入数据集已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的次序排列，除非指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NOTSORTED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UTPU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00080" y="1714680"/>
            <a:ext cx="67816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OUT= SAS-data-set&gt;&lt;output-statistic-lis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创建一个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输出统计量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的数集可以包括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的任意统计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每一次只允许使用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当规定多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创建的数据集内容对应于最后那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当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BL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规定多个表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的数据集内容对应于最后那个表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statistic-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所包含的统计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随机数频数分析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int(uniform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88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+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int(uniform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888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+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a(drop=i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没有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TABLES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语句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x*y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his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*y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Text Box 4"/>
          <p:cNvSpPr/>
          <p:nvPr/>
        </p:nvSpPr>
        <p:spPr>
          <a:xfrm>
            <a:off x="4429080" y="5072040"/>
            <a:ext cx="38052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中，产生区间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[0, 1]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上均匀分布的随机数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1000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，分别将区间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[0, 1]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均分成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小区间，并把产生的随机数按所属区间转换为整数。然后对这些整数作频数分析。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ne-Wa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频率表作卡方检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olo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olor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at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un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air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c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est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Hair Color of European Childr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包含卡方统计量的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olor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at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un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yes*hair 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his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xp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ellchi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c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chisqd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r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mi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Chi-Square Tests for 3 by 5 Table of Eye and Hair Colo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chisqd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Chi-Square Statistics for Eye and Hair Colo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Output Data Set from the FREQ Procedur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42960" y="12139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均值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78168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均值过程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用于计算变量的基本描述统计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71720" y="9284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均值过程句法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500120" y="1499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(s)&gt; &lt;statistic-keyword(s)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ESCENDING&gt; variable-1 &lt;... &lt;DESCENDING&gt; variable-n&g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TSORTED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 &lt;/ option(s)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UT=SAS-data-set&gt; &lt;output-statistic-specification(s)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id-group-specification(s)&gt; &lt;maximum-id-specification(s)&gt;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&lt;minimum-id-specification(s)&gt; &lt;/ option(s)&gt; 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YPE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equest(s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 &lt; / WEIGHT=weight-variable&gt;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AY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list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说明：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25" name="Object 2"/>
          <p:cNvGraphicFramePr/>
          <p:nvPr/>
        </p:nvGraphicFramePr>
        <p:xfrm>
          <a:off x="1143000" y="2209680"/>
          <a:ext cx="746748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46748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相关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22000" y="19173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相关过程（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R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于计算变量间的相关系数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相关过程句法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CORR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ESCENDING&gt; variable-1&lt;...&lt;DESCENDING&gt; variable-n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TSORTED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REQ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requency-variabl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ARTIAL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weight-variabl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ITH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MEAN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85920" y="1980720"/>
            <a:ext cx="747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-list&gt; &lt;statistic-keyword-list&gt;;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ption-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0" y="251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1476360" y="3213000"/>
          <a:ext cx="6408720" cy="2279880"/>
        </p:xfrm>
        <a:graphic>
          <a:graphicData uri="http://schemas.openxmlformats.org/drawingml/2006/table">
            <a:tbl>
              <a:tblPr/>
              <a:tblGrid>
                <a:gridCol w="1655640"/>
                <a:gridCol w="4753080"/>
              </a:tblGrid>
              <a:tr h="34668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LPHA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规定置信区间的显著水平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输入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PRIN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不输出任何描述统计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把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ASS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变量的缺失值作为有效分组值处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ESCENDIN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08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输出数据集是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_TYPE_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值降序（缺省是上升）排列，选择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WAY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时该选项无效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RDER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及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DEF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及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32" name="Object 2"/>
          <p:cNvGraphicFramePr/>
          <p:nvPr/>
        </p:nvGraphicFramePr>
        <p:xfrm>
          <a:off x="1371600" y="2286000"/>
          <a:ext cx="5715000" cy="113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5715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Object 3"/>
          <p:cNvGraphicFramePr/>
          <p:nvPr/>
        </p:nvGraphicFramePr>
        <p:xfrm>
          <a:off x="1500120" y="4357800"/>
          <a:ext cx="5643720" cy="119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4357800"/>
                    <a:ext cx="56437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285920" y="132840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tatistic-keyword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就是均值过程可以计算的描述统计量。规定的关键词可以分为三类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描述统计量关键词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分位数关键词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假设检验关键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7628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574280" y="20570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要求计算简单描述统计量的数值变量及次序。缺省时指输入数据集中除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列出的变量之外所有数值变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定义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分别计算其相应的简单统计量。当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要求输入数据集已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的次序排列，除非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TSORTE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样，定义的观测组并分别计算观测组的描述统计量。不同点是在排序要求及输出格式上的不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不要求输入数据集事先已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一起使用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指定一个数值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它的值表示输入数据集中相应观测出现的频数。该变量的值应为正整数。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时，相应的观测不参加计算，若这个值不是正整数，取整数部分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1071360" y="1142640"/>
            <a:ext cx="7086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规定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其值表示相应观测的权数。该变量的值应大于零。当这个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时，假定该值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产生的输出数据集增加一个或几个附加变量，用于识别输出数据集里的观测。在输出数据集里，某个观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规定为生成这个观测的数据集中相应观测组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具有的最大值，除非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选项中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MI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有两个以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这个最大值的选择是对输入数据集的相应观测组中的每个观测，这些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组合成一个值的最大值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919080" y="1213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OUTPUT</a:t>
            </a:r>
            <a:r>
              <a:rPr b="1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OUT= SAS-data-set&gt; &lt;output-statistic-list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MINID|MAXID &lt;(var-1&lt;(id-list-1)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var-n&lt;(id-list-n)&gt;&gt;)&gt;=name-lis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要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把计算的描述统计量输出到新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里，并用任选项规定新数据集的名字及所包含变量的名字列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组求均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um_ag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1213920" y="1142640"/>
            <a:ext cx="7239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特定的描述统计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ak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esentScore TasteScore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ummary of Presentation and Taste Scor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时的描述统计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d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d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 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) status*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inal Exam Grades for Student Status and Year of Gradua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071720" y="1114200"/>
            <a:ext cx="723888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一起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d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radeBySect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ct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radeBySectio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ct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 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inal Exam Scores for Student Status and Year of Gradua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Within Each Sec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78" name="Object 2"/>
          <p:cNvGraphicFramePr/>
          <p:nvPr/>
        </p:nvGraphicFramePr>
        <p:xfrm>
          <a:off x="1403280" y="2643120"/>
          <a:ext cx="678816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43120"/>
                    <a:ext cx="678816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1371600" y="1676160"/>
            <a:ext cx="723888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8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输出统计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d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 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inalgrad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umst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verageGrad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score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name)=BestScore) 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a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ve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umst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verage Undergraduate and Graduate Course Grad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or Two Year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72392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输出统计量判别极端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harit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hool Yea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eyRaised HoursVolunteere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rize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MoneyRaised(nam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ursVolunteered(name))=MostCash MostTim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ummary of Volunteer Work by School and Ye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riz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est Results: Most Money Raised and Most Hours Worked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单变量过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单变量过程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NIVARIATE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除了能计算均值过程的基本统计量外，还可以实现的计算和功能有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稳健性估计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描述变量的分布图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频数表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多项检验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单变量过程句法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239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UNIVARIATE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ESCENDING&gt; variable-1 &lt;...&lt;DESCENDING&gt; variable-n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TSORTED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1&lt;(variable-option(s))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variable-2&lt;(variable-option(s))&gt;&gt; </a:t>
            </a:r>
            <a:br>
              <a:rPr sz="1800"/>
            </a:b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&lt;/ KEYLEVEL='value1'|('value1' 'value2'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HISTOGRAM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(s)&gt; &lt;/ 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(s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SE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keyword(s)&gt; &lt;/ 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UT=SAS-data-set&gt;statistic-keyword-1=name(s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 statistic-keyword-n=name(s)&gt; &lt;percentiles-specification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BPLO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(s)&gt; &lt;/ 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QQPLO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(s)&gt; &lt;/ option(s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(s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UNIVARIAT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600200" y="1777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UNIVARIATE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= SAS-datas-et &lt;option-lis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DEF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及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54" name="Object 2"/>
          <p:cNvGraphicFramePr/>
          <p:nvPr/>
        </p:nvGraphicFramePr>
        <p:xfrm>
          <a:off x="1600200" y="2577960"/>
          <a:ext cx="6162840" cy="21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77960"/>
                    <a:ext cx="616284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3"/>
          <p:cNvGraphicFramePr/>
          <p:nvPr/>
        </p:nvGraphicFramePr>
        <p:xfrm>
          <a:off x="1600200" y="5105520"/>
          <a:ext cx="4830840" cy="1181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105520"/>
                    <a:ext cx="48308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500120" y="192852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将要计算描述统计量的数值变量及次序。缺省时，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, CLASS, ID,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列出的变量之外所有数值变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定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计算统计量。当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要求输入数据集已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的次序排列，除非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TSORTE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指定一个数值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它的值表示输入数据集中相应观测出现的频数。该变量的值应为正整数。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，相应的观测不参加计算统计量，若这个值不是正整数，取整数部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其值表示相应观测的权数。该变量的值应大于零。若这个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，假定该值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NIVARI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产生的输出数据集增加一个或几个附加变量，目的在于识别输出数据集里的观测。在输出数据集里，某个观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规定为生成这个观测的数据集中相应观测。组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具有的最大值，除非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UNIVARI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选项中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MI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有两个以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这个最大值的选择是对输入数据集的相应观测组中的每个观测，这些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组合成一个值的最大值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OUT=&lt;OUT=SAS-data-set&gt;statistic-keyword-1=name(s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 statistic-keyword-n=name(s)&gt; &lt;percentiles-specificatio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要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NIVARI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把计算的描述统计量输出到新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里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统计量关键词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存放输出统计量的变量名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atistic-keyword-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就是单变量过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NIVARI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计算的描述统计量。规定的关键词可以分为四类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描述统计量关键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分位数关键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稳健估计量关键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假设检验关键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单变更量过程输出全部均值过程的描述统计量与分位数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单变量过程进行多变量分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atepop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itypop_90 citypop_8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nited States Census of Population and Housin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四舍五入单位并识别极端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atepop freq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extr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extr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itypop_9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gion st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nited States Census of Population and Housin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CORR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71720" y="242892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CORR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(s)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COR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选项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&gt;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说明由下页表给出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619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多变量时创建输出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core1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 test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testst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eanTest1 MeanTest2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tdDeviationTest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ctlp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3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9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ctlp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Test1_  Test2_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ctl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Low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testst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nivariate Statistics for Two College Test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Output Data Set from PROC UNIVARIAT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1523520" y="1219320"/>
            <a:ext cx="72392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拟合密度曲线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wiss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istrdat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_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Normal Random Variable'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onential_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Exponential Random Variabl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_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rannor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31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onential_x=ranexp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874636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1447920" y="17521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istrdat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rmal_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ist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rmal_x 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bar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rey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100 Obs Sampled from a Normal Distribu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univar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istrdat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xponential_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ist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yellow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dpo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.5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100 Obs Sampled from an Exponential Distributio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1000080" y="971640"/>
            <a:ext cx="7029360" cy="5600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" descr=""/>
          <p:cNvPicPr/>
          <p:nvPr/>
        </p:nvPicPr>
        <p:blipFill>
          <a:blip r:embed="rId1"/>
          <a:stretch/>
        </p:blipFill>
        <p:spPr>
          <a:xfrm>
            <a:off x="100008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43000" y="107136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116000" y="2205000"/>
          <a:ext cx="7242120" cy="3510000"/>
        </p:xfrm>
        <a:graphic>
          <a:graphicData uri="http://schemas.openxmlformats.org/drawingml/2006/table">
            <a:tbl>
              <a:tblPr/>
              <a:tblGrid>
                <a:gridCol w="2727360"/>
                <a:gridCol w="4514760"/>
              </a:tblGrid>
              <a:tr h="50184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LPHA      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输出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ronbach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系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OV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输出协方差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输入数据集名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PRIN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禁止打印输出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P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创建存放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earson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相关系数的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S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创建存放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pearman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相关系数的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EARSO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输出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earson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相关系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680" y="10717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99720" y="1980720"/>
            <a:ext cx="7915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VAR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列出要计算相关系数的变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WITH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ITH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联合使用计算变量间特殊组合的相关系数。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列出的变量放在相关阵的上方，而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ITH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列出的变量放在相关阵左边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PARTIAL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ARTIAL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earso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偏相关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pearma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偏秩序相关，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Kenda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au-b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给出偏相关变量的名子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928800" y="1123560"/>
            <a:ext cx="757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WEIGHT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加权的乘积矩相关系数，该语句给出权数变量名字。该语句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earso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皮尔逊）相关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FREQ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该语句指定一个数值型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，它的值表示输入数据集中相应观测出现的频数。该变量的值应为正整数。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REQ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值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缺失，相应的观测不参加计算统计量；若这个值不是正整数，取整数部分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BY</a:t>
            </a:r>
            <a:r>
              <a:rPr b="0" lang="zh-CN" sz="20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定义的观测组分别计算其相应的简单统计量。当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要求输入数据集已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排序的次序排列，除非指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TSORTE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71720" y="1856880"/>
            <a:ext cx="692928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earso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相关系数及其它关联测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co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fitne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ea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pearm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oeff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 oxygen runtim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easures of Association fo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 Physical Fitness Stud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1T05:41:19Z</dcterms:modified>
  <cp:revision>567</cp:revision>
  <dc:subject/>
  <dc:title>第1章 SAS软件入门</dc:title>
</cp:coreProperties>
</file>