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ABB7-838F-4952-B562-7E71AD70A2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5139-AD17-4AAD-B668-297E1C0A5DBC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917B-5E82-48EA-A5D6-8AB410CF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3A0-A7F6-4330-90B7-D00AB15E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FB403-EABB-421F-AD79-89C3732F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DED9D-C76E-41E4-9C78-56D7959B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B3714-AB57-467A-9AB5-8FDC1CC2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37289-0DD8-48F5-9511-1DD41748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7D8F4-9B1F-47B2-96ED-C650DFB9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5E60B-721C-4BEB-89B4-D2792EDA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F9E12-F578-4110-9364-D686BBAC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F739B-DCDD-44FD-AF68-8B6110B3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B501A-8282-4340-A6D9-CBBADF43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20ADD-3D5A-4693-9E75-174CDFB8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A10-93E4-4229-BE13-489DF880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DE013-B81B-4D35-8149-B0BA015C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A9999-C75B-499D-AAE9-E4E0F008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34B83-CE73-4503-B368-EF948752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CA466-9D86-4B00-AC8E-C9311756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36293-4201-4F4C-B6D7-73371FAC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CF9DB-949A-4CF0-9210-B7D85294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7CD75-8B77-4B0F-8D81-7835CA30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76697-01F0-464B-B278-23198A17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55EBD-E0AD-4D48-B4E6-E1602C67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864DD-C8A7-44F5-B643-E97E0DE6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9A8F-C3BD-4002-A9B0-2B129F5F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BF6A5-073C-419A-BBD3-3630B4EF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16D75-BB88-4652-B211-E47C890F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E8545-8F15-487E-A0BB-5DFA371E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CEFDD-ECA6-472F-8924-D6CD7814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8061F-AA23-4E56-A6C6-BAD137EF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34000-9184-4020-82EA-1EE74F13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1C018-6408-43B5-8D15-2842F58D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52614-0158-42B7-9302-FCA45C70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80530-334A-4E48-9722-CF04A885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2844F-8D85-403A-9C08-DF88F91E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C9C8-E0B8-4C6D-AF0F-800C738A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4F782-EB67-4131-BBCD-C1806502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219E0-5EF4-46DF-9F36-D2D88FDB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08ED7-2476-46AF-848D-60BDA7A7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AC7FA-7593-4068-9041-959743D1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D29B2-7F97-4727-9B04-10F7AE29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66A95-A4B7-4F65-889E-03083FF8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5F9C8-6119-4BE9-AA4F-D009484C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A01C3-FDEC-41D8-BC6A-6BD8D441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35287-C921-4962-8DB0-80E9568F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44BDF-9043-4DC6-B467-B3536C8D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CF0D-CD23-478B-85CB-F9D5CDB8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F3649-7030-4BB8-AA1E-7AF70781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6F934-8FDC-4340-802F-0DE58252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C7E0A-6260-4BA8-A51D-615113CE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59AD4-8DA7-445B-AD65-417C792B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3B140-E88B-4A7F-98F7-147444F4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B9CC7B-3331-4244-8E22-1A91208D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C5E61B-0906-4E6D-99A2-E924128C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6B687-8A61-4F3A-9E0E-5834D162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34222A-74C3-45CF-8135-F2D7C8E6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CD4761-79C2-4E03-9F9D-568C733A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6D8D-F8EF-46A3-9C1C-22A19752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F8407-4AA0-42ED-9E39-E8C4FCDF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369A6-6819-4AC8-962B-F9FB2C93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27A80-8CB3-462F-AC8A-3F6B1CB1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514A5-EC59-45E9-BAC5-683F4EB8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D71E8F-3DD0-4A07-8E46-31D300C6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A36B5A-F224-4CA0-B408-429B8963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4A374-B60C-479C-8C18-7C1F5439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532B75-077F-4507-B591-C1755323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9ED1A-ED0F-4022-8B86-898670E1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D1C461-368A-4F53-BE1C-2662A32F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E80B-D6CA-4EAC-B264-A51928DB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C79218-6C40-4EB1-B741-3F376ECC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34AEB6-4EF8-41CE-9A2C-5038D342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C5A6EA-3012-4956-BCFB-BAC6D134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06A09-5EC7-43B6-B6D9-B303F60D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A1232C-68E6-42D0-9687-68DC013F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F7DEB5-3D16-418D-A46B-749E67EF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AC9D0E-F563-4AF3-8071-984DB8D6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A43E1D-8D75-47F9-A20E-BD3D59F4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9456E1-A3A9-4050-A2A3-BECA3F99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B60251-9E14-493D-952E-BC082490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23CC-1411-4FBF-83C0-D39A9BB4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52C55-383C-446D-A105-ABD34CA4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CF54B5-4F2F-4ACB-9F30-F9BA6ED5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7342B7-1A3F-4147-B2AF-E1256ABE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D9D86B-E7BB-47A1-A1A3-1FA94B63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4CC5E8-019F-49B6-9351-768AAF3D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7B14B-11F0-41A0-B73D-C7D87582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626284-024A-4403-96C0-4ADBAEB2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592DBC-B418-4D75-9B85-49C39B54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91528B-EFDE-4AE8-8109-17C06AEF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B6066F-1541-4BFC-AA4C-DAFF1567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465D-B7C6-4715-8A9F-EBE0AD72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022165-A5BA-49CC-90B4-F0B2BD51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151D52-6343-47CD-8CB3-C43AB9B5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6BC5CF-A6AB-4047-92D2-DFA97C8E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ADA6C4-CF41-4E8A-BEEF-7CFE31F5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0BC4CB-09B2-4CEF-8141-99480CAB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0351FA-8EBB-40E8-B865-B4DAE9E1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6D818C-225D-4E5E-8F8B-F254510E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E523CC-D5BD-4A0E-AD17-98D1399B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3C737D-06C7-4600-9748-059D3742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BBB013-C300-4C23-B1C7-8CDE5B26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0F53-4D94-480A-883E-26E6F49F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7C71F8-0EB2-4A0D-AD77-E8EDD2F7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294B89-24F7-46FE-834E-AA366637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CA96C5-0ABA-4783-A3D3-5FD24A40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4217A6-B0D3-48F5-972E-F3B424B6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5D958B-BD3C-4E42-B4C1-6FB49CB6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6E6B26-8092-4E2E-8D1E-E5219A14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47FBA2-51F4-4911-9B94-39C948B9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B9805F-F6A7-48B7-9F63-5C606411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077C4E-5BEC-4744-852E-C90C4CCF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FBB100-331B-483B-96B1-DF473382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949-0780-4FDF-B5D7-5B281DDF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A537-0208-43D9-955F-01F55B2B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E98F3A-8B57-4571-AF72-B05CE077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BBC4EB-5D58-4388-A4EF-34F42E71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C77132-A72D-4A57-A73C-ACBF408B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DD4D1E-FA68-42AD-9D20-F1C6BB99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CCA82C-5A55-461B-8DD0-BE82A431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8957EB-9AEB-4344-8098-30EBD6F7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9231F5-A6BA-495C-838A-0A5A683F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AFC09E-A779-4C61-9A0E-6E19B191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2ADC12-9AB1-42F8-A9FB-C294FEFB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1F01B0-7DEC-4D8E-BC9F-5F3A70CC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04CC-A832-4E98-9E2C-636A0C4C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85B5B8-549C-44BA-A423-7C95D805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5AD573-F207-4E2C-96F3-92F23DB6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48A8F3-CE77-46B0-AE18-2FB38B91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5CA96A-06BA-4772-8505-AD41E2AA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FA74F0-CBFC-4517-A21B-558F1DD4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E9B01A-1D61-4AF4-B949-DBC5F1EA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556193-D067-4A24-B77B-FD8CAD92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1C83F6-9EC5-4883-92F7-CBF05A44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4ABB21-DC25-489A-A801-4B66ED73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64D4BD-B07D-42CF-AA68-8865B3D6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74DB-F891-4CD7-97DC-8262AF70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8EA925-E8DA-4A56-9B18-ACD563BE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672D46-262C-452F-A5A5-F7F9FA5B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4C153A-CCF2-4DC2-A13B-0E9DE317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5C4394-C4C4-45EF-AA44-1A207817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3033B1-4F55-42C1-8650-78A59869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9557FD-559B-440B-BA9F-E8E94638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F38A36-E871-46E2-BD87-E6EF555C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677A6C-7BF2-43FC-8ECC-9ADE6F8D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E625AB-A86E-42DD-B2AC-F369D979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F72E5F-E7D0-4937-BB50-95A2A3B3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5A1A-5896-4F7B-94B3-9A817C93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436938-15E7-442E-A964-19ED6679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F15719-2B7C-4DDC-A381-E628069B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BAE118-7506-42F5-85DA-6118E3F7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0D20B8-0327-4091-908F-CEAB2BD8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416C7E-A887-4D79-B397-3221A2A2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1F8401-1531-4E4A-85F1-2740AF90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AB6551-8EFB-4C29-AD42-1D7DE8B8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D14AAA-7B41-40B1-93D0-6085787A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ADC9EB-4C39-4439-81D6-E7712385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E585AE-E196-4EEB-B9F4-E99B7E99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AB68-B2A6-4352-A1CB-1E2AB18B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3D5E25-F0A3-44FE-9036-594E561D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7F6C58-7312-48AD-BE96-044B4C2B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BA2944-EF69-42E7-8671-9FBA9A50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4B31D8-9A7B-4B07-A60A-5363B971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1D1AA8-6886-4D2F-9450-FD8B96EE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C491E0-23EE-43C4-B598-D7FA9472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5E5A99-94B2-42D5-A7AC-F55F4C0C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08D500-BB6D-4365-9088-D31F24AA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88ED69-AD89-4778-94C6-979B84D6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F4106B-8CD2-4C0E-AC10-ABB1F03C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F4CDC-8856-4052-B222-F7ADB0CA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51B857-1216-4F21-9D55-29C5CBA0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31E14A-7135-4765-94EE-6E4364A7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73C120-676E-4894-B28E-027A729A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748F9A-32D3-48D5-8877-58DA2759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4548EF-434E-4112-8C53-54435F5A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D7C86B-20E9-462E-A3D2-9441BB53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5165B3-841E-4AFA-9238-D5B4D6CE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03894F-A526-4E8A-B65D-E8D1FD3C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C8CD77-D8C4-44ED-AF5F-61EF5A34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3B8D22-998E-4EA2-9098-AF47EC51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1C139-AFA5-4ACC-964A-C05A0BC5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98C46F-E4AF-46F0-8D91-A0DA47DD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E55D30-ACC7-4163-A1E7-A7A0BD9C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97B75A-74FE-42A4-8E58-C93F3B3B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0FA932-8F4E-44E6-85E8-C1008D00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63E2FC-5C22-43EA-A0DB-64C5E0B1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55FA1A-5D2C-408C-AFC8-331216AE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966582-B86E-48C3-BA6D-8A94B41B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1E4FEB-421F-454F-883A-C56F2E9D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C8B868-FEAB-4068-9D56-9C784404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3CB29B-9F24-418A-B31C-FE6FFB41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EAE48-6EAF-4BCC-9AC9-E3310D3B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632B82-47AD-4A63-9883-DF25F64C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D87B17-376C-4761-9A64-19153905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DC1E50-C60E-4278-9FBC-136B7DC6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BCA93F-4E71-4250-AF4E-7DC1FF65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802DFC-607A-4DFF-8C70-5FEEFCB1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97B552-3633-46B6-A632-F540491D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572E51-F4D9-4C60-AE4A-E264B3E5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C9888C-A35F-4F38-9115-0F62D740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D4BA65-AF7A-4923-82A4-AFD80F79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BD1B30-1196-4B46-BBB3-019AB3BC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E5517-3FDF-490C-B739-0FD28276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55FA0E-F798-4F18-A994-0B80BD19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6E920B-8597-4CBA-9F4E-6F3A4F8C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F57B4D-F967-42C8-B890-D913E7AE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D0EDAC-E09B-4F81-947C-EEC1FAAB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0E6D1F-6EDB-437C-82B9-4CE5AA1E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8FCCC0-6665-45C3-A6D2-740E349E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32CD13-0BD4-4F6E-8FCE-CC93475E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49EB54-159F-4562-80EC-B72EBE4B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D1EA26-E5E7-44F3-B885-A96EA04E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33CEE4-50B4-43CF-BDF3-0EDDC9A6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1BD10-AC5C-4B36-ADB1-7C205557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6FCA9B-A00C-4C6C-9673-55188169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7FDCB8-1573-40EB-807F-C760C6FF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359BC3-F805-4ECC-85C1-3484D5E2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BE7459-7162-482F-9DBE-5602F35C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87CC9B-7D94-4EBF-A3CF-7211C457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D26C06-DF08-4D21-B788-EC9FDFF2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32E0D9-FF55-4602-ABC1-E5F8EE78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31A2E4-5287-466B-9B24-8C0BFBDC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C4CBD3-F49A-45C9-9596-B6D6B88B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918516-ACB6-42B9-9E1F-7B89427C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5723-7FD0-435B-869B-398B4C3E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8CF78-CCE6-43F4-8484-4F3FE37B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4C01A4-F42B-45A0-9525-0DB0EFDB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68D12A-A73F-443B-936C-50B09885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649A47-AA1C-48F5-9A43-A068E667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0AB65D-1253-4A5C-BFC0-5161CE4D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F24599-48B8-4811-9A91-FA112338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E48E8C-A7F5-4757-83A2-D58085DB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680178-30D7-4843-9967-1FB00DD7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BE5372-E099-4EA9-A0EF-A2DDFF3F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FCE071-B823-4152-8339-72A2E20F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FEBA3D-BC94-4ABF-B86C-12945544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026CA-6F4D-4099-9D08-3AD96187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EA046B-67A5-4FFC-898F-244CD805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D740B2-0DA7-4DC8-B79A-E8527A01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D3627F-B28B-4311-A92B-7C65E83D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FA3DF-1091-4E7E-8FD3-3C5E0CA8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97A25-7DB0-4C35-92EF-68299764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5D970-E8DE-4E0F-8BF2-81AC5F96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7EB28-79F2-4072-8438-09B295B3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1949E-E7D1-4482-83F6-A307902F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3DA57-2CF5-40A4-8FA4-60C76489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B9DE3-8B62-4663-BC4C-19A35241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1F7BB-246F-4B1F-AC9A-E1B1B218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C37-C518-4AF6-9B7D-770A74FB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C89BC-FD26-437A-9F4C-90439658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4B39C-12D5-4348-88A0-660B1A36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1B399-CCB8-40EA-B42E-75ABE904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7B0E0-699A-403F-8358-FC40D81D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8D878-CACF-4A6F-851B-AF385861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BB527-13AE-47DA-9FFC-F098182A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9AD34-B982-4990-9C8B-6FD15C49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B5236-DBC9-45C7-A812-5F6154EE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18108-28F2-40E7-BAE3-938F5CCC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6D5FF-41B9-459F-A3A3-9CCF93CA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5DA-23A0-4C0D-829A-788D9DE9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ABDDB-39FE-41D7-8E0A-E614FCD8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BC299-E4F5-43D5-B46B-4919A229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3FD1F-2A98-4537-A91F-5ACC699A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45C7E-72D6-4495-8EAA-8DE2D7C5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8F619-0FBB-42DD-B96C-8AC74581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07FA8-A229-48AD-BC66-C4881FF1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57B51-9447-4B6F-89A9-A02C9046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899A7-EDBF-4CDC-9BD8-623A477C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8472B-6479-45EB-B10F-8382BD7E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39A62-7B15-428F-9B9E-CEBBE46D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9E2-4E83-4603-B426-F35CBC08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38683-7589-4251-8FF7-C1935E5B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CE22E-B39A-4218-BECD-1D5CAFC4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78457-1527-4203-99CB-713A6060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7F960-C160-4DA2-B11A-C4D55C03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94D7D-C98C-4080-B2FD-94FB3E5C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79BD9-1690-49F1-B88E-21C1CFE4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6B59B-6AB5-444E-8E7E-80550A03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49A84-4F13-45F7-9D17-1E7F3F23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5B17B-53CF-4D8D-8E39-36F1607B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F4C4D-B51B-4E9B-93FF-B2CE5418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459-E0A2-4251-A85C-C7AD5956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12400-BA76-461A-8037-D7DC7900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C2917-BE72-48FF-A48B-4EAC82D5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22823-0294-43D8-A610-2B01C98C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E0F1C-F33C-4205-A9F5-88874C18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009B5-B163-4E6D-A476-72B1B271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AD462-FC23-4BFC-B06A-45258A11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EA2BB-75AC-4F64-97C9-C5B292AE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84C26-51C7-4190-800E-AD60C726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521D0-B461-4348-B3A2-452F68D8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828E0-1E19-42A3-A3FC-1B54F186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FE43-2149-4610-A1AE-B9BD354A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274DA-C3E6-4E72-A0F7-27BE7DD0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801E4-377F-43BA-A4B4-D5A7F803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F9A70-28C2-4DFE-B729-A64E02AB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A093E-CA9B-46DD-B73F-3B4D1D86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77769-6C05-4FCC-AD16-89E89D87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B6657-9546-41BA-90BF-0566357C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AD5AC-3E63-4705-BF67-DB19F42F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CDCE9-5D6B-4D3B-AF09-8BE92816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8B67D-FA50-4B56-BF30-8FB20FC2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2161D-5864-468A-B74E-82F9121E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537B-C314-4AEC-8802-05CE5EF0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ADF6C-6DC6-4981-8D53-2F0B6BD5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526A5-C5C5-4D21-B470-0862093D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83AE7-4951-420E-845D-A4378C71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4E18C-CA21-4C9B-AC92-900703BB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BA407-25CA-4212-94F7-706BA821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299EA-6BFF-49AA-A621-183A0656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E3CAD-E1D9-4AC4-957B-19015DA5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FB706-D104-4200-83E2-66048DE6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CA593-42FF-4B2C-93DE-24226A66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DE18C-D9B6-4805-B304-D527E382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E6E6-ABFB-4798-BB25-DACF0AFDD0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5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A554-FB34-400E-922A-D250138F5B7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2241-F5A7-4206-910B-DA7E146A55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3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CF74-1D5B-4258-92FA-5C6383363A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8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4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4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4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5174-4BC1-427B-A935-B25A16A0B2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725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726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7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8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9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0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1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2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3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4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5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6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7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8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9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0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1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2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3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4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5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6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7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8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9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0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1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2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3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4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5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6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7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8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9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0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1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2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3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4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5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6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7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8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9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0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1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2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3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4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5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6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7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8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9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0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1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2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3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4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5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6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7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8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9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0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1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2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3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4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5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6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7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8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9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0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1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2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3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4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5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6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7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8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9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0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1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2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3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4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5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6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7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8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9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0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1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2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3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4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5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6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7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8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9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0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1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2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3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83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43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44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45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6D3A-AC14-49F2-836D-8FAF0CDFBA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87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87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46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ftr" idx="47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2370-1138-4385-B419-58A6036F6D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sldNum" idx="48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92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92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92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dt" idx="4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-11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 type="ftr" idx="5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E254-C9B1-4196-8185-A0A8DD531B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 type="sldNum" idx="5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S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编程技术</a:t>
            </a:r>
            <a:fld id="{1A2BBCB8-2174-4807-A8A8-3C30FCAA8E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96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96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96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dt" idx="5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 type="ftr" idx="5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 type="sldNum" idx="5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0F0F-AFCA-4CD6-9EFF-4D26D97A75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00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01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01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dt" idx="5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5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sldNum" idx="5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487F-2157-492A-83FC-E2764C0904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1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05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05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05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5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6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7E90-DE30-4292-B304-315AE391E56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09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0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09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6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6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6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C468-90AC-4AB9-BF0B-CDBBDF8405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14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14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14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 type="dt" idx="6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 type="ftr" idx="6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 type="sldNum" idx="6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546E-9409-4C2B-A94B-0BDF46D0BA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18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18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18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6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6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6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12F9-5E90-47DC-8314-57C285CBE3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22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23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23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dt" idx="7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 type="ftr" idx="7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 type="sldNum" idx="7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8DFE-5997-4BFF-AAF2-5B349ABCD4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27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27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27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557C-9E26-406F-B7CA-76BC4133DC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31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31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31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dt" idx="7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 type="ftr" idx="7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 type="sldNum" idx="7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412A-4A7C-4C64-810D-53FDCD0883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36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36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36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89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90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4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5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6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7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8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9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0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1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2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3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4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5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6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7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8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9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0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1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2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3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4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5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6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7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8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9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0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1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2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3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4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5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6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7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8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9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0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1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2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3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4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5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6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7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7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8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9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E025-683B-4EC5-BF49-7C94B0919E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0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1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8E82-983D-4095-BB99-1DFA1C2501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2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C1E1-85F3-4BE5-A17B-2460B6BC14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3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3499-519E-43E7-818D-578AC52E22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67F0-BB30-4A57-9FD2-8420E03F63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3CDE-82DA-4023-842C-E4F153B06F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6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B60D-E052-4D6C-BF62-EDB76E636F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6"/>
          <p:cNvSpPr/>
          <p:nvPr/>
        </p:nvSpPr>
        <p:spPr>
          <a:xfrm>
            <a:off x="3708000" y="3929760"/>
            <a:ext cx="214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09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10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10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数据管理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数据集转置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285920" y="214272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转置就是把数据集的观测变为变量，变量变为观测。利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的转置过程可以对数据集进行转置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转置过程句法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9" name="Text Box 5"/>
          <p:cNvSpPr/>
          <p:nvPr/>
        </p:nvSpPr>
        <p:spPr>
          <a:xfrm>
            <a:off x="1428840" y="1857240"/>
            <a:ext cx="64767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PROC TRANSPOS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&lt;DATA=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</a:rPr>
              <a:t>input-data-se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&gt; &lt;LABEL=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</a:rPr>
              <a:t>label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&gt; &lt;LET&g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&lt;NAME=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&gt; &lt;OUT=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</a:rPr>
              <a:t>output-data-se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&gt; &lt;PREFIX=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</a:rPr>
              <a:t>prefix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&gt;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BY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&lt;DESCENDING&gt;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</a:rPr>
              <a:t>variable-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          &lt;...&lt;DESCENDING&gt;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</a:rPr>
              <a:t>variable-n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          &lt;NOTSORTED&gt;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COPY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</a:rPr>
              <a:t>variable(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ID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</a:rPr>
              <a:t>variabl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IDLABEL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</a:rPr>
              <a:t>variabl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VAR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</a:rPr>
              <a:t>variable(s)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/>
          </p:nvPr>
        </p:nvSpPr>
        <p:spPr>
          <a:xfrm>
            <a:off x="1071720" y="13568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说明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431" name="Object 2"/>
          <p:cNvGraphicFramePr/>
          <p:nvPr/>
        </p:nvGraphicFramePr>
        <p:xfrm>
          <a:off x="571680" y="2357280"/>
          <a:ext cx="8123040" cy="250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357280"/>
                    <a:ext cx="8123040" cy="25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57120" y="71424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PROC TRANSPOSE 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1071720" y="19285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TRANSPOSE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option-list&gt;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435" name="Object 2"/>
          <p:cNvGraphicFramePr/>
          <p:nvPr/>
        </p:nvGraphicFramePr>
        <p:xfrm>
          <a:off x="785880" y="3071880"/>
          <a:ext cx="8213760" cy="264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3071880"/>
                    <a:ext cx="821376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VAR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和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ID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1214280" y="185688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9a55"/>
                </a:solidFill>
                <a:latin typeface="Times New Roman"/>
                <a:ea typeface="黑体"/>
              </a:rPr>
              <a:t>VAR</a:t>
            </a:r>
            <a:r>
              <a:rPr b="0" lang="zh-CN" sz="24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-li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列出要转置的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没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VA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，则没有列在其它语句里的所有数值变量被转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/>
          </p:nvPr>
        </p:nvSpPr>
        <p:spPr>
          <a:xfrm>
            <a:off x="1071720" y="14284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9a55"/>
                </a:solidFill>
                <a:latin typeface="Times New Roman"/>
                <a:ea typeface="黑体"/>
              </a:rPr>
              <a:t>ID</a:t>
            </a:r>
            <a:r>
              <a:rPr b="0" lang="zh-CN" sz="2400" spc="-1" strike="noStrike">
                <a:solidFill>
                  <a:srgbClr val="a59a55"/>
                </a:solidFill>
                <a:latin typeface="Times New Roman"/>
                <a:ea typeface="黑体"/>
              </a:rPr>
              <a:t>语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输入数据集中一个变量。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的值为转置后数据集的变量名。在没有选项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LE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时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的值在数据集中只能出现一次，使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组内只包含最后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6754680" cy="20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的值为转置后数据集的变量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transp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原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AM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值为转置后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变量名，对所有数值变量转置。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还有一变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AME_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Text Box 4"/>
          <p:cNvSpPr/>
          <p:nvPr/>
        </p:nvSpPr>
        <p:spPr>
          <a:xfrm>
            <a:off x="1403280" y="1916280"/>
            <a:ext cx="648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43" name="Text Box 5"/>
          <p:cNvSpPr/>
          <p:nvPr/>
        </p:nvSpPr>
        <p:spPr>
          <a:xfrm>
            <a:off x="928800" y="1571760"/>
            <a:ext cx="7429320" cy="340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ab1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Obs  _NAME_  Alice  Barbara  Carol  Jane  Janet  Joyce  Judy  Louise   Mary  Alfred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1   Age      13.0    13.0    14.0  12.0   15.0   11.0  14.0   12.0    15.0    14.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2   Height   56.5    65.3    62.8  59.8   62.5   51.3  64.3   56.3    66.5    69.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3   Weight   84.0    98.0   102.5  84.5  112.5   50.5  90.0   77.0   112.0   112.5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Obs  Henry    James    Jeffrey    John    Philip    Robert    Ronald    Thomas    William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1    14.0     12.0      13.0     12.0       16       12.0       15      11.0       15.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2    63.5     57.3      62.5     59.0       72       64.8       67      57.5       66.5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3   102.5     83.0      84.0     99.5      150      128.0      133      85.0      112.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/>
          </p:nvPr>
        </p:nvSpPr>
        <p:spPr>
          <a:xfrm>
            <a:off x="1285920" y="1142640"/>
            <a:ext cx="72388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组内最后一个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值的观测被转置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transp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a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结果显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445" name="Object 2"/>
          <p:cNvGraphicFramePr/>
          <p:nvPr/>
        </p:nvGraphicFramePr>
        <p:xfrm>
          <a:off x="1523880" y="4191120"/>
          <a:ext cx="4648320" cy="173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191120"/>
                    <a:ext cx="464832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/>
          </p:nvPr>
        </p:nvSpPr>
        <p:spPr>
          <a:xfrm>
            <a:off x="1285920" y="714240"/>
            <a:ext cx="7238880" cy="23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so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sor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transp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sor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l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结果显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448" name="Object 2"/>
          <p:cNvGraphicFramePr/>
          <p:nvPr/>
        </p:nvGraphicFramePr>
        <p:xfrm>
          <a:off x="3000240" y="3929040"/>
          <a:ext cx="4596120" cy="253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3929040"/>
                    <a:ext cx="459612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/>
          </p:nvPr>
        </p:nvSpPr>
        <p:spPr>
          <a:xfrm>
            <a:off x="1213920" y="1428840"/>
            <a:ext cx="72392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系统提供的过程按其用途可分为四大类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管理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基础统计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呈现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访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任何一种编程语言一样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有一些数据管理过程，用于实现常用的中间操作或数据转换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TextBox 2"/>
          <p:cNvSpPr/>
          <p:nvPr/>
        </p:nvSpPr>
        <p:spPr>
          <a:xfrm>
            <a:off x="1071720" y="785880"/>
            <a:ext cx="5357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0.5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规定转置后数据集变量名的前缀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p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da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geno=</a:t>
            </a:r>
            <a:r>
              <a:rPr b="1" lang="fr-FR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esize=</a:t>
            </a:r>
            <a:r>
              <a:rPr b="1" lang="fr-FR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80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gesize=</a:t>
            </a:r>
            <a:r>
              <a:rPr b="1" lang="fr-FR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40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ranspo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sDat.sco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idnumber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Test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efi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n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udentid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idnumber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ob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Student Test Score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451" name=""/>
          <p:cNvGraphicFramePr/>
          <p:nvPr/>
        </p:nvGraphicFramePr>
        <p:xfrm>
          <a:off x="1214280" y="4714920"/>
          <a:ext cx="6786720" cy="1630440"/>
        </p:xfrm>
        <a:graphic>
          <a:graphicData uri="http://schemas.openxmlformats.org/drawingml/2006/table">
            <a:tbl>
              <a:tblPr/>
              <a:tblGrid>
                <a:gridCol w="847800"/>
                <a:gridCol w="849240"/>
                <a:gridCol w="847800"/>
                <a:gridCol w="849240"/>
                <a:gridCol w="847800"/>
                <a:gridCol w="847800"/>
                <a:gridCol w="849240"/>
                <a:gridCol w="847800"/>
              </a:tblGrid>
              <a:tr h="682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n054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n125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n116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n123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n252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n486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n067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est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est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6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8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ina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6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1452" name="Rectangle 1"/>
          <p:cNvSpPr/>
          <p:nvPr/>
        </p:nvSpPr>
        <p:spPr>
          <a:xfrm>
            <a:off x="4514400" y="-595440"/>
            <a:ext cx="1152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53" name="矩形 5"/>
          <p:cNvSpPr/>
          <p:nvPr/>
        </p:nvSpPr>
        <p:spPr>
          <a:xfrm>
            <a:off x="3397680" y="42148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288"/>
                </a:solidFill>
                <a:latin typeface="黑体"/>
              </a:rPr>
              <a:t>Student Test Score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TextBox 1"/>
          <p:cNvSpPr/>
          <p:nvPr/>
        </p:nvSpPr>
        <p:spPr>
          <a:xfrm>
            <a:off x="1214280" y="785880"/>
            <a:ext cx="5929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0.6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规定转置后数据集变量名的标签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p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da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geno=</a:t>
            </a:r>
            <a:r>
              <a:rPr b="1" lang="fr-FR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esize=</a:t>
            </a:r>
            <a:r>
              <a:rPr b="1" lang="fr-FR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80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gesize=</a:t>
            </a:r>
            <a:r>
              <a:rPr b="1" lang="fr-FR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40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ranspo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sDat.sco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idlabel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Test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efi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n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udentid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d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uden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idlabel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be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ob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Student Test Score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55" name="矩形 2"/>
          <p:cNvSpPr/>
          <p:nvPr/>
        </p:nvSpPr>
        <p:spPr>
          <a:xfrm>
            <a:off x="3397680" y="42148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288"/>
                </a:solidFill>
                <a:latin typeface="黑体"/>
              </a:rPr>
              <a:t>Student Test Score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456" name=""/>
          <p:cNvGraphicFramePr/>
          <p:nvPr/>
        </p:nvGraphicFramePr>
        <p:xfrm>
          <a:off x="1143000" y="4643280"/>
          <a:ext cx="7000920" cy="1905120"/>
        </p:xfrm>
        <a:graphic>
          <a:graphicData uri="http://schemas.openxmlformats.org/drawingml/2006/table">
            <a:tbl>
              <a:tblPr/>
              <a:tblGrid>
                <a:gridCol w="874800"/>
                <a:gridCol w="876240"/>
                <a:gridCol w="874800"/>
                <a:gridCol w="874440"/>
                <a:gridCol w="874800"/>
                <a:gridCol w="876240"/>
                <a:gridCol w="874800"/>
                <a:gridCol w="874800"/>
              </a:tblGrid>
              <a:tr h="682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以前的变量名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apalleti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ubos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ngle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Gran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Krupski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Lundsford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McBan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est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est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6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8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ina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6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1457" name="Rectangle 1"/>
          <p:cNvSpPr/>
          <p:nvPr/>
        </p:nvSpPr>
        <p:spPr>
          <a:xfrm>
            <a:off x="4514400" y="-595440"/>
            <a:ext cx="1152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/>
          </p:nvPr>
        </p:nvSpPr>
        <p:spPr>
          <a:xfrm>
            <a:off x="1294920" y="13712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每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转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pageno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transp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fishdata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fishlength(rename=(col1=Measurement)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ength1-length4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ocation d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fishlength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ish Length Data for Each Location and Date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Text Box 4"/>
          <p:cNvSpPr/>
          <p:nvPr/>
        </p:nvSpPr>
        <p:spPr>
          <a:xfrm>
            <a:off x="1258920" y="1916280"/>
            <a:ext cx="705636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ish Length Data for Each Location and Date                  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ocation        Date    _NAME_     Measuremen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ole Pond     02JUN95    Length1         3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ole Pond     02JUN95    Length2         3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ole Pond     02JUN95    Length3         3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ole Pond     02JUN95    Length4         3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ole Pond     03JUL95    Length1         3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ole Pond     03JUL95    Length2         3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ole Pond     03JUL95    Length3         37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ole Pond     03JUL95    Length4         3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ole Pond     04AUG95    Length1         2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             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……         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…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60" name="Text Box 5"/>
          <p:cNvSpPr/>
          <p:nvPr/>
        </p:nvSpPr>
        <p:spPr>
          <a:xfrm>
            <a:off x="1979640" y="1341360"/>
            <a:ext cx="259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输出窗口显示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0.8 I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有重复值时命名转置后的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da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no=</a:t>
            </a:r>
            <a:r>
              <a:rPr b="1" lang="fr-FR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nesize=</a:t>
            </a:r>
            <a:r>
              <a:rPr b="1" lang="fr-FR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4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size=</a:t>
            </a:r>
            <a:r>
              <a:rPr b="1" lang="fr-FR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0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transpo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stks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clos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ompan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clos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Closing Prices for Horizon Kites and SkyHi Kite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462" name=""/>
          <p:cNvGraphicFramePr/>
          <p:nvPr/>
        </p:nvGraphicFramePr>
        <p:xfrm>
          <a:off x="1428840" y="4929120"/>
          <a:ext cx="6095880" cy="14972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ompany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_NAME_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jun1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jun1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82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Horizon Kite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kyHi Kite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添加观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PPE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程可以将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的观测添加到另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的后面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APPEND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避免处理原数据集中的数据，直接把新观测添加到原始数据集的后面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APPEND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过程句法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928800" y="1643040"/>
            <a:ext cx="72388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APPE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BASE=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-data-se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ATA=</a:t>
            </a:r>
            <a:r>
              <a:rPr b="0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-data-se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 &lt;FORCE&gt; 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PPEN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中只需要一个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 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467" name="Group 20"/>
          <p:cNvGrpSpPr/>
          <p:nvPr/>
        </p:nvGrpSpPr>
        <p:grpSpPr>
          <a:xfrm>
            <a:off x="1428840" y="3714840"/>
            <a:ext cx="6417720" cy="1910880"/>
            <a:chOff x="1428840" y="3714840"/>
            <a:chExt cx="6417720" cy="1910880"/>
          </a:xfrm>
        </p:grpSpPr>
        <p:grpSp>
          <p:nvGrpSpPr>
            <p:cNvPr id="1468" name="Group 18"/>
            <p:cNvGrpSpPr/>
            <p:nvPr/>
          </p:nvGrpSpPr>
          <p:grpSpPr>
            <a:xfrm>
              <a:off x="1434240" y="3719520"/>
              <a:ext cx="6405480" cy="1900080"/>
              <a:chOff x="1434240" y="3719520"/>
              <a:chExt cx="6405480" cy="1900080"/>
            </a:xfrm>
          </p:grpSpPr>
          <p:grpSp>
            <p:nvGrpSpPr>
              <p:cNvPr id="1469" name="Group 7"/>
              <p:cNvGrpSpPr/>
              <p:nvPr/>
            </p:nvGrpSpPr>
            <p:grpSpPr>
              <a:xfrm>
                <a:off x="1434240" y="3719520"/>
                <a:ext cx="1444680" cy="569520"/>
                <a:chOff x="1434240" y="3719520"/>
                <a:chExt cx="1444680" cy="569520"/>
              </a:xfrm>
            </p:grpSpPr>
            <p:sp>
              <p:nvSpPr>
                <p:cNvPr id="1470" name="Rectangle 0"/>
                <p:cNvSpPr/>
                <p:nvPr/>
              </p:nvSpPr>
              <p:spPr>
                <a:xfrm>
                  <a:off x="1514880" y="3719520"/>
                  <a:ext cx="128340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80808"/>
                      </a:solidFill>
                      <a:latin typeface="Times New Roman"/>
                    </a:rPr>
                    <a:t>BASE=| OUT=</a:t>
                  </a: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Rectangle 6"/>
                <p:cNvSpPr/>
                <p:nvPr/>
              </p:nvSpPr>
              <p:spPr>
                <a:xfrm>
                  <a:off x="1434240" y="3719520"/>
                  <a:ext cx="144468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Group 9"/>
              <p:cNvGrpSpPr/>
              <p:nvPr/>
            </p:nvGrpSpPr>
            <p:grpSpPr>
              <a:xfrm>
                <a:off x="2879280" y="3719520"/>
                <a:ext cx="4960440" cy="569520"/>
                <a:chOff x="2879280" y="3719520"/>
                <a:chExt cx="4960440" cy="569520"/>
              </a:xfrm>
            </p:grpSpPr>
            <p:sp>
              <p:nvSpPr>
                <p:cNvPr id="1473" name="Rectangle 1"/>
                <p:cNvSpPr/>
                <p:nvPr/>
              </p:nvSpPr>
              <p:spPr>
                <a:xfrm>
                  <a:off x="2959920" y="3719520"/>
                  <a:ext cx="479916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80808"/>
                      </a:solidFill>
                      <a:latin typeface="Times New Roman"/>
                    </a:rPr>
                    <a:t>规定基本数据集的名子</a:t>
                  </a: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Rectangle 8"/>
                <p:cNvSpPr/>
                <p:nvPr/>
              </p:nvSpPr>
              <p:spPr>
                <a:xfrm>
                  <a:off x="2879280" y="3719520"/>
                  <a:ext cx="49604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Group 11"/>
              <p:cNvGrpSpPr/>
              <p:nvPr/>
            </p:nvGrpSpPr>
            <p:grpSpPr>
              <a:xfrm>
                <a:off x="1434240" y="4289400"/>
                <a:ext cx="1444680" cy="760320"/>
                <a:chOff x="1434240" y="4289400"/>
                <a:chExt cx="1444680" cy="760320"/>
              </a:xfrm>
            </p:grpSpPr>
            <p:sp>
              <p:nvSpPr>
                <p:cNvPr id="1476" name="Rectangle 2"/>
                <p:cNvSpPr/>
                <p:nvPr/>
              </p:nvSpPr>
              <p:spPr>
                <a:xfrm>
                  <a:off x="1514880" y="4289400"/>
                  <a:ext cx="12834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80808"/>
                      </a:solidFill>
                      <a:latin typeface="Times New Roman"/>
                    </a:rPr>
                    <a:t>DATA=| NEW=</a:t>
                  </a: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Rectangle 10"/>
                <p:cNvSpPr/>
                <p:nvPr/>
              </p:nvSpPr>
              <p:spPr>
                <a:xfrm>
                  <a:off x="1434240" y="4289400"/>
                  <a:ext cx="144468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8" name="Group 13"/>
              <p:cNvGrpSpPr/>
              <p:nvPr/>
            </p:nvGrpSpPr>
            <p:grpSpPr>
              <a:xfrm>
                <a:off x="2879280" y="4289400"/>
                <a:ext cx="4960440" cy="760320"/>
                <a:chOff x="2879280" y="4289400"/>
                <a:chExt cx="4960440" cy="760320"/>
              </a:xfrm>
            </p:grpSpPr>
            <p:sp>
              <p:nvSpPr>
                <p:cNvPr id="1479" name="Rectangle 3"/>
                <p:cNvSpPr/>
                <p:nvPr/>
              </p:nvSpPr>
              <p:spPr>
                <a:xfrm>
                  <a:off x="2959920" y="4289400"/>
                  <a:ext cx="4799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80808"/>
                      </a:solidFill>
                      <a:latin typeface="Times New Roman"/>
                    </a:rPr>
                    <a:t>规定要添加在基本数据集后面的数据集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名，缺省时使用最近创建的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SAS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数据集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Rectangle 12"/>
                <p:cNvSpPr/>
                <p:nvPr/>
              </p:nvSpPr>
              <p:spPr>
                <a:xfrm>
                  <a:off x="2879280" y="4289400"/>
                  <a:ext cx="49604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1" name="Group 15"/>
              <p:cNvGrpSpPr/>
              <p:nvPr/>
            </p:nvGrpSpPr>
            <p:grpSpPr>
              <a:xfrm>
                <a:off x="1434240" y="5050080"/>
                <a:ext cx="1444680" cy="569520"/>
                <a:chOff x="1434240" y="5050080"/>
                <a:chExt cx="1444680" cy="569520"/>
              </a:xfrm>
            </p:grpSpPr>
            <p:sp>
              <p:nvSpPr>
                <p:cNvPr id="1482" name="Rectangle 4"/>
                <p:cNvSpPr/>
                <p:nvPr/>
              </p:nvSpPr>
              <p:spPr>
                <a:xfrm>
                  <a:off x="1514880" y="5050080"/>
                  <a:ext cx="128340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80808"/>
                      </a:solidFill>
                      <a:latin typeface="Times New Roman"/>
                    </a:rPr>
                    <a:t>FORCE</a:t>
                  </a: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Rectangle 14"/>
                <p:cNvSpPr/>
                <p:nvPr/>
              </p:nvSpPr>
              <p:spPr>
                <a:xfrm>
                  <a:off x="1434240" y="5050080"/>
                  <a:ext cx="144468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Group 17"/>
              <p:cNvGrpSpPr/>
              <p:nvPr/>
            </p:nvGrpSpPr>
            <p:grpSpPr>
              <a:xfrm>
                <a:off x="2879280" y="5050080"/>
                <a:ext cx="4960440" cy="569520"/>
                <a:chOff x="2879280" y="5050080"/>
                <a:chExt cx="4960440" cy="569520"/>
              </a:xfrm>
            </p:grpSpPr>
            <p:sp>
              <p:nvSpPr>
                <p:cNvPr id="1485" name="Rectangle 5"/>
                <p:cNvSpPr/>
                <p:nvPr/>
              </p:nvSpPr>
              <p:spPr>
                <a:xfrm>
                  <a:off x="2959920" y="5050080"/>
                  <a:ext cx="479916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80808"/>
                      </a:solidFill>
                      <a:latin typeface="Times New Roman"/>
                    </a:rPr>
                    <a:t>强迫</a:t>
                  </a:r>
                  <a:r>
                    <a:rPr b="0" lang="en-US" sz="1800" spc="-1" strike="noStrike">
                      <a:solidFill>
                        <a:srgbClr val="080808"/>
                      </a:solidFill>
                      <a:latin typeface="Times New Roman"/>
                    </a:rPr>
                    <a:t>PROC APPEND</a:t>
                  </a:r>
                  <a:r>
                    <a:rPr b="0" lang="zh-CN" sz="1800" spc="-1" strike="noStrike">
                      <a:solidFill>
                        <a:srgbClr val="080808"/>
                      </a:solidFill>
                      <a:latin typeface="Times New Roman"/>
                    </a:rPr>
                    <a:t>连接两数据集</a:t>
                  </a: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Rectangle 16"/>
                <p:cNvSpPr/>
                <p:nvPr/>
              </p:nvSpPr>
              <p:spPr>
                <a:xfrm>
                  <a:off x="2879280" y="5050080"/>
                  <a:ext cx="49604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7" name="Rectangle 19"/>
            <p:cNvSpPr/>
            <p:nvPr/>
          </p:nvSpPr>
          <p:spPr>
            <a:xfrm>
              <a:off x="1428840" y="3714840"/>
              <a:ext cx="6417720" cy="1910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1000080" y="2133360"/>
            <a:ext cx="7215120" cy="34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有条件添加数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app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 ResDat.stk000001(where=(year(date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)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使用数据集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来限制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数据集中只有满足条件的观测被加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ASE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数据集中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i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785880" y="1571760"/>
            <a:ext cx="75009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排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转置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添加观测（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APPEND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数据集排序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071720" y="178560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利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排序过程可以对数据集中的观测重新排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许多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配合使用的语句，如对数据集进行合并的语句或更新语句等，使用前必须先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进行排序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排序过程句法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OR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(s)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gt; &lt;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ollating-sequence-option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DESCENDING&gt; 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-1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...&lt;DESCENDING&gt; </a:t>
            </a:r>
            <a:r>
              <a:rPr b="0" i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-n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6715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PROC SORT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62276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OR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option-list&gt;&lt;collating-sequence-option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419" name=""/>
          <p:cNvGraphicFramePr/>
          <p:nvPr/>
        </p:nvGraphicFramePr>
        <p:xfrm>
          <a:off x="1619280" y="2997360"/>
          <a:ext cx="5256360" cy="2627280"/>
        </p:xfrm>
        <a:graphic>
          <a:graphicData uri="http://schemas.openxmlformats.org/drawingml/2006/table">
            <a:tbl>
              <a:tblPr/>
              <a:tblGrid>
                <a:gridCol w="1655640"/>
                <a:gridCol w="3600720"/>
              </a:tblGrid>
              <a:tr h="62028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=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被排序数据集，缺省时为最新创建数据集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UT=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创建输出数据集，省略时用排序后数据集替换原数据集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ASCII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按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ASCII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排序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WEDISH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按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wedish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排序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ATIONA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按习惯排序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ORC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180000" rIns="0" tIns="720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强行实施多余排序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/>
          </p:nvPr>
        </p:nvSpPr>
        <p:spPr>
          <a:xfrm>
            <a:off x="1143000" y="1499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RC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强行实施多余排序。排序并替换原来加索引的或取子集的数据集，即没有规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时，如果没有规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RC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就不能对有索引的数据集进行排序和替换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没有规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OUT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时必须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FORC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的选项有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BS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选项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RSTOBS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选项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中的数据集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S=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ORT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785520" y="78552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BY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999720" y="1928520"/>
            <a:ext cx="76438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ESCENDING&gt;variable-1&lt;…&lt;DESCENDING&gt;variable-n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SOR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必须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可以规定任意多个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规定多个变量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OR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首先按第一个变量排序，然后是第二个变量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可以规定的选项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ESCENDING—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变量按下降次序排序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213920" y="171432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1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按多变量排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ear=year(date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tr=qtr(date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nth=month(date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s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b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ear qtr month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对上证数据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dx00000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按年、季和月排序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/>
          </p:nvPr>
        </p:nvSpPr>
        <p:spPr>
          <a:xfrm>
            <a:off x="1000080" y="1214280"/>
            <a:ext cx="723888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.2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按单变量降序排列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 ResDat.stk00000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esce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a  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clpr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按收盘价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CLP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的降序排列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RESSET</cp:lastModifiedBy>
  <dcterms:modified xsi:type="dcterms:W3CDTF">2013-02-20T02:46:10Z</dcterms:modified>
  <cp:revision>338</cp:revision>
  <dc:subject/>
  <dc:title>第1章 SAS软件入门</dc:title>
</cp:coreProperties>
</file>