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1.jpeg" ContentType="image/jpeg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3.jpeg" ContentType="image/jpeg"/>
  <Override PartName="/ppt/media/image15.png" ContentType="image/png"/>
  <Override PartName="/ppt/media/image5.wmf" ContentType="image/x-wmf"/>
  <Override PartName="/ppt/media/image2.png" ContentType="image/png"/>
  <Override PartName="/ppt/media/image10.wmf" ContentType="image/x-wmf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  <p:sldId id="286" r:id="rId49"/>
    <p:sldId id="287" r:id="rId50"/>
    <p:sldId id="288" r:id="rId51"/>
    <p:sldId id="289" r:id="rId52"/>
    <p:sldId id="290" r:id="rId53"/>
    <p:sldId id="291" r:id="rId54"/>
    <p:sldId id="292" r:id="rId55"/>
    <p:sldId id="293" r:id="rId56"/>
    <p:sldId id="294" r:id="rId57"/>
    <p:sldId id="295" r:id="rId58"/>
    <p:sldId id="296" r:id="rId59"/>
    <p:sldId id="297" r:id="rId60"/>
    <p:sldId id="298" r:id="rId61"/>
    <p:sldId id="299" r:id="rId62"/>
    <p:sldId id="300" r:id="rId63"/>
    <p:sldId id="301" r:id="rId64"/>
    <p:sldId id="302" r:id="rId65"/>
    <p:sldId id="303" r:id="rId66"/>
    <p:sldId id="304" r:id="rId67"/>
    <p:sldId id="305" r:id="rId68"/>
    <p:sldId id="306" r:id="rId69"/>
    <p:sldId id="307" r:id="rId70"/>
    <p:sldId id="308" r:id="rId71"/>
    <p:sldId id="309" r:id="rId72"/>
    <p:sldId id="310" r:id="rId73"/>
    <p:sldId id="311" r:id="rId74"/>
    <p:sldId id="312" r:id="rId75"/>
    <p:sldId id="313" r:id="rId76"/>
    <p:sldId id="314" r:id="rId77"/>
    <p:sldId id="315" r:id="rId78"/>
    <p:sldId id="316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slide" Target="slides/slide31.xml"/><Relationship Id="rId50" Type="http://schemas.openxmlformats.org/officeDocument/2006/relationships/slide" Target="slides/slide32.xml"/><Relationship Id="rId51" Type="http://schemas.openxmlformats.org/officeDocument/2006/relationships/slide" Target="slides/slide33.xml"/><Relationship Id="rId52" Type="http://schemas.openxmlformats.org/officeDocument/2006/relationships/slide" Target="slides/slide34.xml"/><Relationship Id="rId53" Type="http://schemas.openxmlformats.org/officeDocument/2006/relationships/slide" Target="slides/slide35.xml"/><Relationship Id="rId54" Type="http://schemas.openxmlformats.org/officeDocument/2006/relationships/slide" Target="slides/slide36.xml"/><Relationship Id="rId55" Type="http://schemas.openxmlformats.org/officeDocument/2006/relationships/slide" Target="slides/slide37.xml"/><Relationship Id="rId56" Type="http://schemas.openxmlformats.org/officeDocument/2006/relationships/slide" Target="slides/slide38.xml"/><Relationship Id="rId57" Type="http://schemas.openxmlformats.org/officeDocument/2006/relationships/slide" Target="slides/slide39.xml"/><Relationship Id="rId58" Type="http://schemas.openxmlformats.org/officeDocument/2006/relationships/slide" Target="slides/slide40.xml"/><Relationship Id="rId59" Type="http://schemas.openxmlformats.org/officeDocument/2006/relationships/slide" Target="slides/slide41.xml"/><Relationship Id="rId60" Type="http://schemas.openxmlformats.org/officeDocument/2006/relationships/slide" Target="slides/slide42.xml"/><Relationship Id="rId61" Type="http://schemas.openxmlformats.org/officeDocument/2006/relationships/slide" Target="slides/slide43.xml"/><Relationship Id="rId62" Type="http://schemas.openxmlformats.org/officeDocument/2006/relationships/slide" Target="slides/slide44.xml"/><Relationship Id="rId63" Type="http://schemas.openxmlformats.org/officeDocument/2006/relationships/slide" Target="slides/slide45.xml"/><Relationship Id="rId64" Type="http://schemas.openxmlformats.org/officeDocument/2006/relationships/slide" Target="slides/slide46.xml"/><Relationship Id="rId65" Type="http://schemas.openxmlformats.org/officeDocument/2006/relationships/slide" Target="slides/slide47.xml"/><Relationship Id="rId66" Type="http://schemas.openxmlformats.org/officeDocument/2006/relationships/slide" Target="slides/slide48.xml"/><Relationship Id="rId67" Type="http://schemas.openxmlformats.org/officeDocument/2006/relationships/slide" Target="slides/slide49.xml"/><Relationship Id="rId68" Type="http://schemas.openxmlformats.org/officeDocument/2006/relationships/slide" Target="slides/slide50.xml"/><Relationship Id="rId69" Type="http://schemas.openxmlformats.org/officeDocument/2006/relationships/slide" Target="slides/slide51.xml"/><Relationship Id="rId70" Type="http://schemas.openxmlformats.org/officeDocument/2006/relationships/slide" Target="slides/slide52.xml"/><Relationship Id="rId71" Type="http://schemas.openxmlformats.org/officeDocument/2006/relationships/slide" Target="slides/slide53.xml"/><Relationship Id="rId72" Type="http://schemas.openxmlformats.org/officeDocument/2006/relationships/slide" Target="slides/slide54.xml"/><Relationship Id="rId73" Type="http://schemas.openxmlformats.org/officeDocument/2006/relationships/slide" Target="slides/slide55.xml"/><Relationship Id="rId74" Type="http://schemas.openxmlformats.org/officeDocument/2006/relationships/slide" Target="slides/slide56.xml"/><Relationship Id="rId75" Type="http://schemas.openxmlformats.org/officeDocument/2006/relationships/slide" Target="slides/slide57.xml"/><Relationship Id="rId76" Type="http://schemas.openxmlformats.org/officeDocument/2006/relationships/slide" Target="slides/slide58.xml"/><Relationship Id="rId77" Type="http://schemas.openxmlformats.org/officeDocument/2006/relationships/slide" Target="slides/slide59.xml"/><Relationship Id="rId78" Type="http://schemas.openxmlformats.org/officeDocument/2006/relationships/slide" Target="slides/slide60.xml"/><Relationship Id="rId79" Type="http://schemas.openxmlformats.org/officeDocument/2006/relationships/slide" Target="slides/slide61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Click to move the slide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39ABF-D986-4599-8C24-9327483D589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9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D3353-EB11-4B21-8151-1407042265F4}" type="slidenum">
              <a:rPr b="0" lang="zh-CN" sz="12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5285-4692-4D1C-AC13-454079184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881E-6CEA-4661-83C5-8C6AF0806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717974-838D-4445-8649-408CC22C3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5376D6-779D-4BA5-A53D-3E2F8C2EB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56760" y="714240"/>
            <a:ext cx="46436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0FFE20-EB91-4747-A6E7-6A1EA75D8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4A6BCB-FF48-4541-A9BA-112B8370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2C988D-EBAC-463A-AF02-711E3E95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2619AE-F773-44EF-90C7-29B9A0DE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791653-E8F9-43F8-BA20-BA18DB35E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AE2EA0-B225-491B-945F-9E5361FE6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55932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4728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107136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55932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4728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55E35D-CD86-46D9-8EF6-CA672D1F0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3CD9A8-5D5E-4659-85C9-7FEF7D257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9844-7024-46C7-BE78-5AD3E3694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F77302-E1BE-4389-992D-0D169271C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3059C4-E0BE-4583-9465-53DD5C8A3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D2CE52-9B37-4F91-9ACA-75DDFEF3D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17EFED-2448-4CB8-977D-2FEE4F43E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356760" y="714240"/>
            <a:ext cx="46436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BC8121-4BE2-4425-8B5E-0C15B53AF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FFB44E-62F4-4158-B915-AB754811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CC6C1E-87D6-4B0E-B68C-E974E527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0986A7-7E3A-4A26-962E-53695B0A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AE1827-2CF2-464C-B552-D44C20253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963AB5-71ED-4B32-B327-79E1CC167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932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4728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7136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932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4728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C4C6-7065-4F3C-8227-907E87186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55932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04728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107136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55932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04728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FDD17F-55EE-47AD-97A2-2C8D9CDB4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2A60F1-FCF2-4567-AF1C-641689F74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3371AB-C56A-4618-9907-BDDCBFDC9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BFD56C-44E5-4F5E-862C-0223E9987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DB5AAF-F3D0-4B84-8F9D-3204E66C9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747F6A-796C-439C-99B1-070E22A44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56760" y="714240"/>
            <a:ext cx="46436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6AA2BA-6CD8-4FB1-83CA-3711C378F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4AF92D-59FB-427F-97CC-5D72F5DC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95B19E-8109-4ED1-A99A-C1867547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E18538-54A4-44C3-B49B-789548E9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8FAD5-3CEF-400D-BA4A-04A4298D2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303E92-47EB-43BE-82DB-428531AA0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FF3D03-E064-4C71-B192-757A32D52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55932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4728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107136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55932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4728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5DDEE6-221E-40C7-91A6-A49047A98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4DDB51-A78D-4F6C-9F76-37E80F34D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52F062-D4DE-4AAD-A699-E7C19AF2E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C6E233-F37C-4B59-AEA2-05AE0E350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1E232D-C982-4BB4-9CD2-2FE5AE086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DADC0C-7BD6-47ED-87E1-1A37E32FD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356760" y="714240"/>
            <a:ext cx="46436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0350E2-10B7-4E1D-9772-A9F66F94B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E085D7-043D-4FF2-AA91-6C4CDD06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2C32A-E02C-4CD2-BAE7-A6BB6F156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96DE69-13B6-488A-B0EA-CBA0C8C1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939B85-33AE-4BDD-AEE6-4E51E6D3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EDAAA4-5A73-40F5-9B5A-8C14E5E7F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7AFF7B-A2FB-49DD-9070-AEF220079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55932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04728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107136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55932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04728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285965-BAEF-4052-9160-B86AB45F7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9BE4CA-B66D-434C-8CE0-533C46E38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902773-C63A-416B-A25C-6753E3D35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94274C-3F5F-4FB9-83B7-57836A677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1DFE80-4A53-4A9B-9F0D-8D4557A51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987503-5864-49ED-AA48-B56E19310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51678-AC0B-4723-9C04-DF063FDB3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356760" y="714240"/>
            <a:ext cx="46436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7688AB-566B-43E5-A8F5-562E522E0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F23DBA-DF4A-4DAB-8CB6-7870358B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55AEB8-78AE-4540-9338-79119EC5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6637D4-4848-40D5-84A3-470BCEEC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C99BCF-9B9E-4AF0-B490-9FA3ED1F4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C77858-5D44-429F-A976-CDFDCC190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55932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04728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107136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55932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604728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DC0B28-487B-47D4-8118-67676476E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CDFA12-9672-4750-9932-6A6C47AC9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097FAA-BDA4-4A8E-B7CC-A59C30D2C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51613B-FF15-4C4C-AB52-DC9576741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30FD2-68D8-4DEF-B640-2100B9FD7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A0321A-E9D4-4897-B3A4-F57BB0FC4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D2C84F-1204-4747-A8FF-DA908F5ED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356760" y="714240"/>
            <a:ext cx="46436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245E49-4031-4FDC-B9C8-8138B802A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241772-A07A-498C-8B49-616AB3AF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CB4B67-C241-4F3F-BA2C-0675F963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D348F8-7D66-4A43-B18B-287B7EAE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C041B1-D3C6-41F0-ACCD-B0E545041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316C08-3A09-4FB0-A0D9-890C2A359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55932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04728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107136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355932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604728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0BC426-7458-4EC5-8117-FAFF4FF85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437E8-8574-446C-8B9C-8982859E5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ubTitle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ubTitle"/>
          </p:nvPr>
        </p:nvSpPr>
        <p:spPr>
          <a:xfrm>
            <a:off x="356760" y="714240"/>
            <a:ext cx="46436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356760" y="714240"/>
            <a:ext cx="46436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A2D65-7869-4E77-83B9-6C154351B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355932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04728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107136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65" name="PlaceHolder 6"/>
          <p:cNvSpPr>
            <a:spLocks noGrp="1"/>
          </p:cNvSpPr>
          <p:nvPr>
            <p:ph/>
          </p:nvPr>
        </p:nvSpPr>
        <p:spPr>
          <a:xfrm>
            <a:off x="355932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66" name="PlaceHolder 7"/>
          <p:cNvSpPr>
            <a:spLocks noGrp="1"/>
          </p:cNvSpPr>
          <p:nvPr>
            <p:ph/>
          </p:nvPr>
        </p:nvSpPr>
        <p:spPr>
          <a:xfrm>
            <a:off x="604728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subTitle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ubTitle"/>
          </p:nvPr>
        </p:nvSpPr>
        <p:spPr>
          <a:xfrm>
            <a:off x="356760" y="714240"/>
            <a:ext cx="46436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94459-85AF-4E16-A38A-4612051D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355932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04728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107136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06" name="PlaceHolder 6"/>
          <p:cNvSpPr>
            <a:spLocks noGrp="1"/>
          </p:cNvSpPr>
          <p:nvPr>
            <p:ph/>
          </p:nvPr>
        </p:nvSpPr>
        <p:spPr>
          <a:xfrm>
            <a:off x="355932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07" name="PlaceHolder 7"/>
          <p:cNvSpPr>
            <a:spLocks noGrp="1"/>
          </p:cNvSpPr>
          <p:nvPr>
            <p:ph/>
          </p:nvPr>
        </p:nvSpPr>
        <p:spPr>
          <a:xfrm>
            <a:off x="604728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81F8-D61A-4727-A38F-A5FF5B9B7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706AE-9CA8-4328-8FC5-C8E79415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AF61B-A7F0-4B7A-99A3-0CE8A549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4A87F-0273-4CE9-B13F-7BC0D2744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EC427-7F40-4060-B7DF-4FE0CB683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55932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4728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107136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55932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4728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676D7-8499-4FDF-ACE1-75A5D6EF7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B6CFC-AC91-48C3-AFE3-AA0BA7CFF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B7BE0-6126-47AE-A33F-F24577F81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62A74-F771-47CA-AA6F-D8D1C922B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19151-1492-452F-8CB1-60EC2F7D5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8B84D-8660-4DE2-A649-EACD63CBA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090F-71E7-4559-A6F1-1215FEE85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356760" y="714240"/>
            <a:ext cx="46436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D6866-625D-4690-8F7E-BF78E14D7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75E74-D725-47BB-8FBD-33E63135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8F420-4163-430A-9483-A558AFCE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94F4D-863D-464F-9790-00FB3926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69F2F-9669-4131-8546-2D201080C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D5CCF-1981-42A8-9314-EBADC9D42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55932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4728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107136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55932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4728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2C0B2-EDB1-4973-B8CB-C6DA5C228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2E442-4EB8-47B4-8417-929E24068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E6F92-E64F-46F3-A6FD-ED244AD75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1FA69-C31A-4338-BA8F-95DA4F963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C353-97D6-4C0F-BC12-47E02CFDA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A1D59-0807-4CA0-9F9C-D41E1085B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17EAE-5479-4943-835C-2F16C1F8A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356760" y="714240"/>
            <a:ext cx="46436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138CA-0BF7-45F4-897E-0547130BF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BA0CC-E23D-41A8-877E-6319B5C7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0A99B-C44A-48EB-86A1-6953D32B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69896-35BF-4A2C-B0A1-FC04BFF7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7D40A-DC37-49B4-AF5D-8142947FE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D7807-EA58-4F29-B568-1FD05334A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5932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4728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107136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55932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4728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E19BF-939C-4AF5-B799-23F5E7F2F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6A23D-CE39-4441-BEB3-6D133E973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8F9E-84BF-46A3-940F-921B76582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17D70-D45E-4A31-AC53-CC6D0C24C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4502D-43F0-42A1-BFF7-38BA45237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81A9D-4933-44E4-8972-C0AC97F70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858BB-0A0D-4AA5-988B-7BD50B190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356760" y="714240"/>
            <a:ext cx="46436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50AD6-1C49-42D2-B4AE-7B7F69BAC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F13ED-8BFD-4AE2-A6FD-44741E7D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88362-AEA8-49CF-B7AE-DEC9BDD7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7E663-03E6-4B5A-ABF8-8D0DA5DC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2B8D2-7BBB-4B9A-8FBF-42EAA2ACF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57ADC-AC8B-464B-8909-4813AFF77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56760" y="714240"/>
            <a:ext cx="46436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217A-3262-4422-A1DD-AD31463FB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55932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4728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107136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55932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4728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FAC46-89AA-412D-B029-0480F815F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4877D-CA65-406D-BD0E-B88C11DC7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251B2A-4302-41EB-9686-EEE9D96FC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F28B6C-7580-4517-9284-0A28C19F2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89C98-D1AA-4613-A68A-AC5D21DCB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E0025-9400-4EA4-A8DA-BBBC6FF6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356760" y="714240"/>
            <a:ext cx="46436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E793C-F6E8-4CD0-8E17-B1F09372F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12275-40E7-48B4-ADDD-A02EA9AD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2AD6D-84CC-467E-8439-F43AC933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28E60-77A7-456E-B797-2A9EB232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0C0F-C1DB-46D6-9B19-A2105DA4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C1F4BC-4315-40EA-A36A-E762EEE9D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26A57-16E3-4C85-A927-F6EAB7CBC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55932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4728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107136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55932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4728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DDA88F-C537-49F0-AE43-9E2E37993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A7209-7D71-4BAA-A20E-3544E9B26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FEA886-55DD-44BC-B983-4CFF0F57D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849BD4-D60A-459D-9F65-B8847F9CC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86389E-8F21-441C-A90A-F5BDADB3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34510-051B-4C2D-9476-8EB2428C1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356760" y="714240"/>
            <a:ext cx="46436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28CAFA-C0C9-4A58-ADB2-7F5E8989A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CF24CE-E844-4FA2-AC64-0AE65997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D8C5-404A-403C-A07C-DC2FBBC6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8FA1E-8126-49C2-9310-A6F794ED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21458-F231-40E5-BAE1-F11F4DFB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897E80-11E7-42D6-9AF3-1759F9B1D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BDCF6-8DD4-4522-96FD-19F66C32D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55932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4728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107136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55932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4728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E4261-9326-4FE2-936B-1382AE157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E9CDC-C227-4EAC-A7D5-C04AECF52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E1CE34-1DFE-4855-BF81-CEABE6FAA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02C227-7A3E-4A94-81C7-D9EA37764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619C8E-00CC-4530-8BE2-5F79A951C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7FEFEA-FC37-479A-A165-1BDB8B535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659F-EB46-4B9B-8CC1-56E02405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356760" y="714240"/>
            <a:ext cx="46436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ECFB87-3078-4817-BFEB-BB1C4F566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3994E2-3B9F-4384-9762-EC0E718A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192F36-BC82-4F11-8FB8-1FB8D171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EFA0A0-8AD6-4B8B-B146-A22216D3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071360" y="4016880"/>
            <a:ext cx="73580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59A339-5C65-4B28-8901-2690153EA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842000" y="157176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07136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842000" y="4016880"/>
            <a:ext cx="35906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83738-3018-48BF-8D45-3367C9FDF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55932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47280" y="157176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07136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55932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47280" y="4016880"/>
            <a:ext cx="23691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11A1E4-90DA-4947-9A51-B8E1786BB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2C19BB-F6DF-420B-987B-6EA70C753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A99C61-9F77-4468-B066-DC34B6B9E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563B4D-96B8-4894-8978-5F7984D05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92d05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pic>
        <p:nvPicPr>
          <p:cNvPr id="7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508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body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92d05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28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29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0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D29C6-2AA8-4844-8CB9-4E8C141816E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551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552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553" name="PlaceHolder 1"/>
          <p:cNvSpPr>
            <a:spLocks noGrp="1"/>
          </p:cNvSpPr>
          <p:nvPr>
            <p:ph type="body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92d05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dt" idx="31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ftr" idx="32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sldNum" idx="33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8F269-82A6-4478-A41A-EF5DA94DA3D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595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596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597" name="PlaceHolder 1"/>
          <p:cNvSpPr>
            <a:spLocks noGrp="1"/>
          </p:cNvSpPr>
          <p:nvPr>
            <p:ph type="body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92d05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 type="dt" idx="34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 type="ftr" idx="35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 type="sldNum" idx="36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9ED0A-216A-4AF6-85CA-E5EEDC28116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639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640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641" name="PlaceHolder 1"/>
          <p:cNvSpPr>
            <a:spLocks noGrp="1"/>
          </p:cNvSpPr>
          <p:nvPr>
            <p:ph type="body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92d05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 type="dt" idx="37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 type="ftr" idx="38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 type="sldNum" idx="39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177AE-4015-44F3-B9DD-0CA7449D05F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683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684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685" name="PlaceHolder 1"/>
          <p:cNvSpPr>
            <a:spLocks noGrp="1"/>
          </p:cNvSpPr>
          <p:nvPr>
            <p:ph type="body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92d05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 type="dt" idx="40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 type="ftr" idx="41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 type="sldNum" idx="42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B4C4E-210A-4718-BE0C-D56CE0E526C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727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728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729" name="PlaceHolder 1"/>
          <p:cNvSpPr>
            <a:spLocks noGrp="1"/>
          </p:cNvSpPr>
          <p:nvPr>
            <p:ph type="body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92d05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7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768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769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770" name="PlaceHolder 1"/>
          <p:cNvSpPr>
            <a:spLocks noGrp="1"/>
          </p:cNvSpPr>
          <p:nvPr>
            <p:ph type="body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92d05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27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pSp>
        <p:nvGrpSpPr>
          <p:cNvPr id="45" name="Group 15"/>
          <p:cNvGrpSpPr/>
          <p:nvPr/>
        </p:nvGrpSpPr>
        <p:grpSpPr>
          <a:xfrm>
            <a:off x="152280" y="380880"/>
            <a:ext cx="6838920" cy="3365640"/>
            <a:chOff x="152280" y="380880"/>
            <a:chExt cx="6838920" cy="3365640"/>
          </a:xfrm>
        </p:grpSpPr>
        <p:sp>
          <p:nvSpPr>
            <p:cNvPr id="46" name="Freeform 16"/>
            <p:cNvSpPr/>
            <p:nvPr/>
          </p:nvSpPr>
          <p:spPr>
            <a:xfrm>
              <a:off x="277560" y="530280"/>
              <a:ext cx="2011680" cy="3076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7" name="Freeform 17"/>
            <p:cNvSpPr/>
            <p:nvPr/>
          </p:nvSpPr>
          <p:spPr>
            <a:xfrm>
              <a:off x="214200" y="824040"/>
              <a:ext cx="54000" cy="442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8" name="Freeform 18"/>
            <p:cNvSpPr/>
            <p:nvPr/>
          </p:nvSpPr>
          <p:spPr>
            <a:xfrm>
              <a:off x="701640" y="1019160"/>
              <a:ext cx="61920" cy="50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9" name="Freeform 19"/>
            <p:cNvSpPr/>
            <p:nvPr/>
          </p:nvSpPr>
          <p:spPr>
            <a:xfrm>
              <a:off x="1942920" y="1108080"/>
              <a:ext cx="155520" cy="117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0" name="Freeform 20"/>
            <p:cNvSpPr/>
            <p:nvPr/>
          </p:nvSpPr>
          <p:spPr>
            <a:xfrm>
              <a:off x="1190520" y="1717560"/>
              <a:ext cx="250920" cy="133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1" name="Freeform 21"/>
            <p:cNvSpPr/>
            <p:nvPr/>
          </p:nvSpPr>
          <p:spPr>
            <a:xfrm>
              <a:off x="1396800" y="1819440"/>
              <a:ext cx="157320" cy="64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1563480" y="1860480"/>
              <a:ext cx="6048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3" name="Freeform 23"/>
            <p:cNvSpPr/>
            <p:nvPr/>
          </p:nvSpPr>
          <p:spPr>
            <a:xfrm>
              <a:off x="1652400" y="1865160"/>
              <a:ext cx="19080" cy="39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4" name="Freeform 24"/>
            <p:cNvSpPr/>
            <p:nvPr/>
          </p:nvSpPr>
          <p:spPr>
            <a:xfrm>
              <a:off x="1361880" y="522360"/>
              <a:ext cx="285840" cy="139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5" name="Freeform 25"/>
            <p:cNvSpPr/>
            <p:nvPr/>
          </p:nvSpPr>
          <p:spPr>
            <a:xfrm>
              <a:off x="1488960" y="457200"/>
              <a:ext cx="231840" cy="95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6" name="Freeform 26"/>
            <p:cNvSpPr/>
            <p:nvPr/>
          </p:nvSpPr>
          <p:spPr>
            <a:xfrm>
              <a:off x="1814400" y="568440"/>
              <a:ext cx="370080" cy="301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7" name="Freeform 27"/>
            <p:cNvSpPr/>
            <p:nvPr/>
          </p:nvSpPr>
          <p:spPr>
            <a:xfrm>
              <a:off x="1811160" y="438120"/>
              <a:ext cx="69840" cy="58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8" name="Freeform 28"/>
            <p:cNvSpPr/>
            <p:nvPr/>
          </p:nvSpPr>
          <p:spPr>
            <a:xfrm>
              <a:off x="1677960" y="549360"/>
              <a:ext cx="102960" cy="66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9" name="Freeform 29"/>
            <p:cNvSpPr/>
            <p:nvPr/>
          </p:nvSpPr>
          <p:spPr>
            <a:xfrm>
              <a:off x="1785960" y="561960"/>
              <a:ext cx="85680" cy="39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0" name="Freeform 30"/>
            <p:cNvSpPr/>
            <p:nvPr/>
          </p:nvSpPr>
          <p:spPr>
            <a:xfrm>
              <a:off x="1739880" y="504720"/>
              <a:ext cx="101520" cy="54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1" name="Freeform 31"/>
            <p:cNvSpPr/>
            <p:nvPr/>
          </p:nvSpPr>
          <p:spPr>
            <a:xfrm>
              <a:off x="1697040" y="453960"/>
              <a:ext cx="6984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2" name="Freeform 32"/>
            <p:cNvSpPr/>
            <p:nvPr/>
          </p:nvSpPr>
          <p:spPr>
            <a:xfrm>
              <a:off x="1877760" y="458640"/>
              <a:ext cx="181080" cy="122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3" name="Freeform 33"/>
            <p:cNvSpPr/>
            <p:nvPr/>
          </p:nvSpPr>
          <p:spPr>
            <a:xfrm>
              <a:off x="152280" y="847800"/>
              <a:ext cx="396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4" name="Freeform 34"/>
            <p:cNvSpPr/>
            <p:nvPr/>
          </p:nvSpPr>
          <p:spPr>
            <a:xfrm>
              <a:off x="1353960" y="1658880"/>
              <a:ext cx="25560" cy="1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5" name="Freeform 35"/>
            <p:cNvSpPr/>
            <p:nvPr/>
          </p:nvSpPr>
          <p:spPr>
            <a:xfrm>
              <a:off x="1358640" y="1698480"/>
              <a:ext cx="25560" cy="1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6" name="Freeform 36"/>
            <p:cNvSpPr/>
            <p:nvPr/>
          </p:nvSpPr>
          <p:spPr>
            <a:xfrm>
              <a:off x="1682640" y="1908360"/>
              <a:ext cx="23760" cy="18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7" name="Freeform 37"/>
            <p:cNvSpPr/>
            <p:nvPr/>
          </p:nvSpPr>
          <p:spPr>
            <a:xfrm>
              <a:off x="1879560" y="1139760"/>
              <a:ext cx="6012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8" name="Freeform 38"/>
            <p:cNvSpPr/>
            <p:nvPr/>
          </p:nvSpPr>
          <p:spPr>
            <a:xfrm>
              <a:off x="1720800" y="814320"/>
              <a:ext cx="6012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9" name="Freeform 39"/>
            <p:cNvSpPr/>
            <p:nvPr/>
          </p:nvSpPr>
          <p:spPr>
            <a:xfrm>
              <a:off x="1823760" y="530280"/>
              <a:ext cx="61920" cy="28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0" name="Freeform 40"/>
            <p:cNvSpPr/>
            <p:nvPr/>
          </p:nvSpPr>
          <p:spPr>
            <a:xfrm>
              <a:off x="1923840" y="701640"/>
              <a:ext cx="6048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1" name="Freeform 41"/>
            <p:cNvSpPr/>
            <p:nvPr/>
          </p:nvSpPr>
          <p:spPr>
            <a:xfrm>
              <a:off x="1949400" y="380880"/>
              <a:ext cx="1104840" cy="549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2" name="Freeform 42"/>
            <p:cNvSpPr/>
            <p:nvPr/>
          </p:nvSpPr>
          <p:spPr>
            <a:xfrm>
              <a:off x="2287440" y="673200"/>
              <a:ext cx="6192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3" name="Freeform 43"/>
            <p:cNvSpPr/>
            <p:nvPr/>
          </p:nvSpPr>
          <p:spPr>
            <a:xfrm>
              <a:off x="2736720" y="777960"/>
              <a:ext cx="203400" cy="85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4" name="Freeform 44"/>
            <p:cNvSpPr/>
            <p:nvPr/>
          </p:nvSpPr>
          <p:spPr>
            <a:xfrm>
              <a:off x="2896920" y="519120"/>
              <a:ext cx="6192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5" name="Freeform 45"/>
            <p:cNvSpPr/>
            <p:nvPr/>
          </p:nvSpPr>
          <p:spPr>
            <a:xfrm>
              <a:off x="3324240" y="468360"/>
              <a:ext cx="245880" cy="100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6" name="Freeform 46"/>
            <p:cNvSpPr/>
            <p:nvPr/>
          </p:nvSpPr>
          <p:spPr>
            <a:xfrm>
              <a:off x="3477960" y="520560"/>
              <a:ext cx="76320" cy="334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7" name="Freeform 47"/>
            <p:cNvSpPr/>
            <p:nvPr/>
          </p:nvSpPr>
          <p:spPr>
            <a:xfrm>
              <a:off x="3014640" y="952560"/>
              <a:ext cx="172800" cy="209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8" name="Freeform 48"/>
            <p:cNvSpPr/>
            <p:nvPr/>
          </p:nvSpPr>
          <p:spPr>
            <a:xfrm>
              <a:off x="2928960" y="1028880"/>
              <a:ext cx="109440" cy="107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9" name="Freeform 49"/>
            <p:cNvSpPr/>
            <p:nvPr/>
          </p:nvSpPr>
          <p:spPr>
            <a:xfrm>
              <a:off x="5605200" y="2843280"/>
              <a:ext cx="752760" cy="785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0" name="Freeform 50"/>
            <p:cNvSpPr/>
            <p:nvPr/>
          </p:nvSpPr>
          <p:spPr>
            <a:xfrm>
              <a:off x="5838840" y="2428920"/>
              <a:ext cx="506160" cy="333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1" name="Freeform 51"/>
            <p:cNvSpPr/>
            <p:nvPr/>
          </p:nvSpPr>
          <p:spPr>
            <a:xfrm>
              <a:off x="5852880" y="2432160"/>
              <a:ext cx="493920" cy="334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2" name="Freeform 52"/>
            <p:cNvSpPr/>
            <p:nvPr/>
          </p:nvSpPr>
          <p:spPr>
            <a:xfrm>
              <a:off x="6218280" y="3654360"/>
              <a:ext cx="71280" cy="92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3" name="Freeform 53"/>
            <p:cNvSpPr/>
            <p:nvPr/>
          </p:nvSpPr>
          <p:spPr>
            <a:xfrm>
              <a:off x="6433920" y="3511440"/>
              <a:ext cx="260640" cy="135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4" name="Freeform 54"/>
            <p:cNvSpPr/>
            <p:nvPr/>
          </p:nvSpPr>
          <p:spPr>
            <a:xfrm>
              <a:off x="6703920" y="3432240"/>
              <a:ext cx="165240" cy="146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5" name="Freeform 55"/>
            <p:cNvSpPr/>
            <p:nvPr/>
          </p:nvSpPr>
          <p:spPr>
            <a:xfrm>
              <a:off x="6791400" y="3367080"/>
              <a:ext cx="5868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6" name="Freeform 56"/>
            <p:cNvSpPr/>
            <p:nvPr/>
          </p:nvSpPr>
          <p:spPr>
            <a:xfrm>
              <a:off x="4056120" y="2595600"/>
              <a:ext cx="195120" cy="318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7" name="Freeform 57"/>
            <p:cNvSpPr/>
            <p:nvPr/>
          </p:nvSpPr>
          <p:spPr>
            <a:xfrm>
              <a:off x="4900680" y="2100240"/>
              <a:ext cx="77760" cy="96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8" name="Freeform 58"/>
            <p:cNvSpPr/>
            <p:nvPr/>
          </p:nvSpPr>
          <p:spPr>
            <a:xfrm>
              <a:off x="5429160" y="2205000"/>
              <a:ext cx="176040" cy="290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9" name="Freeform 59"/>
            <p:cNvSpPr/>
            <p:nvPr/>
          </p:nvSpPr>
          <p:spPr>
            <a:xfrm>
              <a:off x="5279760" y="2114640"/>
              <a:ext cx="114480" cy="217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0" name="Freeform 60"/>
            <p:cNvSpPr/>
            <p:nvPr/>
          </p:nvSpPr>
          <p:spPr>
            <a:xfrm>
              <a:off x="5357880" y="2289240"/>
              <a:ext cx="63360" cy="208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1" name="Freeform 61"/>
            <p:cNvSpPr/>
            <p:nvPr/>
          </p:nvSpPr>
          <p:spPr>
            <a:xfrm>
              <a:off x="5429160" y="2506680"/>
              <a:ext cx="103320" cy="85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2" name="Freeform 62"/>
            <p:cNvSpPr/>
            <p:nvPr/>
          </p:nvSpPr>
          <p:spPr>
            <a:xfrm>
              <a:off x="5594400" y="2355840"/>
              <a:ext cx="131760" cy="185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3" name="Freeform 63"/>
            <p:cNvSpPr/>
            <p:nvPr/>
          </p:nvSpPr>
          <p:spPr>
            <a:xfrm>
              <a:off x="5549760" y="1692360"/>
              <a:ext cx="34920" cy="112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4" name="Freeform 64"/>
            <p:cNvSpPr/>
            <p:nvPr/>
          </p:nvSpPr>
          <p:spPr>
            <a:xfrm>
              <a:off x="5572080" y="1881360"/>
              <a:ext cx="96840" cy="1872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5" name="Freeform 65"/>
            <p:cNvSpPr/>
            <p:nvPr/>
          </p:nvSpPr>
          <p:spPr>
            <a:xfrm>
              <a:off x="5640120" y="2128680"/>
              <a:ext cx="101880" cy="125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6" name="Freeform 66"/>
            <p:cNvSpPr/>
            <p:nvPr/>
          </p:nvSpPr>
          <p:spPr>
            <a:xfrm>
              <a:off x="5761080" y="2352600"/>
              <a:ext cx="45720" cy="77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7" name="Freeform 67"/>
            <p:cNvSpPr/>
            <p:nvPr/>
          </p:nvSpPr>
          <p:spPr>
            <a:xfrm>
              <a:off x="5735520" y="2482920"/>
              <a:ext cx="2844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8" name="Freeform 68"/>
            <p:cNvSpPr/>
            <p:nvPr/>
          </p:nvSpPr>
          <p:spPr>
            <a:xfrm>
              <a:off x="5778360" y="2467080"/>
              <a:ext cx="71640" cy="58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9" name="Freeform 69"/>
            <p:cNvSpPr/>
            <p:nvPr/>
          </p:nvSpPr>
          <p:spPr>
            <a:xfrm>
              <a:off x="5887800" y="2577960"/>
              <a:ext cx="3816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0" name="Freeform 70"/>
            <p:cNvSpPr/>
            <p:nvPr/>
          </p:nvSpPr>
          <p:spPr>
            <a:xfrm>
              <a:off x="6311880" y="2511360"/>
              <a:ext cx="73080" cy="74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1" name="Freeform 71"/>
            <p:cNvSpPr/>
            <p:nvPr/>
          </p:nvSpPr>
          <p:spPr>
            <a:xfrm>
              <a:off x="5681520" y="2604960"/>
              <a:ext cx="73080" cy="79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2" name="Freeform 72"/>
            <p:cNvSpPr/>
            <p:nvPr/>
          </p:nvSpPr>
          <p:spPr>
            <a:xfrm>
              <a:off x="5603760" y="2635200"/>
              <a:ext cx="5076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3" name="Freeform 73"/>
            <p:cNvSpPr/>
            <p:nvPr/>
          </p:nvSpPr>
          <p:spPr>
            <a:xfrm>
              <a:off x="5570280" y="2589120"/>
              <a:ext cx="38160" cy="493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4" name="Freeform 74"/>
            <p:cNvSpPr/>
            <p:nvPr/>
          </p:nvSpPr>
          <p:spPr>
            <a:xfrm>
              <a:off x="5624280" y="2606760"/>
              <a:ext cx="5400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5" name="Freeform 75"/>
            <p:cNvSpPr/>
            <p:nvPr/>
          </p:nvSpPr>
          <p:spPr>
            <a:xfrm>
              <a:off x="5546520" y="2079720"/>
              <a:ext cx="42840" cy="871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6" name="Freeform 76"/>
            <p:cNvSpPr/>
            <p:nvPr/>
          </p:nvSpPr>
          <p:spPr>
            <a:xfrm>
              <a:off x="5627520" y="2065320"/>
              <a:ext cx="30240" cy="874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7" name="Freeform 77"/>
            <p:cNvSpPr/>
            <p:nvPr/>
          </p:nvSpPr>
          <p:spPr>
            <a:xfrm>
              <a:off x="5662440" y="2038320"/>
              <a:ext cx="15840" cy="39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8" name="Freeform 78"/>
            <p:cNvSpPr/>
            <p:nvPr/>
          </p:nvSpPr>
          <p:spPr>
            <a:xfrm>
              <a:off x="5678280" y="2057400"/>
              <a:ext cx="33480" cy="763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9" name="Freeform 79"/>
            <p:cNvSpPr/>
            <p:nvPr/>
          </p:nvSpPr>
          <p:spPr>
            <a:xfrm>
              <a:off x="5251320" y="2166840"/>
              <a:ext cx="1908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0" name="Freeform 80"/>
            <p:cNvSpPr/>
            <p:nvPr/>
          </p:nvSpPr>
          <p:spPr>
            <a:xfrm>
              <a:off x="5235480" y="2130480"/>
              <a:ext cx="158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1" name="Freeform 81"/>
            <p:cNvSpPr/>
            <p:nvPr/>
          </p:nvSpPr>
          <p:spPr>
            <a:xfrm>
              <a:off x="5229000" y="2102040"/>
              <a:ext cx="19080" cy="21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2" name="Freeform 82"/>
            <p:cNvSpPr/>
            <p:nvPr/>
          </p:nvSpPr>
          <p:spPr>
            <a:xfrm>
              <a:off x="5209920" y="2038320"/>
              <a:ext cx="17640" cy="302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3" name="Freeform 83"/>
            <p:cNvSpPr/>
            <p:nvPr/>
          </p:nvSpPr>
          <p:spPr>
            <a:xfrm>
              <a:off x="5213160" y="2077920"/>
              <a:ext cx="25560" cy="20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4" name="Freeform 84"/>
            <p:cNvSpPr/>
            <p:nvPr/>
          </p:nvSpPr>
          <p:spPr>
            <a:xfrm>
              <a:off x="6540480" y="3067200"/>
              <a:ext cx="71280" cy="95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5" name="Freeform 85"/>
            <p:cNvSpPr/>
            <p:nvPr/>
          </p:nvSpPr>
          <p:spPr>
            <a:xfrm>
              <a:off x="6906960" y="2989440"/>
              <a:ext cx="84240" cy="72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6" name="Freeform 86"/>
            <p:cNvSpPr/>
            <p:nvPr/>
          </p:nvSpPr>
          <p:spPr>
            <a:xfrm>
              <a:off x="6653160" y="2949480"/>
              <a:ext cx="27000" cy="36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7" name="Freeform 87"/>
            <p:cNvSpPr/>
            <p:nvPr/>
          </p:nvSpPr>
          <p:spPr>
            <a:xfrm>
              <a:off x="6640560" y="2914560"/>
              <a:ext cx="3168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8" name="Freeform 88"/>
            <p:cNvSpPr/>
            <p:nvPr/>
          </p:nvSpPr>
          <p:spPr>
            <a:xfrm>
              <a:off x="6397560" y="2606760"/>
              <a:ext cx="38160" cy="522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9" name="Freeform 89"/>
            <p:cNvSpPr/>
            <p:nvPr/>
          </p:nvSpPr>
          <p:spPr>
            <a:xfrm>
              <a:off x="6451560" y="2674800"/>
              <a:ext cx="4104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0" name="Freeform 90"/>
            <p:cNvSpPr/>
            <p:nvPr/>
          </p:nvSpPr>
          <p:spPr>
            <a:xfrm>
              <a:off x="6494400" y="2774880"/>
              <a:ext cx="44280" cy="44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1" name="Freeform 91"/>
            <p:cNvSpPr/>
            <p:nvPr/>
          </p:nvSpPr>
          <p:spPr>
            <a:xfrm>
              <a:off x="6548400" y="2759040"/>
              <a:ext cx="4428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2" name="Freeform 92"/>
            <p:cNvSpPr/>
            <p:nvPr/>
          </p:nvSpPr>
          <p:spPr>
            <a:xfrm>
              <a:off x="6532560" y="2701800"/>
              <a:ext cx="41040" cy="32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3" name="Freeform 93"/>
            <p:cNvSpPr/>
            <p:nvPr/>
          </p:nvSpPr>
          <p:spPr>
            <a:xfrm>
              <a:off x="6491160" y="2662200"/>
              <a:ext cx="41400" cy="55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4" name="Freeform 94"/>
            <p:cNvSpPr/>
            <p:nvPr/>
          </p:nvSpPr>
          <p:spPr>
            <a:xfrm>
              <a:off x="6440400" y="2637000"/>
              <a:ext cx="38160" cy="41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5" name="Freeform 95"/>
            <p:cNvSpPr/>
            <p:nvPr/>
          </p:nvSpPr>
          <p:spPr>
            <a:xfrm>
              <a:off x="6503760" y="2720880"/>
              <a:ext cx="3816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6" name="Freeform 96"/>
            <p:cNvSpPr/>
            <p:nvPr/>
          </p:nvSpPr>
          <p:spPr>
            <a:xfrm>
              <a:off x="3948120" y="539640"/>
              <a:ext cx="223560" cy="171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7" name="Freeform 97"/>
            <p:cNvSpPr/>
            <p:nvPr/>
          </p:nvSpPr>
          <p:spPr>
            <a:xfrm>
              <a:off x="4081320" y="704880"/>
              <a:ext cx="63720" cy="1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8" name="Freeform 98"/>
            <p:cNvSpPr/>
            <p:nvPr/>
          </p:nvSpPr>
          <p:spPr>
            <a:xfrm>
              <a:off x="4406760" y="457200"/>
              <a:ext cx="66600" cy="44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9" name="Freeform 99"/>
            <p:cNvSpPr/>
            <p:nvPr/>
          </p:nvSpPr>
          <p:spPr>
            <a:xfrm>
              <a:off x="4454280" y="477720"/>
              <a:ext cx="79560" cy="32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0" name="Freeform 100"/>
            <p:cNvSpPr/>
            <p:nvPr/>
          </p:nvSpPr>
          <p:spPr>
            <a:xfrm>
              <a:off x="4540320" y="482760"/>
              <a:ext cx="79200" cy="50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1" name="Freeform 101"/>
            <p:cNvSpPr/>
            <p:nvPr/>
          </p:nvSpPr>
          <p:spPr>
            <a:xfrm>
              <a:off x="5094360" y="525600"/>
              <a:ext cx="139680" cy="48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2" name="Freeform 102"/>
            <p:cNvSpPr/>
            <p:nvPr/>
          </p:nvSpPr>
          <p:spPr>
            <a:xfrm>
              <a:off x="5236920" y="523800"/>
              <a:ext cx="7308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3" name="Freeform 103"/>
            <p:cNvSpPr/>
            <p:nvPr/>
          </p:nvSpPr>
          <p:spPr>
            <a:xfrm>
              <a:off x="5203800" y="569880"/>
              <a:ext cx="5868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4" name="Freeform 104"/>
            <p:cNvSpPr/>
            <p:nvPr/>
          </p:nvSpPr>
          <p:spPr>
            <a:xfrm>
              <a:off x="5603760" y="925560"/>
              <a:ext cx="120600" cy="181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5" name="Freeform 105"/>
            <p:cNvSpPr/>
            <p:nvPr/>
          </p:nvSpPr>
          <p:spPr>
            <a:xfrm>
              <a:off x="5700600" y="1112760"/>
              <a:ext cx="87480" cy="123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6" name="Freeform 106"/>
            <p:cNvSpPr/>
            <p:nvPr/>
          </p:nvSpPr>
          <p:spPr>
            <a:xfrm>
              <a:off x="5643360" y="1239840"/>
              <a:ext cx="173160" cy="299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7" name="Freeform 107"/>
            <p:cNvSpPr/>
            <p:nvPr/>
          </p:nvSpPr>
          <p:spPr>
            <a:xfrm>
              <a:off x="3959280" y="439920"/>
              <a:ext cx="82440" cy="47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8" name="Freeform 108"/>
            <p:cNvSpPr/>
            <p:nvPr/>
          </p:nvSpPr>
          <p:spPr>
            <a:xfrm>
              <a:off x="3789360" y="453960"/>
              <a:ext cx="30240" cy="349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9" name="Freeform 109"/>
            <p:cNvSpPr/>
            <p:nvPr/>
          </p:nvSpPr>
          <p:spPr>
            <a:xfrm>
              <a:off x="3827520" y="452520"/>
              <a:ext cx="5868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0" name="Freeform 110"/>
            <p:cNvSpPr/>
            <p:nvPr/>
          </p:nvSpPr>
          <p:spPr>
            <a:xfrm>
              <a:off x="3924360" y="438120"/>
              <a:ext cx="31680" cy="25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1" name="Freeform 111"/>
            <p:cNvSpPr/>
            <p:nvPr/>
          </p:nvSpPr>
          <p:spPr>
            <a:xfrm>
              <a:off x="3895560" y="466560"/>
              <a:ext cx="23760" cy="20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2" name="Freeform 112"/>
            <p:cNvSpPr/>
            <p:nvPr/>
          </p:nvSpPr>
          <p:spPr>
            <a:xfrm>
              <a:off x="5705280" y="492120"/>
              <a:ext cx="2880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3" name="Freeform 113"/>
            <p:cNvSpPr/>
            <p:nvPr/>
          </p:nvSpPr>
          <p:spPr>
            <a:xfrm>
              <a:off x="4302000" y="2797200"/>
              <a:ext cx="49320" cy="28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4" name="Freeform 114"/>
            <p:cNvSpPr/>
            <p:nvPr/>
          </p:nvSpPr>
          <p:spPr>
            <a:xfrm>
              <a:off x="4365360" y="2786040"/>
              <a:ext cx="162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5" name="Freeform 115"/>
            <p:cNvSpPr/>
            <p:nvPr/>
          </p:nvSpPr>
          <p:spPr>
            <a:xfrm>
              <a:off x="4259160" y="2541600"/>
              <a:ext cx="144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6" name="Freeform 116"/>
            <p:cNvSpPr/>
            <p:nvPr/>
          </p:nvSpPr>
          <p:spPr>
            <a:xfrm>
              <a:off x="4354560" y="2425680"/>
              <a:ext cx="17280" cy="302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7" name="Freeform 117"/>
            <p:cNvSpPr/>
            <p:nvPr/>
          </p:nvSpPr>
          <p:spPr>
            <a:xfrm>
              <a:off x="4316400" y="2424240"/>
              <a:ext cx="17280" cy="29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8" name="Freeform 118"/>
            <p:cNvSpPr/>
            <p:nvPr/>
          </p:nvSpPr>
          <p:spPr>
            <a:xfrm>
              <a:off x="4298760" y="2459160"/>
              <a:ext cx="158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9" name="Freeform 119"/>
            <p:cNvSpPr/>
            <p:nvPr/>
          </p:nvSpPr>
          <p:spPr>
            <a:xfrm>
              <a:off x="4259160" y="2513160"/>
              <a:ext cx="144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0" name="Freeform 120"/>
            <p:cNvSpPr/>
            <p:nvPr/>
          </p:nvSpPr>
          <p:spPr>
            <a:xfrm>
              <a:off x="4289400" y="2492280"/>
              <a:ext cx="158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1" name="Freeform 121"/>
            <p:cNvSpPr/>
            <p:nvPr/>
          </p:nvSpPr>
          <p:spPr>
            <a:xfrm>
              <a:off x="3125520" y="923760"/>
              <a:ext cx="16200" cy="241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2" name="Freeform 122"/>
            <p:cNvSpPr/>
            <p:nvPr/>
          </p:nvSpPr>
          <p:spPr>
            <a:xfrm>
              <a:off x="3028680" y="870120"/>
              <a:ext cx="162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3" name="Freeform 123"/>
            <p:cNvSpPr/>
            <p:nvPr/>
          </p:nvSpPr>
          <p:spPr>
            <a:xfrm>
              <a:off x="2651040" y="525600"/>
              <a:ext cx="3270240" cy="2609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pic>
        <p:nvPicPr>
          <p:cNvPr id="154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92d05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4"/>
          </p:nvPr>
        </p:nvSpPr>
        <p:spPr>
          <a:xfrm>
            <a:off x="304920" y="6476760"/>
            <a:ext cx="21333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5"/>
          </p:nvPr>
        </p:nvSpPr>
        <p:spPr>
          <a:xfrm>
            <a:off x="6705720" y="6477120"/>
            <a:ext cx="228600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6"/>
          </p:nvPr>
        </p:nvSpPr>
        <p:spPr>
          <a:xfrm>
            <a:off x="3657240" y="647676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0952F-EC4D-4A07-A47C-042CC7C4762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98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199" name="矩形 9"/>
          <p:cNvSpPr/>
          <p:nvPr/>
        </p:nvSpPr>
        <p:spPr>
          <a:xfrm>
            <a:off x="1357200" y="1785960"/>
            <a:ext cx="6572520" cy="4286160"/>
          </a:xfrm>
          <a:prstGeom prst="rect">
            <a:avLst/>
          </a:prstGeom>
          <a:solidFill>
            <a:srgbClr val="ffffff"/>
          </a:solidFill>
          <a:ln w="0">
            <a:solidFill>
              <a:srgbClr val="3481a7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92d05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7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8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9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43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244" name="TextBox 9"/>
          <p:cNvSpPr/>
          <p:nvPr/>
        </p:nvSpPr>
        <p:spPr>
          <a:xfrm>
            <a:off x="1285920" y="1857240"/>
            <a:ext cx="6357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92d05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0"/>
          </p:nvPr>
        </p:nvSpPr>
        <p:spPr>
          <a:xfrm>
            <a:off x="499680" y="6428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12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1"/>
          </p:nvPr>
        </p:nvSpPr>
        <p:spPr>
          <a:xfrm>
            <a:off x="3143160" y="6428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8EFFF-5F53-4AE1-9F6D-9B6C52157C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2"/>
          </p:nvPr>
        </p:nvSpPr>
        <p:spPr>
          <a:xfrm>
            <a:off x="6571800" y="6428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88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92d05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3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14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15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9ECF9-2AE1-46E1-832B-11E85994F10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332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body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92d05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16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17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18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3CD8C-656E-4A52-80A3-76312674A2D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376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body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92d05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19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0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1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EC726-B824-487D-8E7B-0A695751F69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419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420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92d05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2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3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24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5889B-0F00-4A23-AAD2-412C04C29C1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464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92d05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25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6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27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614F7-909F-421B-BDBE-9B811743340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6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6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6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6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9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6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9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9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8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6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97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6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6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6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6"/>
          <p:cNvSpPr/>
          <p:nvPr/>
        </p:nvSpPr>
        <p:spPr>
          <a:xfrm>
            <a:off x="3708000" y="3929760"/>
            <a:ext cx="2142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黑体"/>
                <a:ea typeface="黑体"/>
              </a:rPr>
              <a:t>清华大学经济管理学院   朱世武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16" name="Rectangle 6"/>
          <p:cNvSpPr/>
          <p:nvPr/>
        </p:nvSpPr>
        <p:spPr>
          <a:xfrm>
            <a:off x="3071880" y="4500720"/>
            <a:ext cx="3851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zhushw@sem.tsinghua.edu.cn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zhushw@resset.cn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17" name="Rectangle 7"/>
          <p:cNvSpPr/>
          <p:nvPr/>
        </p:nvSpPr>
        <p:spPr>
          <a:xfrm>
            <a:off x="3064680" y="5322600"/>
            <a:ext cx="61167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Zhu Shiwu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School of Economics and Management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Tsinghua University </a:t>
            </a:r>
            <a:br>
              <a:rPr sz="1800"/>
            </a:b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1258920" y="1341000"/>
            <a:ext cx="662472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7030a0"/>
                </a:solidFill>
                <a:latin typeface="Arial"/>
                <a:ea typeface="宋体"/>
              </a:rPr>
              <a:t>第</a:t>
            </a:r>
            <a:r>
              <a:rPr b="1" i="1" lang="en-US" sz="4400" spc="-1" strike="noStrike">
                <a:solidFill>
                  <a:srgbClr val="7030a0"/>
                </a:solidFill>
                <a:latin typeface="Arial"/>
                <a:ea typeface="宋体"/>
              </a:rPr>
              <a:t>9</a:t>
            </a:r>
            <a:r>
              <a:rPr b="1" i="1" lang="zh-CN" sz="4400" spc="-1" strike="noStrike">
                <a:solidFill>
                  <a:srgbClr val="7030a0"/>
                </a:solidFill>
                <a:latin typeface="Arial"/>
                <a:ea typeface="宋体"/>
              </a:rPr>
              <a:t>章 输出控制</a:t>
            </a: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日志输出地点 </a:t>
            </a:r>
            <a:endParaRPr b="1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1600200" y="22093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通常情况下，日志输出在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LOG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窗口。 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SAS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日志可以输出的地点有：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终端；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外部文件；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打印机。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使用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PRINTTO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过程可以重新定义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日志的输出地点。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定制日志格式 </a:t>
            </a:r>
            <a:endParaRPr b="1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定制日志格式的语句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841" name="Object 2"/>
          <p:cNvGraphicFramePr/>
          <p:nvPr/>
        </p:nvGraphicFramePr>
        <p:xfrm>
          <a:off x="1600200" y="3048120"/>
          <a:ext cx="6356520" cy="1744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048120"/>
                    <a:ext cx="6356520" cy="17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600200" y="144756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定制日志格式系统的选项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 </a:t>
            </a:r>
            <a:endParaRPr b="1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graphicFrame>
        <p:nvGraphicFramePr>
          <p:cNvPr id="844" name="Object 2"/>
          <p:cNvGraphicFramePr/>
          <p:nvPr/>
        </p:nvGraphicFramePr>
        <p:xfrm>
          <a:off x="1676520" y="2971800"/>
          <a:ext cx="6424560" cy="117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971800"/>
                    <a:ext cx="642456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71680" y="928440"/>
            <a:ext cx="723888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应用举例 </a:t>
            </a:r>
            <a:endParaRPr b="1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1523520" y="1676160"/>
            <a:ext cx="6262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9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.2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将日志存贮为外部文件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t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lo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d:\saslog.txt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new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class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语句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PRINTTO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选项的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NEW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表示替换文件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SASLOG.TXT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原有的内容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9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.3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增量输出日志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t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lo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d:\log.dat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class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Text Box 7"/>
          <p:cNvSpPr/>
          <p:nvPr/>
        </p:nvSpPr>
        <p:spPr>
          <a:xfrm>
            <a:off x="1835280" y="1341360"/>
            <a:ext cx="36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替换输出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saslog-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记事本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49" name="Text Box 8"/>
          <p:cNvSpPr/>
          <p:nvPr/>
        </p:nvSpPr>
        <p:spPr>
          <a:xfrm>
            <a:off x="1476360" y="2133720"/>
            <a:ext cx="5616720" cy="2677320"/>
          </a:xfrm>
          <a:prstGeom prst="rect">
            <a:avLst/>
          </a:prstGeom>
          <a:noFill/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NOTE: “PROCEDURE PRINTTO”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所用时间（总处理时间）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实际时间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0.04 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秒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CPU 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时间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0.00 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秒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      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184  proc print data=ResDat.class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185  run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NOTE: 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从数据集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RESDAT.CLASS 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读取了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19 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个观测。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NOTE: “PROCEDURE PRINT”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所用时间（总处理时间）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实际时间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0.00 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秒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CPU 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时间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0.00 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秒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Text Box 4"/>
          <p:cNvSpPr/>
          <p:nvPr/>
        </p:nvSpPr>
        <p:spPr>
          <a:xfrm>
            <a:off x="1285920" y="1428840"/>
            <a:ext cx="662472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NOTE: “PROCEDURE PRINTTO”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所用时间（总处理时间）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      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实际时间        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0.00 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秒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CPU 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时间        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0.00 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秒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      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187  proc print data=ResDat.class;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188  run;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NOTE: 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从数据集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RESDAT.CLASS 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读取了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19 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个观测。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NOTE: “PROCEDURE PRINT”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所用时间（总处理时间）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      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实际时间        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0.00 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秒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CPU 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时间        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0.00 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秒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      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189  proc printto  log= 'd:\log.dat' ;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NOTE: “PROCEDURE PRINTTO”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所用时间（总处理时间）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      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实际时间        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0.00 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秒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CPU 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时间        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0.00 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秒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      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190  proc print data=ResDat.class;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191  run;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NOTE: 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从数据集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RESDAT.CLASS 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读取了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19 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个观测。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NOTE: “PROCEDURE PRINT”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所用时间（总处理时间）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      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实际时间        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0.00 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秒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CPU 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时间        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0.00 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秒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51" name="Text Box 5"/>
          <p:cNvSpPr/>
          <p:nvPr/>
        </p:nvSpPr>
        <p:spPr>
          <a:xfrm>
            <a:off x="1619280" y="1052640"/>
            <a:ext cx="3384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增量输出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log-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记事本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运行结果输出控制 </a:t>
            </a:r>
            <a:endParaRPr b="1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系统产生的运行结果有两类：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PROC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步产生的输出结果；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步通过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FILE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和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PUT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产生的输出结果。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定制输出格式 </a:t>
            </a:r>
            <a:endParaRPr b="1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1600200" y="243792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定制输出格式的语句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856" name="Object 2"/>
          <p:cNvGraphicFramePr/>
          <p:nvPr/>
        </p:nvGraphicFramePr>
        <p:xfrm>
          <a:off x="1600200" y="3124080"/>
          <a:ext cx="5564160" cy="179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124080"/>
                    <a:ext cx="5564160" cy="17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/>
          </p:nvPr>
        </p:nvSpPr>
        <p:spPr>
          <a:xfrm>
            <a:off x="1600200" y="159984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定制输出格式的系统选项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859" name="Object 2"/>
          <p:cNvGraphicFramePr/>
          <p:nvPr/>
        </p:nvGraphicFramePr>
        <p:xfrm>
          <a:off x="1600200" y="2205000"/>
          <a:ext cx="5780160" cy="3328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05000"/>
                    <a:ext cx="5780160" cy="33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45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9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.5 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输出时不加页码的系统选项。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op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nonumber;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9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.6 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输出时不打印日期和时间。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option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odate;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9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.7 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左对齐输出选项。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op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nocenter;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9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.8 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规定缺失值的表示字符。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op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missing =</a:t>
            </a:r>
            <a:r>
              <a:rPr b="0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'B'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 Narrow"/>
                <a:ea typeface="宋体"/>
              </a:rPr>
              <a:t>本章内容提要</a:t>
            </a:r>
            <a:endParaRPr b="1" lang="en-US" sz="36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1285920" y="1642680"/>
            <a:ext cx="62863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输出窗口与内容；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日志输出控制；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运行结果输出控制；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图形存贮利用与输出；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输出传送系统（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ODS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）。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0040" y="107136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运行结果输出地点 </a:t>
            </a:r>
            <a:endParaRPr b="1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857160" y="1856880"/>
            <a:ext cx="7429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通常情况下，运行结果输出在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OUTPUT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窗口。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1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SAS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运行结果可以输出的地点有：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终端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;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外部文件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;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打印机。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使用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PRINTTO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过程可以重新定义运行结果的输出地点。 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71680" y="857160"/>
            <a:ext cx="72388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应用举例 </a:t>
            </a:r>
            <a:endParaRPr b="1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928440" y="1571760"/>
            <a:ext cx="7993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9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.9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直接输出到外部文件。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pr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宋体"/>
              </a:rPr>
              <a:t>'d:\out.txt'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new;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class;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PRINT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过程产生的输出结果直接存贮到文件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D:\OUT.TXT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中，选项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NEW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表示替换原有文件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OUT.TXT.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9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.10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增量输出。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pr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宋体"/>
              </a:rPr>
              <a:t>'d:\out.txt'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class;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19200" y="99036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图形存贮利用与输出 </a:t>
            </a:r>
            <a:endParaRPr b="1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143000" y="185688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SAS/GRAPH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软件是一个功能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强大的图形软件包，有许多绘图过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绘图过程产生的图形一方面可以直接输出到显示设备（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RAPH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窗口）上，另一方面也可以作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图形存贮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目录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atalog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存贮图形的缺省目录册名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WORK.GRSEG.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71680" y="907920"/>
            <a:ext cx="72388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黑体"/>
              </a:rPr>
              <a:t>图形存贮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1071720" y="1857240"/>
            <a:ext cx="7238880" cy="453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每幅图都是目录册的一个条目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NTRY),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条目的类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YPE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RSEG.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每个条目都有自己的名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AME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描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ESCRITION),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缺省的名称和描述是过程名加上相应的序号。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在作图过程语句中加入选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OUT=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把过程生成的图形存入指定的逻辑库和目录册。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/>
          </p:nvPr>
        </p:nvSpPr>
        <p:spPr>
          <a:xfrm>
            <a:off x="1000080" y="1218960"/>
            <a:ext cx="7238880" cy="49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.12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将图形存入目录册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gplo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Idx000001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go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graph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ymbol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none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join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blue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plo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Clpr*date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将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GPLO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过程产生的图形存入逻辑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esDa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下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GRAPH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目录册中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9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.13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存贮图形时给出名称和描述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gplo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Idx000001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go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graph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ymbol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none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join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blue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"</a:t>
            </a:r>
            <a:r>
              <a:rPr b="0" lang="zh-CN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上证指数时序图</a:t>
            </a:r>
            <a:r>
              <a:rPr b="0" lang="zh-CN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"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plo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Clpr*date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/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Idx000001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Time series plot for close price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存贮图形的名子为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Idx000001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，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描述为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Time series plot for close price.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1" name="Picture 4" descr=""/>
          <p:cNvPicPr/>
          <p:nvPr/>
        </p:nvPicPr>
        <p:blipFill>
          <a:blip r:embed="rId1"/>
          <a:srcRect l="0" t="0" r="75482" b="71255"/>
          <a:stretch/>
        </p:blipFill>
        <p:spPr>
          <a:xfrm>
            <a:off x="826920" y="1700280"/>
            <a:ext cx="2953080" cy="1949400"/>
          </a:xfrm>
          <a:prstGeom prst="rect">
            <a:avLst/>
          </a:prstGeom>
          <a:ln w="0">
            <a:noFill/>
          </a:ln>
        </p:spPr>
      </p:pic>
      <p:pic>
        <p:nvPicPr>
          <p:cNvPr id="872" name="Picture 6" descr=""/>
          <p:cNvPicPr/>
          <p:nvPr/>
        </p:nvPicPr>
        <p:blipFill>
          <a:blip r:embed="rId2"/>
          <a:stretch/>
        </p:blipFill>
        <p:spPr>
          <a:xfrm>
            <a:off x="4284720" y="1700280"/>
            <a:ext cx="3382920" cy="234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42960" y="99972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GREPLAY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过程的功能</a:t>
            </a:r>
            <a:endParaRPr b="1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1116000" y="2133720"/>
            <a:ext cx="709920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59a5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重复利用已生成图形；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59a5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重新命名，复制和删除目录册中的图形条目；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59a5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在一个画面显示多幅图形；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59a5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已存贮在目录册中的图形按设定的模板进行显示和输出。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99680" y="999720"/>
            <a:ext cx="464364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模板条目</a:t>
            </a:r>
            <a:endParaRPr b="1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116000" y="2205000"/>
            <a:ext cx="72388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9a5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模板是目录册中的一个条目，规定一个画面中怎样显示多幅图形；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9a5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模板可以自行设计。逻辑库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SASHELP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中的目录册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TEMPLT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中存放了许多模板；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9a5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逻辑库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SASHELP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中的目录册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TEMPLT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中存放的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L2R2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就是将四幅图按左面两幅右面两幅在一起显示的模板。</a:t>
            </a:r>
            <a:r>
              <a:rPr b="0" lang="zh-CN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28400" y="78552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GREPLAY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过程的简单格式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 </a:t>
            </a:r>
            <a:endParaRPr b="1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1447920" y="1989000"/>
            <a:ext cx="723888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GREPLAY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 nofs GOUT=&lt;</a:t>
            </a:r>
            <a:r>
              <a:rPr b="0" i="1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libref.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&gt;</a:t>
            </a:r>
            <a:r>
              <a:rPr b="0" i="1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output-catalog 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IGOUT=&lt;</a:t>
            </a:r>
            <a:r>
              <a:rPr b="0" i="1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libref.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&gt;</a:t>
            </a:r>
            <a:r>
              <a:rPr b="0" i="1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input-catalog;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TC=</a:t>
            </a:r>
            <a:r>
              <a:rPr b="0" i="1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template-catalog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 ;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TEMPLATE=</a:t>
            </a:r>
            <a:r>
              <a:rPr b="0" i="1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template-entry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;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TREPLAY </a:t>
            </a:r>
            <a:r>
              <a:rPr b="0" i="1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select-pair(s)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;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523520" y="1142640"/>
            <a:ext cx="7239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过程选项说明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 </a:t>
            </a:r>
            <a:endParaRPr b="1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graphicFrame>
        <p:nvGraphicFramePr>
          <p:cNvPr id="880" name="Object 2"/>
          <p:cNvGraphicFramePr/>
          <p:nvPr/>
        </p:nvGraphicFramePr>
        <p:xfrm>
          <a:off x="1600200" y="2421000"/>
          <a:ext cx="6284880" cy="238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421000"/>
                    <a:ext cx="628488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856800" y="1142640"/>
            <a:ext cx="7239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输出窗口与内容 </a:t>
            </a:r>
            <a:endParaRPr b="1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graphicFrame>
        <p:nvGraphicFramePr>
          <p:cNvPr id="822" name="Object 2"/>
          <p:cNvGraphicFramePr/>
          <p:nvPr/>
        </p:nvGraphicFramePr>
        <p:xfrm>
          <a:off x="1619280" y="2276640"/>
          <a:ext cx="5832360" cy="1771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276640"/>
                    <a:ext cx="5832360" cy="17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/>
          </p:nvPr>
        </p:nvSpPr>
        <p:spPr>
          <a:xfrm>
            <a:off x="1116000" y="981000"/>
            <a:ext cx="731376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9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14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一个画面放四幅图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grepl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nof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igout=ResDat.graph  gout=ResDat.graph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ashelp.templt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empl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l2r2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repl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Idx000001 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Idx000002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 Idx399106 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Idx399001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将上证指数，上证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A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股指数，深证成指和深证综指这四幅时序图放在一个画面上。   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grepl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nof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igout=ResDat.graph  gout=ResDat.graph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ashelp.templt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empl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l2r2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repl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Idx000001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Idx000002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Idx399001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 template  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一个画面放四幅图，其中的第四幅图形使用模板合成的图形。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3" name="Picture 4" descr=""/>
          <p:cNvPicPr/>
          <p:nvPr/>
        </p:nvPicPr>
        <p:blipFill>
          <a:blip r:embed="rId1"/>
          <a:srcRect l="20477" t="14067" r="3127" b="12586"/>
          <a:stretch/>
        </p:blipFill>
        <p:spPr>
          <a:xfrm>
            <a:off x="0" y="0"/>
            <a:ext cx="9144000" cy="658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Picture 2" descr=""/>
          <p:cNvPicPr/>
          <p:nvPr/>
        </p:nvPicPr>
        <p:blipFill>
          <a:blip r:embed="rId1"/>
          <a:srcRect l="20433" t="14564" r="2673" b="12364"/>
          <a:stretch/>
        </p:blipFill>
        <p:spPr>
          <a:xfrm>
            <a:off x="0" y="0"/>
            <a:ext cx="9144000" cy="651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42960" y="10713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宋体"/>
              </a:rPr>
              <a:t>输出其它格式的图形文件 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BMP,</a:t>
            </a:r>
            <a:r>
              <a:rPr b="0" lang="zh-CN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EMF,</a:t>
            </a:r>
            <a:r>
              <a:rPr b="0" lang="zh-CN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WMF, JPG, JIF, TIF</a:t>
            </a:r>
            <a:r>
              <a:rPr b="0" lang="zh-CN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等格式的文件；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带图形的</a:t>
            </a:r>
            <a:r>
              <a:rPr b="0" lang="en-US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HTML</a:t>
            </a:r>
            <a:r>
              <a:rPr b="0" lang="zh-CN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文件。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71680" y="714240"/>
            <a:ext cx="72388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黑体"/>
              </a:rPr>
              <a:t>输出其它格式文件的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黑体"/>
              </a:rPr>
              <a:t>GOPTIONS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黑体"/>
              </a:rPr>
              <a:t>语句选项</a:t>
            </a:r>
            <a:endParaRPr b="1" lang="en-US" sz="28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1599840" y="1917720"/>
            <a:ext cx="592452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GOPTIONS 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DEVICE=device-entry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GSFNAME=fileref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GSFMODE=APPEND | PORT | REPLACE;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889" name="Object 2"/>
          <p:cNvGraphicFramePr/>
          <p:nvPr/>
        </p:nvGraphicFramePr>
        <p:xfrm>
          <a:off x="1357200" y="4214880"/>
          <a:ext cx="7417080" cy="167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7200" y="4214880"/>
                    <a:ext cx="7417080" cy="16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/>
          </p:nvPr>
        </p:nvSpPr>
        <p:spPr>
          <a:xfrm>
            <a:off x="1523520" y="114264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9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15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显示当前输出图形文件的设备和格式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gdev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9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16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直接将输出图形存贮其它格式的文件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file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d000001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"d:\ResDat\Id000001.gif"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gop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re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all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ev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gif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gsf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Idx000001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gsfmo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replace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gpl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Idx000001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g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graph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ymbol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none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join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blue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"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上证指数时序图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pl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Clpr*date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/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Idx000001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Time series plot for close price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qu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直接输出存贮上证指数时序图为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GIF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格式的文件。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宋体"/>
              </a:rPr>
              <a:t>输出传送系统（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宋体"/>
              </a:rPr>
              <a:t>ODS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系统从版本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7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开始提供了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ODS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OUTPUT DELIVERY SYSTEM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，输出传送系统）。利用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ODS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可以更方便，更灵活地使用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系统各个过程的输出结果，可以选择输出结果形式。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ODS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功能 </a:t>
            </a:r>
            <a:endParaRPr b="1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挑选或剔除过程的输出；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将过程的输出转换成数据集；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输出到不同的平台；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个性化输出表格；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在交互操作环境的结果窗口组织和管理输出对象。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ODS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对象与传送目标</a:t>
            </a:r>
            <a:endParaRPr b="1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ODS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将每个过程的输出分成若干个对象。虽然每个对象的内容属性不同，但所有对象都由两部分构成：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部分：是输出内容包括的数值和字符；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模板部分：也称为表的定义，描述输出内容在输出显示时的布局。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28760" y="85680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ODS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对象的传送目标及生成的文件格式 </a:t>
            </a:r>
            <a:endParaRPr b="1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graphicFrame>
        <p:nvGraphicFramePr>
          <p:cNvPr id="899" name="Object 2"/>
          <p:cNvGraphicFramePr/>
          <p:nvPr/>
        </p:nvGraphicFramePr>
        <p:xfrm>
          <a:off x="1476360" y="3429000"/>
          <a:ext cx="5302440" cy="299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3429000"/>
                    <a:ext cx="5302440" cy="29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1" name="Rectangle 156"/>
          <p:cNvSpPr/>
          <p:nvPr/>
        </p:nvSpPr>
        <p:spPr>
          <a:xfrm>
            <a:off x="1523880" y="1905120"/>
            <a:ext cx="7239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当一个传送目标打开时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OD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就将程序的输出对象传送到这一目标。系统可以同时打开多个传送目标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缺省时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LISTING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目标打开，其它目标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OUTPUT, HTML, PRINTER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RTF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都被关闭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日志输出控制 </a:t>
            </a:r>
            <a:endParaRPr b="1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1600200" y="2209320"/>
            <a:ext cx="5867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日志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(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LOG)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输出程序被执行的信息。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日志输出的信息有助于用户解决系统运行过程中出现的各种问题。 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传送目标控制 </a:t>
            </a:r>
            <a:endParaRPr b="1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1071360" y="1571760"/>
            <a:ext cx="73580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ODS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对象的传送目标有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OUTPUT, LISTING, HTML, PRINTER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和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RTF.  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这里介绍将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ODS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对象传送至这些目标的控制方法。 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42960" y="49968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传送至目标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LISTING </a:t>
            </a:r>
            <a:endParaRPr b="1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1213920" y="1714680"/>
            <a:ext cx="7239240" cy="40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缺省的传送目标就是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LISTING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。 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LISTING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目标的显示方式：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727920" indent="-280080" algn="just">
              <a:lnSpc>
                <a:spcPct val="100000"/>
              </a:lnSpc>
              <a:spcBef>
                <a:spcPts val="700"/>
              </a:spcBef>
              <a:buClr>
                <a:srgbClr val="92d05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</a:rPr>
              <a:t>字符文本在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OUTPUT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</a:rPr>
              <a:t>窗口显示；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1" marL="727920" indent="-280080" algn="just">
              <a:lnSpc>
                <a:spcPct val="100000"/>
              </a:lnSpc>
              <a:spcBef>
                <a:spcPts val="700"/>
              </a:spcBef>
              <a:buClr>
                <a:srgbClr val="92d05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</a:rPr>
              <a:t>图形在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GRAPH1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</a:rPr>
              <a:t>窗口显示。 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关闭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LISTING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目标： 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O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LIST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CLO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打开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LISTING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目标：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O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LIST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/>
          </p:nvPr>
        </p:nvSpPr>
        <p:spPr>
          <a:xfrm>
            <a:off x="1447920" y="121896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9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.17 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关闭输出目标不输出任何结果。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O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list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clo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class;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由于缺省情况下，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LISTING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是唯一开放的目标，先关闭这一目标后，没有开放的传送目标，输出结果无可传送。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Text Box 2"/>
          <p:cNvSpPr/>
          <p:nvPr/>
        </p:nvSpPr>
        <p:spPr>
          <a:xfrm>
            <a:off x="1143000" y="928800"/>
            <a:ext cx="7272360" cy="40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例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9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.18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直接将输出结果存贮为外部文本文件。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O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Lis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i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'd:\ResDat\f.txt'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pr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pr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d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ResDat.Idx000001;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e clpr;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filenam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1 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'd:\ResDat\f.txt'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O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Lis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i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F1;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pr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pr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d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ResDat.Idx000001;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e clpr;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例中，用前面介绍的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PRINTTO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过程可以得到相同的效果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传送至目标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OUTPUT </a:t>
            </a:r>
            <a:endParaRPr b="1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1071720" y="1714680"/>
            <a:ext cx="72388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对于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SAS7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前的版本，有许多过程的输出结果不能直接生成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集，要想将输出报告中的统计量直接转换成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集是件很麻烦的事。利用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ODS OUTPUT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可以为多数过程的输出对象建立数据集。 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f0"/>
                </a:solidFill>
                <a:latin typeface="Times New Roman"/>
                <a:ea typeface="黑体"/>
              </a:rPr>
              <a:t>传送至目标</a:t>
            </a:r>
            <a:r>
              <a:rPr b="0" lang="en-US" sz="2800" spc="-1" strike="noStrike">
                <a:solidFill>
                  <a:srgbClr val="00b0f0"/>
                </a:solidFill>
                <a:latin typeface="Times New Roman"/>
                <a:ea typeface="黑体"/>
              </a:rPr>
              <a:t>OUTPUT</a:t>
            </a:r>
            <a:r>
              <a:rPr b="0" lang="en-US" sz="2800" spc="-1" strike="noStrike">
                <a:solidFill>
                  <a:srgbClr val="00b0f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ODS OUTPUT 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输出对象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1=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集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1 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输出对象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2=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集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2…;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/>
          </p:nvPr>
        </p:nvSpPr>
        <p:spPr>
          <a:xfrm>
            <a:off x="1143000" y="1500120"/>
            <a:ext cx="72388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9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.19 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将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MEANS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过程的输出统计量直接写入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集。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O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list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clo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O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summary=sum;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80"/>
                </a:solidFill>
                <a:latin typeface="Times New Roman"/>
                <a:ea typeface="宋体"/>
              </a:rPr>
              <a:t>mea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Idx000001;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v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hipr clpr ;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O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list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13840" y="785880"/>
            <a:ext cx="72392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传送至目标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PRINTER </a:t>
            </a:r>
            <a:endParaRPr b="1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1071720" y="1714680"/>
            <a:ext cx="723888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传送至目标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PRINTER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是将输出对象直接在打印机输出或生成打印文件。 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传送至目标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PRINTER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：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ODS PRINTER &lt;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选项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&gt;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9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21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直接输出到打印机上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list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prin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class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prin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list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没有选项时的缺省情况是将输出对象直接在系统缺省打印机上输出。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/>
          </p:nvPr>
        </p:nvSpPr>
        <p:spPr>
          <a:xfrm>
            <a:off x="900000" y="765000"/>
            <a:ext cx="7958160" cy="56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ODS PRINTER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常用选项说明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STYLE=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格式包括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914" name="Object 2"/>
          <p:cNvGraphicFramePr/>
          <p:nvPr/>
        </p:nvGraphicFramePr>
        <p:xfrm>
          <a:off x="900000" y="1666800"/>
          <a:ext cx="6721560" cy="254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666800"/>
                    <a:ext cx="6721560" cy="25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6" name="Object 3"/>
          <p:cNvGraphicFramePr/>
          <p:nvPr/>
        </p:nvGraphicFramePr>
        <p:xfrm>
          <a:off x="1362240" y="4857840"/>
          <a:ext cx="5995800" cy="1471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1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62240" y="4857840"/>
                    <a:ext cx="5995800" cy="14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/>
          </p:nvPr>
        </p:nvSpPr>
        <p:spPr>
          <a:xfrm>
            <a:off x="1447920" y="144756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9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.23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生成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PDF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格式文件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O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list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lo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Od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print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fi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d:\ResDat\prt.pdf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pd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Idx000001(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ob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O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print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lo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O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list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O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list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lo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Od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print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fi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d:\ResDat\prt.pdf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print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acrobat pdfwriter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Idx000001(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ob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Od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print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lo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O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list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1571400" y="135720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生成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RTF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格式文件</a:t>
            </a:r>
            <a:endParaRPr b="1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1447920" y="213336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直接将输出对象存为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RTF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格式文件的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OD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ODS RTF FILE==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文件标识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|’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文件物理地址’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&lt;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TYLE=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格式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&gt;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9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24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将输出对象存为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TF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格式文件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list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rt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d:\ResDat\prt.rtf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ty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statdoc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Idx000001(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b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rt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list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日志输出信息类型 </a:t>
            </a:r>
            <a:endParaRPr b="1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1285920" y="1571760"/>
            <a:ext cx="75009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执行的程序语句；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程序创建的数据集；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程序执行期间遇到的警告或错误信息；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每个数据集包含多少个变量和多少个观测；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程序每一步执行的时间；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行的信息和列表。 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传送至目标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HTML </a:t>
            </a:r>
            <a:endParaRPr b="1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1071360" y="1642680"/>
            <a:ext cx="778644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将输出结果直接转换成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HTML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文件的方式有以下三种：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用数据步；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 WEB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发布工具提供的宏；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ODS.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利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OD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将输出结果转换成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HTML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文件是最为方便和直接的方式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生成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HTML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目标的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OD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一：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HT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BOD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文件物理地址和名称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程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D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HT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其中，’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BODY=’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和’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FILE=’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的效果相同。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/>
          </p:nvPr>
        </p:nvSpPr>
        <p:spPr>
          <a:xfrm>
            <a:off x="1000080" y="1213920"/>
            <a:ext cx="723888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9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.25 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生成绝对物理路径的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HTML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格式文件。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O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list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clo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O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htm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f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'd:\ResDat\prt.htm'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;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Idx000001(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o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2800" spc="-1" strike="noStrike">
                <a:solidFill>
                  <a:srgbClr val="008080"/>
                </a:solidFill>
                <a:latin typeface="Times New Roman"/>
                <a:ea typeface="宋体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O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htm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clo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O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list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/>
          </p:nvPr>
        </p:nvSpPr>
        <p:spPr>
          <a:xfrm>
            <a:off x="1371240" y="16761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b0f0"/>
                </a:solidFill>
                <a:latin typeface="Times New Roman"/>
                <a:ea typeface="黑体"/>
              </a:rPr>
              <a:t>生成</a:t>
            </a:r>
            <a:r>
              <a:rPr b="0" lang="en-US" sz="2000" spc="-1" strike="noStrike">
                <a:solidFill>
                  <a:srgbClr val="00b0f0"/>
                </a:solidFill>
                <a:latin typeface="Times New Roman"/>
                <a:ea typeface="黑体"/>
              </a:rPr>
              <a:t>HTML</a:t>
            </a:r>
            <a:r>
              <a:rPr b="0" lang="zh-CN" sz="2000" spc="-1" strike="noStrike">
                <a:solidFill>
                  <a:srgbClr val="00b0f0"/>
                </a:solidFill>
                <a:latin typeface="Times New Roman"/>
                <a:ea typeface="黑体"/>
              </a:rPr>
              <a:t>目标的</a:t>
            </a:r>
            <a:r>
              <a:rPr b="0" lang="en-US" sz="2000" spc="-1" strike="noStrike">
                <a:solidFill>
                  <a:srgbClr val="00b0f0"/>
                </a:solidFill>
                <a:latin typeface="Times New Roman"/>
                <a:ea typeface="黑体"/>
              </a:rPr>
              <a:t>ODS</a:t>
            </a:r>
            <a:r>
              <a:rPr b="0" lang="zh-CN" sz="2000" spc="-1" strike="noStrike">
                <a:solidFill>
                  <a:srgbClr val="00b0f0"/>
                </a:solidFill>
                <a:latin typeface="Times New Roman"/>
                <a:ea typeface="黑体"/>
              </a:rPr>
              <a:t>语句格式二：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ODS HTML PATH=’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文件物理地址’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&lt;(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URL=NONE)&gt; BODY=’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文件名’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程序；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ODS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HTML CLOSE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其中：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子选项’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(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URL=NONE)’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表示当生成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HTML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文件包含有超链接时，不使用绝对物理路径，而使用相对路径。这对于生成多个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HTML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文件并将生成的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HTML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文件移到其它服务器上使用时是必须的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/>
          </p:nvPr>
        </p:nvSpPr>
        <p:spPr>
          <a:xfrm>
            <a:off x="1371600" y="167616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9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26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生成使用相对路径的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HTML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格式文件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list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ht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pa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d:\ResDat\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ur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bod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prt.htm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Idx000001(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b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labe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ht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list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查询输出对象 </a:t>
            </a:r>
            <a:endParaRPr b="1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1143000" y="178560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ODS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可以将每个过程步的输出分成一个或多个对象。使用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ODS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可以查询和挑选这些对象。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在对某个过程的输出对象进行挑选前，首先要查询这个过程的输出包含哪些对象。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Text Box 2"/>
          <p:cNvSpPr/>
          <p:nvPr/>
        </p:nvSpPr>
        <p:spPr>
          <a:xfrm>
            <a:off x="1835280" y="1268280"/>
            <a:ext cx="1152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29" name="Text Box 3"/>
          <p:cNvSpPr/>
          <p:nvPr/>
        </p:nvSpPr>
        <p:spPr>
          <a:xfrm>
            <a:off x="1000080" y="1071720"/>
            <a:ext cx="6786720" cy="15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查询输出对象的语句格式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ODS TRACE ON &lt;/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选项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&gt;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ODS TRACE OFF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ODS TRACE NO/OFF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表示打开或关闭输出对象的跟踪功能，缺省的状态跟踪功能产关闭的。跟踪功能打开后，每个运行的过程步都将在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LOG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窗口显示它传送的输出对象名称。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Times New Roman"/>
              </a:rPr>
              <a:t>选项及说明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930" name="Object 2"/>
          <p:cNvGraphicFramePr/>
          <p:nvPr/>
        </p:nvGraphicFramePr>
        <p:xfrm>
          <a:off x="1143000" y="3500280"/>
          <a:ext cx="6119640" cy="171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500280"/>
                    <a:ext cx="6119640" cy="17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/>
          </p:nvPr>
        </p:nvSpPr>
        <p:spPr>
          <a:xfrm>
            <a:off x="1499760" y="857160"/>
            <a:ext cx="7086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9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27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查询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MEAN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过程的输出对象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ra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labe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list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mea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Idx000001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ra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f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r>
              <a:rPr b="0" lang="en-US" sz="10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</a:t>
            </a:r>
            <a:endParaRPr b="0" lang="en-US" sz="1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9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28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查询回归分析过程的输出对象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ra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labe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list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e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r_month;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mode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_600603=r_m /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pe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out1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r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p  l95=l  u95=u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ra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f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1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注意，使用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ODS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的非缺省状态时，过程步的结束时最好都使用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RUN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语句，这样可以避免过程步界线不明而引起的一些意外结果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选择输出对象</a:t>
            </a:r>
            <a:endParaRPr b="1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1692360" y="2204640"/>
            <a:ext cx="723888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缺省情况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935" name="Object 2"/>
          <p:cNvGraphicFramePr/>
          <p:nvPr/>
        </p:nvGraphicFramePr>
        <p:xfrm>
          <a:off x="2173320" y="2971800"/>
          <a:ext cx="3255840" cy="231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3320" y="2971800"/>
                    <a:ext cx="325584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0040" y="92844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黑体"/>
              </a:rPr>
              <a:t>选择输出对象的语句格式：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 </a:t>
            </a:r>
            <a:endParaRPr b="1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447920" y="220932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ODS &lt;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传送目标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&gt;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ELECT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对象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|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ALL|NONE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ODS &lt;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传送目标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&gt;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EXCLUDE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对象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|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ALL|NONE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对于输出对象，可以使用它的全路径或路径标签，也可以只用它的一部分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(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可省略任一点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(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ot)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前的部分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)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，路径和路径标签也可以混用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/>
          </p:nvPr>
        </p:nvSpPr>
        <p:spPr>
          <a:xfrm>
            <a:off x="1371600" y="190476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9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.29 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查询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MEANS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过程的输出对象。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o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tra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labe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list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80"/>
                </a:solidFill>
                <a:latin typeface="Times New Roman"/>
                <a:ea typeface="宋体"/>
              </a:rPr>
              <a:t>mea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Idx000001;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o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tra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of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464364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日志输出信息控制 </a:t>
            </a:r>
            <a:endParaRPr b="1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1600200" y="220968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控制日志输出信息的方法有两类：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系统选项设置自动写入日志中的信息；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。 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/>
          </p:nvPr>
        </p:nvSpPr>
        <p:spPr>
          <a:xfrm>
            <a:off x="1371600" y="12952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结果显示的输出对象只有一个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名称：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Summary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标签：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Summary statistics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模板：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base.summary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路径：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Means.Summary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标签路径：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'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Means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过程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'.'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Summary statistics'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于是，引用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MEANS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过程的输出对象时可以采用下面的任一种方式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a59a5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'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Means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过程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'.'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Summary statistics'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a59a5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'Summary statistics'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a59a5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Summary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a59a5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Means.Summary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a59a5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Means. 'Summary statistics'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a59a5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'Means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过程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'.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Summary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过程步结束时，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ODS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自动清除对输出对象的挑选或删除，恢复缺省状态。在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ODS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中使用选项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PERSIST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时将保持关于对象的挑选。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WordArt 2"/>
          <p:cNvSpPr txBox="1"/>
          <p:nvPr/>
        </p:nvSpPr>
        <p:spPr>
          <a:xfrm>
            <a:off x="1214280" y="342900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4ab1e4"/>
                </a:solidFill>
                <a:effectLst>
                  <a:outerShdw dist="53966" dir="2700000" blurRad="0" rotWithShape="0">
                    <a:srgbClr val="080808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4ab1e4"/>
              </a:solidFill>
              <a:effectLst>
                <a:outerShdw dist="53966" dir="2700000" blurRad="0" rotWithShape="0">
                  <a:srgbClr val="080808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357120" y="856800"/>
            <a:ext cx="55008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控制日志输出信息的语句 </a:t>
            </a:r>
            <a:endParaRPr b="1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graphicFrame>
        <p:nvGraphicFramePr>
          <p:cNvPr id="831" name="Object 2"/>
          <p:cNvGraphicFramePr/>
          <p:nvPr/>
        </p:nvGraphicFramePr>
        <p:xfrm>
          <a:off x="1428840" y="2362320"/>
          <a:ext cx="6750000" cy="232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8840" y="2362320"/>
                    <a:ext cx="6750000" cy="23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357120" y="928440"/>
            <a:ext cx="657216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控制日志输出信息的系统选项 </a:t>
            </a:r>
            <a:endParaRPr b="1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graphicFrame>
        <p:nvGraphicFramePr>
          <p:cNvPr id="834" name="Object 2"/>
          <p:cNvGraphicFramePr/>
          <p:nvPr/>
        </p:nvGraphicFramePr>
        <p:xfrm>
          <a:off x="1285920" y="2286000"/>
          <a:ext cx="7219800" cy="211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920" y="2286000"/>
                    <a:ext cx="7219800" cy="21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/>
          </p:nvPr>
        </p:nvSpPr>
        <p:spPr>
          <a:xfrm>
            <a:off x="785520" y="1857240"/>
            <a:ext cx="7515000" cy="33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9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.1 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利用系统选项语句控制日志输出信息。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OPTION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NODATE NONOTES NOSOUR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规定不输出时间，注释和源程序到日志上。 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4T03:57:00Z</dcterms:created>
  <dc:creator>微软用户</dc:creator>
  <dc:description/>
  <dc:language>en-US</dc:language>
  <cp:lastModifiedBy>RESSET</cp:lastModifiedBy>
  <dcterms:modified xsi:type="dcterms:W3CDTF">2013-02-21T08:12:59Z</dcterms:modified>
  <cp:revision>661</cp:revision>
  <dc:subject/>
  <dc:title>第1章 SAS软件入门</dc:title>
</cp:coreProperties>
</file>