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move the slide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CF3D-716B-4C15-9B57-183FBC33FDD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4E9B-D71B-4E9B-8143-D5B9003091C3}" type="slidenum">
              <a:rPr b="0" lang="zh-CN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10CF-9608-47B6-8928-B7AA128E1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1D70-5F0C-487D-91E6-6B7430E1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1D55B4-4A13-4FED-A107-3C1165DD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00AD2-B548-4D15-8DAB-8E2E0D13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43D97-CE47-49BF-940C-79369065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D3549-FADA-4D20-AB9D-DF1FAF1B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EEECF-6DD1-495E-9A66-37B1C94C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6D2DF-88CB-4B8A-9924-0951A270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FF3C90-0E5F-4037-AF14-4553D927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DB5A4-526F-4516-AFF7-0E2B04F7D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7DEC4-6382-4437-AE85-B1C676B5A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CD4517-AFF0-40B1-B738-D1082A370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3122-57AF-4154-A9F8-34783B8DE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FBAF8-F599-485E-8880-874BF325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EDC686-830A-4496-8FFB-484BB0BD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5DE91-B55B-46AA-86D9-874C8365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DD311-7603-451F-A761-FD30E92F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5146BA-80BD-4BEE-BEAD-4E3807DB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1B037-E3E3-4A28-BD0B-97956349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503DD7-2A2A-47D4-93FB-E88DE652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14065-9F26-4CC2-B064-56EAB4D7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74B27C-9042-44B5-89A4-9B3AC849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B5A301-C3C0-4484-9F14-2F0D1917B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B484-A47C-40CA-B10C-3D05D1B6B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BD01F-B841-48DC-A86B-8AACA5455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37FC5-1C90-445F-883C-CE4812873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FC5A2-1F16-4681-BFFC-D9C07063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3F738-45EB-43B4-86A7-E0417ED0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2AF27-9B16-417A-82B8-6D8B8A3C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CE2E6-AF0F-429E-A618-31980CD0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D5EB6-7AC0-47C1-B718-4FABFC5A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C6997-FD48-46E4-A8D5-8270AFF0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EDB03-6385-430F-8B35-B129CE17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EB3D0-6D4C-43D7-A2C5-3F1C2277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0E3E-6063-4D86-8608-EB50AE1DF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0D388-4C40-451E-ABEF-C170786F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74ADE-2CDC-485C-91F7-D702232D3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35DAF-8608-4BA8-9F99-312B090D9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039553-F077-45F5-ADE6-F0E75BED8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291E8E-8DDD-4182-9A25-E8DF4FA3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2F6E89-ED8A-43FB-B50D-7DE86896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D2C387-768E-43A8-847D-6311AF37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9C9686-FB77-49E7-B043-3DFC23BA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02B49-E5E5-46A1-A3F8-D16655E3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960BE-6124-4C31-9897-5904CDFC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711D-0B01-4C36-8BCE-AA5CA136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5D491D-B75F-4987-9C85-BC1A75F1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EF8EA7-445A-4DC6-B7F6-F957DA43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7C6F64-4493-460D-B9AC-14D6D1EF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D14BA2-D182-4224-936D-3AB87A0CD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BF1D4D-22F5-4085-93E6-986975E11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4004E4-6521-4D1C-ADC2-456C63357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651AE1-E023-4C7D-9C9C-FD70ECE2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DCBF21-11D5-4C24-BB5A-29E6402A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0ED5E9-E067-466E-B123-79CE3DA1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BFBE69-0A51-4D4E-8CC1-13929830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6C04-9180-4851-8374-70514389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10E6A8-96B9-4F77-90AD-C35571F4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6C331D-0621-4895-A2A4-C4B0A7D0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D42C6F-2B85-46BC-8312-09F508EE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466F51-596B-486B-ADE9-247025AF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E2DB45-88C3-443C-A616-00C6DB8B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E23774-3CE5-450E-A0E4-B20E48F3B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D35862-DB3C-4CE9-BC4E-F5529DDD3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5CF1-F212-4EA4-A6B6-762685EE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5145-8802-4972-8561-D612D1C9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4FF4-712E-4C6C-8BB4-32AD6483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1ED1-9982-4B84-BEBF-4D4FBBD4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536C-E555-403F-997C-42AC08A6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0A9F-2A03-495B-B522-7DE9ABB7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84E9-744E-478B-AC53-D3C37E41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478D-1796-4BD7-A977-1EB83AF1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15B0-41E5-4F88-9692-8178886A2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50E4-D073-40A2-A3E8-02D180BEC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3F122-A6B4-40EA-A061-975759A59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A7980-B115-4813-9474-882753C0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A22DD-77D4-4879-B93A-47ECCEA1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52D51-2A2B-4863-AB70-7EC1C96B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99C7A-685B-4FDF-862B-4E225305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F50A-2C1B-4DD3-9FE1-C873DD3F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8EA11-845A-4BCE-AB49-2E7839E6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DB6A0-C856-49FB-AD5B-7279A033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FF2E8-3106-4AE1-A808-8DB918EA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D01BC-2384-4B6A-8CF6-6C705F4B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6DD9E-A720-483B-9E71-136E04B4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B5831-CD55-4827-9003-7F7FD4873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C9468-ECAD-4FAC-B60D-639922920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B1BE7-A67B-48F9-9B43-CA3CF86A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487C9-5B4E-4D7E-821F-DFB38F82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E81F3-1EB7-44DC-AC7B-4A0A6D9E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C092-7D6C-4392-AC17-D9A4D1B5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AE575-53DB-4895-9D03-A80D2FC5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9FB10-05E3-4E89-9F9F-84F65BEA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00892-4DDC-4AC1-9F64-84DE79B4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77DE5-9BFE-439B-BDF4-05E76E4E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277B8-E049-4927-87DE-9541ACBE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8C390-3927-4F42-8EA6-7C459C3E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A4EB6-6807-4C5F-9E45-375510F2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9634F-A72B-47A5-B28E-79699BFA7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49DF1-5A6B-4143-9E66-B05D14439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48808-F748-4A87-BBC5-501414223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1B9C-AC42-4BDB-A6A8-249F25C5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15F01-599D-4531-8402-6A188631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82A30-E202-461B-A13A-75C7DF95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2FECF-2CE6-4438-B55D-4552F42B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FE959-8275-4B3B-BC75-D9FA60B2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E68BB-7775-4528-82E9-8DFB6B0D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D9CAE-F258-4378-ACB1-AE5CC035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C264E-156E-4B5F-B367-049B326D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997FF-D2AF-4420-ABF3-ABEB5CB9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CC000-746D-4DC4-8BA9-7E5AE5A3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C150D-D135-49F3-9835-E56CC37D8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3365-75F7-4A97-9E8D-F1B585D1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15022-3609-4C02-BFF8-5858A010C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D1801-A3AD-495B-B135-31939BA8B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10E8B-42E4-4A76-9CE9-9A3DBDB1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E3151-A5DB-4D1F-93E0-E7098C42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B71EF-6A35-4FFD-B38C-836C250F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43322-9E49-41F1-A7CE-A5F68D0F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261FF-85A6-4AAD-A88B-2FC32680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D1560-66CE-472A-8274-2D1278DC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75E05-732B-49B7-B916-53809660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214AB-AABC-4F8C-B3DB-B5F1C5B6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43C0-2ADA-48B5-9750-CF1AF740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6BB39-AE45-4670-8133-79C0EA9B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D5ED9-9771-4B2B-99ED-EF4396DE3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E3FF0-B006-466A-9A86-146FC0C4C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11EB4-104C-407E-B46C-FAD62F205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3FEB1-1996-43CE-B30A-5F09F794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0DB18-453D-4543-AFF1-17DFF323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EC49E-A155-4115-85E4-6F0B953B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E78C1-6837-4C76-8300-ABF7A5E3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EFF4A-D1FD-42AE-AC73-BEAEE261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A557E-21C1-4396-BF8A-C63B06D5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753F-34DF-4A1D-8361-34997AB5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174F8-EC3B-41DC-B5A4-B34FB253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82B4C-9B56-4CA5-B07B-7651AAE0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D8260-1EE8-4A72-B052-7E1AEAC9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29FFC-83C4-48B4-88A2-73CC9522E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8D66A-4EFD-4F08-A221-CFD654FB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8C967-970B-48E0-8E01-CC3811014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2D039-DCAA-4CBA-9E53-7E4688DA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DDBEF-C38C-4D4F-88FF-FBEC9D23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64276-4B18-42B5-BC8D-DAF86216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9861F-062E-4269-9847-AB845426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6FC4-8477-42FF-B90C-EF71CF98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9A5BC-2C29-4F58-86E8-7AC874D1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7207C-258E-4235-9438-BD867F67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7A4AB-EF00-48A9-ABC0-16F23F69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C5C49-3496-4407-B5E7-B52F35FA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D2AF0-F5B2-4A22-B560-99D56CDB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BC194-BFBD-4AFD-BBBF-2E73C5A6F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40D13-03AA-4EEC-BCA9-1318EB3BD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A0761-1C43-4DFA-8FCE-B0FB02DEA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92EF2-1A95-4ED7-B50E-E8E02B75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29969-458E-46D9-B8CF-2DE817B4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0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28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29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F4ED-C68A-4E32-8678-D06F0826DDD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5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3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3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8B15-75FD-49A7-8446-038252B05CD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9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34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35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36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0D16-D6BF-465B-AED4-A0E7E3658BA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3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37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38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39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30F7-AC1C-49D6-8B35-76B6CD89FBA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2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45" name="Group 15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46" name="Freeform 16"/>
            <p:cNvSpPr/>
            <p:nvPr/>
          </p:nvSpPr>
          <p:spPr>
            <a:xfrm>
              <a:off x="277560" y="530280"/>
              <a:ext cx="2011680" cy="3076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7" name="Freeform 17"/>
            <p:cNvSpPr/>
            <p:nvPr/>
          </p:nvSpPr>
          <p:spPr>
            <a:xfrm>
              <a:off x="214200" y="824040"/>
              <a:ext cx="54000" cy="44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8" name="Freeform 18"/>
            <p:cNvSpPr/>
            <p:nvPr/>
          </p:nvSpPr>
          <p:spPr>
            <a:xfrm>
              <a:off x="701640" y="1019160"/>
              <a:ext cx="6192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9" name="Freeform 19"/>
            <p:cNvSpPr/>
            <p:nvPr/>
          </p:nvSpPr>
          <p:spPr>
            <a:xfrm>
              <a:off x="1942920" y="1108080"/>
              <a:ext cx="155520" cy="117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0" name="Freeform 20"/>
            <p:cNvSpPr/>
            <p:nvPr/>
          </p:nvSpPr>
          <p:spPr>
            <a:xfrm>
              <a:off x="1190520" y="1717560"/>
              <a:ext cx="250920" cy="133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1" name="Freeform 21"/>
            <p:cNvSpPr/>
            <p:nvPr/>
          </p:nvSpPr>
          <p:spPr>
            <a:xfrm>
              <a:off x="1396800" y="1819440"/>
              <a:ext cx="157320" cy="6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1563480" y="186048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3" name="Freeform 23"/>
            <p:cNvSpPr/>
            <p:nvPr/>
          </p:nvSpPr>
          <p:spPr>
            <a:xfrm>
              <a:off x="1652400" y="1865160"/>
              <a:ext cx="19080" cy="39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4" name="Freeform 24"/>
            <p:cNvSpPr/>
            <p:nvPr/>
          </p:nvSpPr>
          <p:spPr>
            <a:xfrm>
              <a:off x="1361880" y="522360"/>
              <a:ext cx="285840" cy="139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5" name="Freeform 25"/>
            <p:cNvSpPr/>
            <p:nvPr/>
          </p:nvSpPr>
          <p:spPr>
            <a:xfrm>
              <a:off x="1488960" y="457200"/>
              <a:ext cx="231840" cy="95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6" name="Freeform 26"/>
            <p:cNvSpPr/>
            <p:nvPr/>
          </p:nvSpPr>
          <p:spPr>
            <a:xfrm>
              <a:off x="1814400" y="568440"/>
              <a:ext cx="370080" cy="301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7" name="Freeform 27"/>
            <p:cNvSpPr/>
            <p:nvPr/>
          </p:nvSpPr>
          <p:spPr>
            <a:xfrm>
              <a:off x="1811160" y="438120"/>
              <a:ext cx="698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8" name="Freeform 28"/>
            <p:cNvSpPr/>
            <p:nvPr/>
          </p:nvSpPr>
          <p:spPr>
            <a:xfrm>
              <a:off x="1677960" y="549360"/>
              <a:ext cx="102960" cy="66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9" name="Freeform 29"/>
            <p:cNvSpPr/>
            <p:nvPr/>
          </p:nvSpPr>
          <p:spPr>
            <a:xfrm>
              <a:off x="1785960" y="561960"/>
              <a:ext cx="8568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0" name="Freeform 30"/>
            <p:cNvSpPr/>
            <p:nvPr/>
          </p:nvSpPr>
          <p:spPr>
            <a:xfrm>
              <a:off x="1739880" y="504720"/>
              <a:ext cx="101520" cy="54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1" name="Freeform 31"/>
            <p:cNvSpPr/>
            <p:nvPr/>
          </p:nvSpPr>
          <p:spPr>
            <a:xfrm>
              <a:off x="1697040" y="453960"/>
              <a:ext cx="6984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2" name="Freeform 32"/>
            <p:cNvSpPr/>
            <p:nvPr/>
          </p:nvSpPr>
          <p:spPr>
            <a:xfrm>
              <a:off x="1877760" y="458640"/>
              <a:ext cx="181080" cy="122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3" name="Freeform 33"/>
            <p:cNvSpPr/>
            <p:nvPr/>
          </p:nvSpPr>
          <p:spPr>
            <a:xfrm>
              <a:off x="152280" y="847800"/>
              <a:ext cx="396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4" name="Freeform 34"/>
            <p:cNvSpPr/>
            <p:nvPr/>
          </p:nvSpPr>
          <p:spPr>
            <a:xfrm>
              <a:off x="1353960" y="16588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5" name="Freeform 35"/>
            <p:cNvSpPr/>
            <p:nvPr/>
          </p:nvSpPr>
          <p:spPr>
            <a:xfrm>
              <a:off x="1358640" y="16984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6" name="Freeform 36"/>
            <p:cNvSpPr/>
            <p:nvPr/>
          </p:nvSpPr>
          <p:spPr>
            <a:xfrm>
              <a:off x="1682640" y="1908360"/>
              <a:ext cx="23760" cy="18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7" name="Freeform 37"/>
            <p:cNvSpPr/>
            <p:nvPr/>
          </p:nvSpPr>
          <p:spPr>
            <a:xfrm>
              <a:off x="1879560" y="113976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8" name="Freeform 38"/>
            <p:cNvSpPr/>
            <p:nvPr/>
          </p:nvSpPr>
          <p:spPr>
            <a:xfrm>
              <a:off x="1720800" y="81432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9" name="Freeform 39"/>
            <p:cNvSpPr/>
            <p:nvPr/>
          </p:nvSpPr>
          <p:spPr>
            <a:xfrm>
              <a:off x="1823760" y="530280"/>
              <a:ext cx="619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0" name="Freeform 40"/>
            <p:cNvSpPr/>
            <p:nvPr/>
          </p:nvSpPr>
          <p:spPr>
            <a:xfrm>
              <a:off x="1923840" y="70164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1" name="Freeform 41"/>
            <p:cNvSpPr/>
            <p:nvPr/>
          </p:nvSpPr>
          <p:spPr>
            <a:xfrm>
              <a:off x="1949400" y="380880"/>
              <a:ext cx="1104840" cy="549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2" name="Freeform 42"/>
            <p:cNvSpPr/>
            <p:nvPr/>
          </p:nvSpPr>
          <p:spPr>
            <a:xfrm>
              <a:off x="2287440" y="67320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" name="Freeform 43"/>
            <p:cNvSpPr/>
            <p:nvPr/>
          </p:nvSpPr>
          <p:spPr>
            <a:xfrm>
              <a:off x="2736720" y="777960"/>
              <a:ext cx="20340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" name="Freeform 44"/>
            <p:cNvSpPr/>
            <p:nvPr/>
          </p:nvSpPr>
          <p:spPr>
            <a:xfrm>
              <a:off x="2896920" y="51912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" name="Freeform 45"/>
            <p:cNvSpPr/>
            <p:nvPr/>
          </p:nvSpPr>
          <p:spPr>
            <a:xfrm>
              <a:off x="3324240" y="468360"/>
              <a:ext cx="245880" cy="100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" name="Freeform 46"/>
            <p:cNvSpPr/>
            <p:nvPr/>
          </p:nvSpPr>
          <p:spPr>
            <a:xfrm>
              <a:off x="3477960" y="520560"/>
              <a:ext cx="76320" cy="33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" name="Freeform 47"/>
            <p:cNvSpPr/>
            <p:nvPr/>
          </p:nvSpPr>
          <p:spPr>
            <a:xfrm>
              <a:off x="3014640" y="952560"/>
              <a:ext cx="172800" cy="209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" name="Freeform 48"/>
            <p:cNvSpPr/>
            <p:nvPr/>
          </p:nvSpPr>
          <p:spPr>
            <a:xfrm>
              <a:off x="2928960" y="1028880"/>
              <a:ext cx="109440" cy="107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" name="Freeform 49"/>
            <p:cNvSpPr/>
            <p:nvPr/>
          </p:nvSpPr>
          <p:spPr>
            <a:xfrm>
              <a:off x="5605200" y="2843280"/>
              <a:ext cx="752760" cy="785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" name="Freeform 50"/>
            <p:cNvSpPr/>
            <p:nvPr/>
          </p:nvSpPr>
          <p:spPr>
            <a:xfrm>
              <a:off x="5838840" y="2428920"/>
              <a:ext cx="506160" cy="333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" name="Freeform 51"/>
            <p:cNvSpPr/>
            <p:nvPr/>
          </p:nvSpPr>
          <p:spPr>
            <a:xfrm>
              <a:off x="5852880" y="2432160"/>
              <a:ext cx="493920" cy="33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" name="Freeform 52"/>
            <p:cNvSpPr/>
            <p:nvPr/>
          </p:nvSpPr>
          <p:spPr>
            <a:xfrm>
              <a:off x="6218280" y="3654360"/>
              <a:ext cx="71280" cy="92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3" name="Freeform 53"/>
            <p:cNvSpPr/>
            <p:nvPr/>
          </p:nvSpPr>
          <p:spPr>
            <a:xfrm>
              <a:off x="6433920" y="3511440"/>
              <a:ext cx="260640" cy="135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4" name="Freeform 54"/>
            <p:cNvSpPr/>
            <p:nvPr/>
          </p:nvSpPr>
          <p:spPr>
            <a:xfrm>
              <a:off x="6703920" y="3432240"/>
              <a:ext cx="165240" cy="146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5" name="Freeform 55"/>
            <p:cNvSpPr/>
            <p:nvPr/>
          </p:nvSpPr>
          <p:spPr>
            <a:xfrm>
              <a:off x="6791400" y="3367080"/>
              <a:ext cx="586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6" name="Freeform 56"/>
            <p:cNvSpPr/>
            <p:nvPr/>
          </p:nvSpPr>
          <p:spPr>
            <a:xfrm>
              <a:off x="4056120" y="2595600"/>
              <a:ext cx="195120" cy="31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7" name="Freeform 57"/>
            <p:cNvSpPr/>
            <p:nvPr/>
          </p:nvSpPr>
          <p:spPr>
            <a:xfrm>
              <a:off x="4900680" y="2100240"/>
              <a:ext cx="77760" cy="96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8" name="Freeform 58"/>
            <p:cNvSpPr/>
            <p:nvPr/>
          </p:nvSpPr>
          <p:spPr>
            <a:xfrm>
              <a:off x="5429160" y="2205000"/>
              <a:ext cx="176040" cy="290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9" name="Freeform 59"/>
            <p:cNvSpPr/>
            <p:nvPr/>
          </p:nvSpPr>
          <p:spPr>
            <a:xfrm>
              <a:off x="5279760" y="2114640"/>
              <a:ext cx="114480" cy="217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0" name="Freeform 60"/>
            <p:cNvSpPr/>
            <p:nvPr/>
          </p:nvSpPr>
          <p:spPr>
            <a:xfrm>
              <a:off x="5357880" y="2289240"/>
              <a:ext cx="63360" cy="208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1" name="Freeform 61"/>
            <p:cNvSpPr/>
            <p:nvPr/>
          </p:nvSpPr>
          <p:spPr>
            <a:xfrm>
              <a:off x="5429160" y="2506680"/>
              <a:ext cx="10332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2" name="Freeform 62"/>
            <p:cNvSpPr/>
            <p:nvPr/>
          </p:nvSpPr>
          <p:spPr>
            <a:xfrm>
              <a:off x="5594400" y="2355840"/>
              <a:ext cx="131760" cy="185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3" name="Freeform 63"/>
            <p:cNvSpPr/>
            <p:nvPr/>
          </p:nvSpPr>
          <p:spPr>
            <a:xfrm>
              <a:off x="5549760" y="1692360"/>
              <a:ext cx="34920" cy="112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4" name="Freeform 64"/>
            <p:cNvSpPr/>
            <p:nvPr/>
          </p:nvSpPr>
          <p:spPr>
            <a:xfrm>
              <a:off x="5572080" y="1881360"/>
              <a:ext cx="96840" cy="187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5" name="Freeform 65"/>
            <p:cNvSpPr/>
            <p:nvPr/>
          </p:nvSpPr>
          <p:spPr>
            <a:xfrm>
              <a:off x="5640120" y="2128680"/>
              <a:ext cx="101880" cy="125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6" name="Freeform 66"/>
            <p:cNvSpPr/>
            <p:nvPr/>
          </p:nvSpPr>
          <p:spPr>
            <a:xfrm>
              <a:off x="5761080" y="2352600"/>
              <a:ext cx="45720" cy="77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7" name="Freeform 67"/>
            <p:cNvSpPr/>
            <p:nvPr/>
          </p:nvSpPr>
          <p:spPr>
            <a:xfrm>
              <a:off x="5735520" y="2482920"/>
              <a:ext cx="2844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8" name="Freeform 68"/>
            <p:cNvSpPr/>
            <p:nvPr/>
          </p:nvSpPr>
          <p:spPr>
            <a:xfrm>
              <a:off x="5778360" y="2467080"/>
              <a:ext cx="716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9" name="Freeform 69"/>
            <p:cNvSpPr/>
            <p:nvPr/>
          </p:nvSpPr>
          <p:spPr>
            <a:xfrm>
              <a:off x="5887800" y="2577960"/>
              <a:ext cx="3816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0" name="Freeform 70"/>
            <p:cNvSpPr/>
            <p:nvPr/>
          </p:nvSpPr>
          <p:spPr>
            <a:xfrm>
              <a:off x="6311880" y="2511360"/>
              <a:ext cx="73080" cy="74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1" name="Freeform 71"/>
            <p:cNvSpPr/>
            <p:nvPr/>
          </p:nvSpPr>
          <p:spPr>
            <a:xfrm>
              <a:off x="5681520" y="2604960"/>
              <a:ext cx="73080" cy="79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2" name="Freeform 72"/>
            <p:cNvSpPr/>
            <p:nvPr/>
          </p:nvSpPr>
          <p:spPr>
            <a:xfrm>
              <a:off x="5603760" y="2635200"/>
              <a:ext cx="5076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3" name="Freeform 73"/>
            <p:cNvSpPr/>
            <p:nvPr/>
          </p:nvSpPr>
          <p:spPr>
            <a:xfrm>
              <a:off x="5570280" y="2589120"/>
              <a:ext cx="38160" cy="49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4" name="Freeform 74"/>
            <p:cNvSpPr/>
            <p:nvPr/>
          </p:nvSpPr>
          <p:spPr>
            <a:xfrm>
              <a:off x="5624280" y="2606760"/>
              <a:ext cx="5400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5" name="Freeform 75"/>
            <p:cNvSpPr/>
            <p:nvPr/>
          </p:nvSpPr>
          <p:spPr>
            <a:xfrm>
              <a:off x="5546520" y="2079720"/>
              <a:ext cx="42840" cy="87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6" name="Freeform 76"/>
            <p:cNvSpPr/>
            <p:nvPr/>
          </p:nvSpPr>
          <p:spPr>
            <a:xfrm>
              <a:off x="5627520" y="2065320"/>
              <a:ext cx="30240" cy="87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7" name="Freeform 77"/>
            <p:cNvSpPr/>
            <p:nvPr/>
          </p:nvSpPr>
          <p:spPr>
            <a:xfrm>
              <a:off x="5662440" y="2038320"/>
              <a:ext cx="1584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8" name="Freeform 78"/>
            <p:cNvSpPr/>
            <p:nvPr/>
          </p:nvSpPr>
          <p:spPr>
            <a:xfrm>
              <a:off x="5678280" y="2057400"/>
              <a:ext cx="33480" cy="76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9" name="Freeform 79"/>
            <p:cNvSpPr/>
            <p:nvPr/>
          </p:nvSpPr>
          <p:spPr>
            <a:xfrm>
              <a:off x="5251320" y="2166840"/>
              <a:ext cx="190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0" name="Freeform 80"/>
            <p:cNvSpPr/>
            <p:nvPr/>
          </p:nvSpPr>
          <p:spPr>
            <a:xfrm>
              <a:off x="5235480" y="21304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1" name="Freeform 81"/>
            <p:cNvSpPr/>
            <p:nvPr/>
          </p:nvSpPr>
          <p:spPr>
            <a:xfrm>
              <a:off x="5229000" y="2102040"/>
              <a:ext cx="19080" cy="21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2" name="Freeform 82"/>
            <p:cNvSpPr/>
            <p:nvPr/>
          </p:nvSpPr>
          <p:spPr>
            <a:xfrm>
              <a:off x="5209920" y="2038320"/>
              <a:ext cx="1764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3" name="Freeform 83"/>
            <p:cNvSpPr/>
            <p:nvPr/>
          </p:nvSpPr>
          <p:spPr>
            <a:xfrm>
              <a:off x="5213160" y="2077920"/>
              <a:ext cx="255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4" name="Freeform 84"/>
            <p:cNvSpPr/>
            <p:nvPr/>
          </p:nvSpPr>
          <p:spPr>
            <a:xfrm>
              <a:off x="6540480" y="3067200"/>
              <a:ext cx="71280" cy="95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5" name="Freeform 85"/>
            <p:cNvSpPr/>
            <p:nvPr/>
          </p:nvSpPr>
          <p:spPr>
            <a:xfrm>
              <a:off x="6906960" y="2989440"/>
              <a:ext cx="84240" cy="72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6" name="Freeform 86"/>
            <p:cNvSpPr/>
            <p:nvPr/>
          </p:nvSpPr>
          <p:spPr>
            <a:xfrm>
              <a:off x="6653160" y="2949480"/>
              <a:ext cx="27000" cy="36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7" name="Freeform 87"/>
            <p:cNvSpPr/>
            <p:nvPr/>
          </p:nvSpPr>
          <p:spPr>
            <a:xfrm>
              <a:off x="6640560" y="2914560"/>
              <a:ext cx="31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8" name="Freeform 88"/>
            <p:cNvSpPr/>
            <p:nvPr/>
          </p:nvSpPr>
          <p:spPr>
            <a:xfrm>
              <a:off x="6397560" y="2606760"/>
              <a:ext cx="38160" cy="52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9" name="Freeform 89"/>
            <p:cNvSpPr/>
            <p:nvPr/>
          </p:nvSpPr>
          <p:spPr>
            <a:xfrm>
              <a:off x="6451560" y="2674800"/>
              <a:ext cx="4104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0" name="Freeform 90"/>
            <p:cNvSpPr/>
            <p:nvPr/>
          </p:nvSpPr>
          <p:spPr>
            <a:xfrm>
              <a:off x="6494400" y="2774880"/>
              <a:ext cx="4428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1" name="Freeform 91"/>
            <p:cNvSpPr/>
            <p:nvPr/>
          </p:nvSpPr>
          <p:spPr>
            <a:xfrm>
              <a:off x="6548400" y="2759040"/>
              <a:ext cx="442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2" name="Freeform 92"/>
            <p:cNvSpPr/>
            <p:nvPr/>
          </p:nvSpPr>
          <p:spPr>
            <a:xfrm>
              <a:off x="6532560" y="2701800"/>
              <a:ext cx="4104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3" name="Freeform 93"/>
            <p:cNvSpPr/>
            <p:nvPr/>
          </p:nvSpPr>
          <p:spPr>
            <a:xfrm>
              <a:off x="6491160" y="2662200"/>
              <a:ext cx="41400" cy="55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4" name="Freeform 94"/>
            <p:cNvSpPr/>
            <p:nvPr/>
          </p:nvSpPr>
          <p:spPr>
            <a:xfrm>
              <a:off x="6440400" y="2637000"/>
              <a:ext cx="38160" cy="41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5" name="Freeform 95"/>
            <p:cNvSpPr/>
            <p:nvPr/>
          </p:nvSpPr>
          <p:spPr>
            <a:xfrm>
              <a:off x="6503760" y="2720880"/>
              <a:ext cx="3816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6" name="Freeform 96"/>
            <p:cNvSpPr/>
            <p:nvPr/>
          </p:nvSpPr>
          <p:spPr>
            <a:xfrm>
              <a:off x="3948120" y="539640"/>
              <a:ext cx="223560" cy="171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7" name="Freeform 97"/>
            <p:cNvSpPr/>
            <p:nvPr/>
          </p:nvSpPr>
          <p:spPr>
            <a:xfrm>
              <a:off x="4081320" y="704880"/>
              <a:ext cx="6372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8" name="Freeform 98"/>
            <p:cNvSpPr/>
            <p:nvPr/>
          </p:nvSpPr>
          <p:spPr>
            <a:xfrm>
              <a:off x="4406760" y="457200"/>
              <a:ext cx="6660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9" name="Freeform 99"/>
            <p:cNvSpPr/>
            <p:nvPr/>
          </p:nvSpPr>
          <p:spPr>
            <a:xfrm>
              <a:off x="4454280" y="477720"/>
              <a:ext cx="7956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0" name="Freeform 100"/>
            <p:cNvSpPr/>
            <p:nvPr/>
          </p:nvSpPr>
          <p:spPr>
            <a:xfrm>
              <a:off x="4540320" y="482760"/>
              <a:ext cx="7920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1" name="Freeform 101"/>
            <p:cNvSpPr/>
            <p:nvPr/>
          </p:nvSpPr>
          <p:spPr>
            <a:xfrm>
              <a:off x="5094360" y="525600"/>
              <a:ext cx="139680" cy="4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2" name="Freeform 102"/>
            <p:cNvSpPr/>
            <p:nvPr/>
          </p:nvSpPr>
          <p:spPr>
            <a:xfrm>
              <a:off x="5236920" y="523800"/>
              <a:ext cx="7308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3" name="Freeform 103"/>
            <p:cNvSpPr/>
            <p:nvPr/>
          </p:nvSpPr>
          <p:spPr>
            <a:xfrm>
              <a:off x="5203800" y="569880"/>
              <a:ext cx="58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4" name="Freeform 104"/>
            <p:cNvSpPr/>
            <p:nvPr/>
          </p:nvSpPr>
          <p:spPr>
            <a:xfrm>
              <a:off x="5603760" y="925560"/>
              <a:ext cx="120600" cy="181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5" name="Freeform 105"/>
            <p:cNvSpPr/>
            <p:nvPr/>
          </p:nvSpPr>
          <p:spPr>
            <a:xfrm>
              <a:off x="5700600" y="1112760"/>
              <a:ext cx="87480" cy="123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6" name="Freeform 106"/>
            <p:cNvSpPr/>
            <p:nvPr/>
          </p:nvSpPr>
          <p:spPr>
            <a:xfrm>
              <a:off x="5643360" y="1239840"/>
              <a:ext cx="173160" cy="29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7" name="Freeform 107"/>
            <p:cNvSpPr/>
            <p:nvPr/>
          </p:nvSpPr>
          <p:spPr>
            <a:xfrm>
              <a:off x="3959280" y="439920"/>
              <a:ext cx="82440" cy="47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8" name="Freeform 108"/>
            <p:cNvSpPr/>
            <p:nvPr/>
          </p:nvSpPr>
          <p:spPr>
            <a:xfrm>
              <a:off x="3789360" y="453960"/>
              <a:ext cx="30240" cy="349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9" name="Freeform 109"/>
            <p:cNvSpPr/>
            <p:nvPr/>
          </p:nvSpPr>
          <p:spPr>
            <a:xfrm>
              <a:off x="3827520" y="452520"/>
              <a:ext cx="586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0" name="Freeform 110"/>
            <p:cNvSpPr/>
            <p:nvPr/>
          </p:nvSpPr>
          <p:spPr>
            <a:xfrm>
              <a:off x="3924360" y="438120"/>
              <a:ext cx="31680" cy="25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1" name="Freeform 111"/>
            <p:cNvSpPr/>
            <p:nvPr/>
          </p:nvSpPr>
          <p:spPr>
            <a:xfrm>
              <a:off x="3895560" y="466560"/>
              <a:ext cx="237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2" name="Freeform 112"/>
            <p:cNvSpPr/>
            <p:nvPr/>
          </p:nvSpPr>
          <p:spPr>
            <a:xfrm>
              <a:off x="5705280" y="492120"/>
              <a:ext cx="2880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3" name="Freeform 113"/>
            <p:cNvSpPr/>
            <p:nvPr/>
          </p:nvSpPr>
          <p:spPr>
            <a:xfrm>
              <a:off x="4302000" y="2797200"/>
              <a:ext cx="493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4" name="Freeform 114"/>
            <p:cNvSpPr/>
            <p:nvPr/>
          </p:nvSpPr>
          <p:spPr>
            <a:xfrm>
              <a:off x="4365360" y="278604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5" name="Freeform 115"/>
            <p:cNvSpPr/>
            <p:nvPr/>
          </p:nvSpPr>
          <p:spPr>
            <a:xfrm>
              <a:off x="4259160" y="254160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6" name="Freeform 116"/>
            <p:cNvSpPr/>
            <p:nvPr/>
          </p:nvSpPr>
          <p:spPr>
            <a:xfrm>
              <a:off x="4354560" y="2425680"/>
              <a:ext cx="1728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7" name="Freeform 117"/>
            <p:cNvSpPr/>
            <p:nvPr/>
          </p:nvSpPr>
          <p:spPr>
            <a:xfrm>
              <a:off x="4316400" y="2424240"/>
              <a:ext cx="17280" cy="2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8" name="Freeform 118"/>
            <p:cNvSpPr/>
            <p:nvPr/>
          </p:nvSpPr>
          <p:spPr>
            <a:xfrm>
              <a:off x="4298760" y="245916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9" name="Freeform 119"/>
            <p:cNvSpPr/>
            <p:nvPr/>
          </p:nvSpPr>
          <p:spPr>
            <a:xfrm>
              <a:off x="4259160" y="251316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0" name="Freeform 120"/>
            <p:cNvSpPr/>
            <p:nvPr/>
          </p:nvSpPr>
          <p:spPr>
            <a:xfrm>
              <a:off x="4289400" y="24922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1" name="Freeform 121"/>
            <p:cNvSpPr/>
            <p:nvPr/>
          </p:nvSpPr>
          <p:spPr>
            <a:xfrm>
              <a:off x="3125520" y="923760"/>
              <a:ext cx="16200" cy="24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2" name="Freeform 122"/>
            <p:cNvSpPr/>
            <p:nvPr/>
          </p:nvSpPr>
          <p:spPr>
            <a:xfrm>
              <a:off x="3028680" y="87012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3" name="Freeform 123"/>
            <p:cNvSpPr/>
            <p:nvPr/>
          </p:nvSpPr>
          <p:spPr>
            <a:xfrm>
              <a:off x="2651040" y="525600"/>
              <a:ext cx="3270240" cy="2609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pic>
        <p:nvPicPr>
          <p:cNvPr id="15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4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5"/>
          </p:nvPr>
        </p:nvSpPr>
        <p:spPr>
          <a:xfrm>
            <a:off x="6705720" y="6477120"/>
            <a:ext cx="228600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6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AF93-44E5-4884-AE39-7DC1D5D2C55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9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7"/>
          </p:nvPr>
        </p:nvSpPr>
        <p:spPr>
          <a:xfrm>
            <a:off x="49968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12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8"/>
          </p:nvPr>
        </p:nvSpPr>
        <p:spPr>
          <a:xfrm>
            <a:off x="3143160" y="6428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CB43-2781-49EF-81E2-3E13D130E3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9"/>
          </p:nvPr>
        </p:nvSpPr>
        <p:spPr>
          <a:xfrm>
            <a:off x="657180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4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0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1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2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BCA7-0451-4703-9526-5A9D79A8660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8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3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4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121E-858B-4C4D-B7C0-84BC255FE5F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3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6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7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1627-1D78-46E7-970F-DE5913172B4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7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19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0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1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61D3-7360-4575-AEDF-A1C8DC6284B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1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2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3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A43B-7963-4415-BDAF-B8FBEE82954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6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5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6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27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BE9E-57CF-4661-B9F7-EFA7BA67E5D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6"/>
          <p:cNvSpPr/>
          <p:nvPr/>
        </p:nvSpPr>
        <p:spPr>
          <a:xfrm>
            <a:off x="3708000" y="3929760"/>
            <a:ext cx="2142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黑体"/>
                <a:ea typeface="黑体"/>
              </a:rPr>
              <a:t>清华大学经济管理学院   朱世武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8" name="Rectangle 6"/>
          <p:cNvSpPr/>
          <p:nvPr/>
        </p:nvSpPr>
        <p:spPr>
          <a:xfrm>
            <a:off x="3071880" y="4500720"/>
            <a:ext cx="385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sem.tsinghua.edu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resset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9" name="Rectangle 7"/>
          <p:cNvSpPr/>
          <p:nvPr/>
        </p:nvSpPr>
        <p:spPr>
          <a:xfrm>
            <a:off x="3064680" y="5322600"/>
            <a:ext cx="6116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Zhu Shiwu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School of Economics and Managemen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Tsinghua University </a:t>
            </a: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258920" y="1341000"/>
            <a:ext cx="66247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第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  <a:ea typeface="宋体"/>
              </a:rPr>
              <a:t>7</a:t>
            </a: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章 通用语句</a:t>
            </a:r>
            <a:endParaRPr b="1" i="1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85880" y="92880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TITLE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600200" y="19807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TITL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规定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输出文件和其它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输出标题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每一个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TITL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规定一级标题，最多可规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0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级标题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n&gt;&lt;'text'|"text"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其中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n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紧跟在词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TIIL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后面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(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不能有空格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)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的数字，用来规定标题的级别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tex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标题的内容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标题的内容一直有效，但可以重新规定或取消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/>
          </p:nvPr>
        </p:nvSpPr>
        <p:spPr>
          <a:xfrm>
            <a:off x="1285920" y="164268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9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只规定第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和第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级标题的内容时，中间标题为空白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this is the 1th title line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 this is the 5th title line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10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取消所有标题内容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11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取消第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3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级及以后的所有标题内容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856800" y="714240"/>
            <a:ext cx="72392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FOOTNOTE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587240" y="1828440"/>
            <a:ext cx="6629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OOTNOT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在每一页的底部输出一些脚注行。最多可产生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0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个脚注行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OOTNOTE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n&gt;&lt;'text'|"text"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其中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n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紧跟在词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OOTNOT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后面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(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不能有空格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)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的数字，用来规定脚注的行号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tex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脚注行的内容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的脚注行内容将输出在所有过程的输出页上，但可以重新规定或取消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/>
          </p:nvPr>
        </p:nvSpPr>
        <p:spPr>
          <a:xfrm>
            <a:off x="1428840" y="157140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12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脚注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otno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‘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清华大学金融系’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13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取消所有已规定的脚注行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otno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14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取消第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3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个及以后的所有脚注行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otnote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85880" y="57132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RUN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599840" y="1980720"/>
            <a:ext cx="66438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RUN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使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程序被执行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RUN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CANCEL&gt;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其中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CANCEL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让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结束当前步的执行。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将输出一个信息说明这一步没有执行。但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CANECL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不能阻止包含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CARD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或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CARDS4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的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步执行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/>
          </p:nvPr>
        </p:nvSpPr>
        <p:spPr>
          <a:xfrm>
            <a:off x="1357200" y="1285560"/>
            <a:ext cx="68580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15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不能省略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U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的情况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using proc means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mea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ge height weigh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此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RUN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语不能省略省略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RUN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语句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using proc plot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l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l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ge*heigh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第一个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UN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在读第二个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TITL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之前执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MEAN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步。如果省略第一个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UN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在它读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PLO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之后执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MEAN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步。这时第二个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TITL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覆盖第一个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TITL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，也就是两个过程的输出都包含了标题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'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USING PROC PLOT'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所以，这种情况下，第一个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UN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不能省略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5"/>
          <p:cNvSpPr/>
          <p:nvPr/>
        </p:nvSpPr>
        <p:spPr>
          <a:xfrm>
            <a:off x="3635280" y="1989000"/>
            <a:ext cx="489600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   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using proc plot                                     17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                            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             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MEANS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过程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                          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变量            最小值          最大值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--------------------------------------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Age         11.0000000      16.0000000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Height      51.3000000      72.0000000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Weight      50.5000000     150.0000000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--------------------------------------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5" name="Text Box 6"/>
          <p:cNvSpPr/>
          <p:nvPr/>
        </p:nvSpPr>
        <p:spPr>
          <a:xfrm>
            <a:off x="-612720" y="1989000"/>
            <a:ext cx="489564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   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using proc means                            16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                            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             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MEANS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过程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                          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变量            最小值          最大值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--------------------------------------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Age         11.0000000      16.0000000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Height      51.3000000      72.0000000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Weight      50.5000000     150.0000000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--------------------------------------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6" name="Text Box 7"/>
          <p:cNvSpPr/>
          <p:nvPr/>
        </p:nvSpPr>
        <p:spPr>
          <a:xfrm>
            <a:off x="1116000" y="1413000"/>
            <a:ext cx="331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不省略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ru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7" name="Text Box 8"/>
          <p:cNvSpPr/>
          <p:nvPr/>
        </p:nvSpPr>
        <p:spPr>
          <a:xfrm>
            <a:off x="4859280" y="1413000"/>
            <a:ext cx="331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省略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ru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/>
          </p:nvPr>
        </p:nvSpPr>
        <p:spPr>
          <a:xfrm>
            <a:off x="1428840" y="1714680"/>
            <a:ext cx="67816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16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选项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ANCEL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mea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idx000001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lpr X;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注意数据集中没有变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X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ancel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当发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程序有错误不能运行这一段序时，使用选项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ANCE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结束当前步的执行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LIBNAME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600200" y="2209320"/>
            <a:ext cx="678168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b05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LIBNAM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定义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逻辑库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b05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LIBNAM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把一个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libref(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库标记名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)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和一个目录名联系起来，使用户可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中使用库标记来指示这个目录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/>
          </p:nvPr>
        </p:nvSpPr>
        <p:spPr>
          <a:xfrm>
            <a:off x="1428480" y="1294920"/>
            <a:ext cx="7334280" cy="24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IBNAME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libref &lt;engigne&gt; &lt;'SAS-data-library'&g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Access=Readonly|Temp&gt;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；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IBNAME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libref Clear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IBNAME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libref |_ All_ Lis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三种格式反映了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IBNAM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的三种用法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22" name="Object 2"/>
          <p:cNvGraphicFramePr/>
          <p:nvPr/>
        </p:nvGraphicFramePr>
        <p:xfrm>
          <a:off x="1785960" y="3857760"/>
          <a:ext cx="6407280" cy="235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5960" y="3857760"/>
                    <a:ext cx="6407280" cy="23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 Narrow"/>
                <a:ea typeface="宋体"/>
              </a:rPr>
              <a:t>本章内容提要</a:t>
            </a:r>
            <a:endParaRPr b="1" i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85880" y="1571400"/>
            <a:ext cx="75009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全局通用语句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步通用语句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143000" y="1714320"/>
            <a:ext cx="757224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.18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IBNAM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不同引擎的逻辑库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ib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ASDB1 tape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 SAS- data-library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规定一个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TAPE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引擎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ib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ASDB2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 SAS- data-library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规定版本为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V6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引擎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ib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ASDB3 ODBC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‘ SAS- data-library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规定版本为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ODBC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引擎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.19 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不同引擎的逻辑库数据集的转换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ib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v6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D:\ResDat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v6.clas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.20 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对已经存在的逻辑库使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IBNAM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联系一个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引擎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ib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ASDB3 ODBC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/>
          </p:nvPr>
        </p:nvSpPr>
        <p:spPr>
          <a:xfrm>
            <a:off x="1676520" y="1218960"/>
            <a:ext cx="7238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21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一个物理地址联系两个库标记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ib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1 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D:\ResDat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ib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2 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D:\ResDat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2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脱离与库标记的联系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IB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ibref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LE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2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3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列出逻辑库的属性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ib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列出逻辑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sDa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属性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ib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_all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列出所有逻辑库的属性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Text Box 4"/>
          <p:cNvSpPr/>
          <p:nvPr/>
        </p:nvSpPr>
        <p:spPr>
          <a:xfrm>
            <a:off x="1285920" y="1857240"/>
            <a:ext cx="6840360" cy="18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7.24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多个物理地址指定一个逻辑库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libname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new ('d:\ resdat' 'd:\resstk'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7.25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多个不同的逻辑库组成一个逻辑库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libname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new (resdat resstk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FILENAME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214280" y="1857240"/>
            <a:ext cx="714384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2d05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ILENAM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把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文件标记与外部文件的全名或输出设备联系起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2d05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NFILE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ILE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，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或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%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NCLUD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中调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文件前，要先使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ILENAM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来定义文件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2d05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用户可以把一个文件标记同单个外部文件建立联系，也可以很多外部文件建立联系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2d05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文件标记和文件名字之间的联系只保持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会话期间，或下一个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ILENAM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再定义前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785880" y="57132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格式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333080" y="1428480"/>
            <a:ext cx="72392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建立文件标记与外部文件的联系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ILENAME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fileref &lt;device-type&gt;'external-file'&lt;host-options&gt;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0808"/>
                </a:solidFill>
                <a:latin typeface="Times New Roman"/>
                <a:ea typeface="黑体"/>
              </a:rPr>
              <a:t> </a:t>
            </a: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清除文件标记与外部文件的联系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ILENAME fileref|_ALL_CLEAR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建立文件标记与某个输出设备的联系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ILENAME fileref device-type&lt;host-options&gt;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列出外部文件的属性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ILENAME fileref|_ALL_LIS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其它格式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ILENAME fileref CATALOG' catalog'&lt;catalog-options&gt;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ILENAME fileref FTP'external-file'&lt;ftp-options&gt;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ILENAME fileref SOCKET' external- file'&lt;tcpip-options&gt;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ILENAME fileref SOCKET': portno' SERVER &lt;tcpip-options&gt;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638360" y="53316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选项说明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663200" y="190476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部分选项说明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设备类型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(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DEVICE-TYPE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34" name="Object 2"/>
          <p:cNvGraphicFramePr/>
          <p:nvPr/>
        </p:nvGraphicFramePr>
        <p:xfrm>
          <a:off x="1676520" y="2298600"/>
          <a:ext cx="5127480" cy="131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98600"/>
                    <a:ext cx="512748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6" name="Object 3"/>
          <p:cNvGraphicFramePr/>
          <p:nvPr/>
        </p:nvGraphicFramePr>
        <p:xfrm>
          <a:off x="3071880" y="4286160"/>
          <a:ext cx="2293920" cy="1849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3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71880" y="4286160"/>
                    <a:ext cx="2293920" cy="18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600200" y="83808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69343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黑体"/>
                <a:ea typeface="黑体"/>
              </a:rPr>
              <a:t>例</a:t>
            </a:r>
            <a:r>
              <a:rPr b="1" lang="en-US" sz="1800" spc="-1" strike="noStrike">
                <a:solidFill>
                  <a:srgbClr val="080808"/>
                </a:solidFill>
                <a:latin typeface="黑体"/>
                <a:ea typeface="黑体"/>
              </a:rPr>
              <a:t>7.29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读入外部文件创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ilename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delinfo "'d:\resdat\delinfo.txt'"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delinfo(label='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退市信息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|delist information'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ormat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tkcd $6.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stknm $12. 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stdt yymmdd10.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elistdt yymmdd10. 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exchflg $1.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tktype $1. 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tkcd $6.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stknm $12. 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stdt yymmdd10.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elistdt yymmdd10. 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Text Box 4"/>
          <p:cNvSpPr/>
          <p:nvPr/>
        </p:nvSpPr>
        <p:spPr>
          <a:xfrm>
            <a:off x="1476360" y="1341360"/>
            <a:ext cx="6985080" cy="48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exchflg $1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stktype $1. 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stkcd='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股票代码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|stock code'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lstknm='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最新股票名称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|latest stock name'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lstdt='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股票上市日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|list date'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80808"/>
                </a:solidFill>
                <a:latin typeface="Times New Roman"/>
              </a:rPr>
              <a:t>delistdt='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退市日期</a:t>
            </a:r>
            <a:r>
              <a:rPr b="0" lang="da-DK" sz="1800" spc="-1" strike="noStrike">
                <a:solidFill>
                  <a:srgbClr val="080808"/>
                </a:solidFill>
                <a:latin typeface="Times New Roman"/>
              </a:rPr>
              <a:t>|delist date'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80808"/>
                </a:solidFill>
                <a:latin typeface="Times New Roman"/>
              </a:rPr>
              <a:t>exchflg='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交易所标识</a:t>
            </a:r>
            <a:r>
              <a:rPr b="0" lang="da-DK" sz="1800" spc="-1" strike="noStrike">
                <a:solidFill>
                  <a:srgbClr val="080808"/>
                </a:solidFill>
                <a:latin typeface="Times New Roman"/>
              </a:rPr>
              <a:t>|exchange flag'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80808"/>
                </a:solidFill>
                <a:latin typeface="Times New Roman"/>
              </a:rPr>
              <a:t>stktype='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股票类型</a:t>
            </a:r>
            <a:r>
              <a:rPr b="0" lang="da-DK" sz="1800" spc="-1" strike="noStrike">
                <a:solidFill>
                  <a:srgbClr val="080808"/>
                </a:solidFill>
                <a:latin typeface="Times New Roman"/>
              </a:rPr>
              <a:t>|stock type'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80808"/>
                </a:solidFill>
                <a:latin typeface="Times New Roman"/>
              </a:rPr>
              <a:t>infile delinfo delimiter='09'x missover dsd firstobs=2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80808"/>
                </a:solidFill>
                <a:latin typeface="Times New Roman"/>
              </a:rPr>
              <a:t>input stkcd $6. lstknm $12. lstdt yymmdd10. delistdt ~ yymmdd10. exchflg  stktype 1. 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80808"/>
                </a:solidFill>
                <a:latin typeface="Times New Roman"/>
              </a:rPr>
              <a:t>run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例中，用文件标记</a:t>
            </a:r>
            <a:r>
              <a:rPr b="0" lang="da-DK" sz="1800" spc="-1" strike="noStrike">
                <a:solidFill>
                  <a:srgbClr val="080808"/>
                </a:solidFill>
                <a:latin typeface="Times New Roman"/>
              </a:rPr>
              <a:t>delinfo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识别外部文件</a:t>
            </a:r>
            <a:r>
              <a:rPr b="0" lang="da-DK" sz="1800" spc="-1" strike="noStrike">
                <a:solidFill>
                  <a:srgbClr val="080808"/>
                </a:solidFill>
                <a:latin typeface="Times New Roman"/>
              </a:rPr>
              <a:t>(d:\resdat\delinfo.txt)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，读取其中的数据行，创建一个临时数据集</a:t>
            </a:r>
            <a:r>
              <a:rPr b="0" lang="da-DK" sz="1800" spc="-1" strike="noStrike">
                <a:solidFill>
                  <a:srgbClr val="080808"/>
                </a:solidFill>
                <a:latin typeface="Times New Roman"/>
              </a:rPr>
              <a:t>delinfo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1447560" y="1447560"/>
            <a:ext cx="6933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3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4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将逻辑库的所有文件传送到一个压缩文件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ile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d:\ResDat\ResDat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cp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ibra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em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dat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逻辑库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sDa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下的所有数据集传送到压缩文件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sDa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中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3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5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恢复将传送压缩为一个逻辑库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ib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_0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d:\ResDat_0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cimp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library=ResDat_0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f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恢复由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POR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生成的传送压缩文件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sDa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为原来的形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MISSING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612800" y="2069640"/>
            <a:ext cx="6553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ISSING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规定数值数据缺失值的代表字符。它通常出现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，但其使用范围是全局性的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格式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ISSING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character-1&lt;... character-n&gt;,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其中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haracte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缺失值代表字符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42960" y="71388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全局通用语句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57160" y="2142720"/>
            <a:ext cx="742968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全局通用语句是可以用在任何地方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。这些语句既可以用在数据步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步），也可以用在过程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甚至还可以单独使用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71320" y="857160"/>
            <a:ext cx="4800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116000" y="1988640"/>
            <a:ext cx="7129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.4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2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读入有缺失值数据时必须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MISSING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fitnes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miss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n r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$ age weigh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ang 23 78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u R 60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ian R N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‘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N’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表示被调查人不知道，’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’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表示被调查人拒绝回答问题。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MISSING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指示在输入数据行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N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的值是缺失值而不是无效的数据值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46" name=""/>
          <p:cNvGraphicFramePr/>
          <p:nvPr/>
        </p:nvGraphicFramePr>
        <p:xfrm>
          <a:off x="4500720" y="3573360"/>
          <a:ext cx="2447640" cy="1492200"/>
        </p:xfrm>
        <a:graphic>
          <a:graphicData uri="http://schemas.openxmlformats.org/drawingml/2006/table">
            <a:tbl>
              <a:tblPr/>
              <a:tblGrid>
                <a:gridCol w="768240"/>
                <a:gridCol w="839880"/>
                <a:gridCol w="839520"/>
              </a:tblGrid>
              <a:tr h="311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ag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weight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Wang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2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78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21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Hu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6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Tian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R              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OPTIONS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071360" y="1714320"/>
            <a:ext cx="701028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92d05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临时改变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的选项设置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92d05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改变后的选项设置在以后的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会话或作业中保持有效，直到再次改变它们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92d05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改变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选项可以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，或用显示管理命令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菜单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S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option-1 &lt;...option-n&gt;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其中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要改变的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选项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80808"/>
                </a:solidFill>
                <a:latin typeface="Times New Roman"/>
                <a:ea typeface="黑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.4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3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运行调试好程序时常用的系统选项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S NODATE NONOTES NOSOURCE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;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运行调试好的大型程序时，为了抑制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OG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窗口的输出，用上面的系统选项就可以解决问题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1285920" y="2000160"/>
            <a:ext cx="72388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过程步通用语句可以分为两类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程信息语句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量属性语句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title"/>
          </p:nvPr>
        </p:nvSpPr>
        <p:spPr>
          <a:xfrm>
            <a:off x="642960" y="92880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过程步通用语句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PROC 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57160" y="1714320"/>
            <a:ext cx="77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语句用于规定将要运行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程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程是已经写好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程序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46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调用打印输出过程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PRINT</a:t>
            </a:r>
            <a:r>
              <a:rPr b="0" lang="en-US" sz="2400" spc="-1" strike="noStrike">
                <a:solidFill>
                  <a:srgbClr val="080808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;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age height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sex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中，打印数据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sDat.CLAS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AME, AG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EIGH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观测值，并以性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类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 Box 4"/>
          <p:cNvSpPr/>
          <p:nvPr/>
        </p:nvSpPr>
        <p:spPr>
          <a:xfrm>
            <a:off x="1763640" y="511200"/>
            <a:ext cx="78850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------------------------------------------- Sex=F ------------------------------------------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          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Obs    Name       Age    Height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            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1    Alice       13     56.5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            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2    Barbara     13     65.3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            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3    Carol       14     62.8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            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4    Jane        12     59.8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            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5    Janet       15     62.5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            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6    Joyce       11     51.3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            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7    Judy        14     64.3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            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8    Louise      12     56.3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            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9    Mary        15     66.5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------------------------------------------- Sex=M -------------------------------------------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          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Obs    Name       Age    Height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           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10    Alfred      14     69.0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           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11    Henry       14     63.5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           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12    James       12     57.3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           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13    Jeffrey     13     62.5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           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14    John        12     59.0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           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15    Philip      16     72.0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           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16    Robert      12     64.8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           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17    Ronald      15     67.0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           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18    Thomas      11     57.5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                 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PMingLiU"/>
              </a:rPr>
              <a:t>19    William     15     66.5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785880" y="92880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格式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238880" cy="32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program &lt;options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其中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207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g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规定要运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过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207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s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规定过程的选项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OPTION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207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通用选项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207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过程特定选项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通用选项：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56" name="Object 2"/>
          <p:cNvGraphicFramePr/>
          <p:nvPr/>
        </p:nvGraphicFramePr>
        <p:xfrm>
          <a:off x="1928880" y="5214960"/>
          <a:ext cx="5429160" cy="94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8880" y="5214960"/>
                    <a:ext cx="542916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42960" y="99972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371600" y="1828440"/>
            <a:ext cx="7238880" cy="42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47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打印列表过程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esDat.Idx000001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PMingLiU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b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UTPU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打印输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esDat.Idx00000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前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观测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4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求均值过程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mea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esDat.Idx00000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maxde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lpr; 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UTPU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输出变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LPR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校正平方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SS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结果保留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小数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.4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9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作图过程选项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l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hpct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vpct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 规定按横竖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50:33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的比例作图 。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71320" y="8571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VAR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371600" y="21333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A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规定要分析的变量名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variable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ariable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规定要分析的变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5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0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应用举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mea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weight  heigh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Text Box 4"/>
          <p:cNvSpPr/>
          <p:nvPr/>
        </p:nvSpPr>
        <p:spPr>
          <a:xfrm>
            <a:off x="1042920" y="2421000"/>
            <a:ext cx="734544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Times New Roman"/>
              </a:rPr>
              <a:t>                                    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MEANS </a:t>
            </a:r>
            <a:r>
              <a:rPr b="0" lang="zh-TW" sz="1800" spc="-1" strike="noStrike">
                <a:solidFill>
                  <a:srgbClr val="080808"/>
                </a:solidFill>
                <a:latin typeface="Times New Roman"/>
              </a:rPr>
              <a:t>过程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Times New Roman"/>
              </a:rPr>
              <a:t>        </a:t>
            </a:r>
            <a:r>
              <a:rPr b="0" lang="zh-TW" sz="1800" spc="-1" strike="noStrike">
                <a:solidFill>
                  <a:srgbClr val="080808"/>
                </a:solidFill>
                <a:latin typeface="Times New Roman"/>
              </a:rPr>
              <a:t>变量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N            </a:t>
            </a:r>
            <a:r>
              <a:rPr b="0" lang="zh-TW" sz="1800" spc="-1" strike="noStrike">
                <a:solidFill>
                  <a:srgbClr val="080808"/>
                </a:solidFill>
                <a:latin typeface="Times New Roman"/>
              </a:rPr>
              <a:t>均值            标准偏差          最小值          最大值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--------------------------------------------------------------------------------------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Weight    19     100.0263158      22.7739335      50.5000000     150.000000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Height    19      62.3368421       5.1270752        51.3000000      72.000000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-----------------------------------------------------------------------------------------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MODEL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371600" y="2133360"/>
            <a:ext cx="7238880" cy="30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4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MODEL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语句规定过程需要的统计模型。</a:t>
            </a:r>
            <a:r>
              <a:rPr b="0" lang="zh-CN" sz="1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dependents=indepndenteffects/&lt;options&gt;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中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ependent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规定模型中的因变量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depndenteffect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规定模型中的自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s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不同过程的特定选项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5" name=""/>
          <p:cNvGraphicFramePr/>
          <p:nvPr/>
        </p:nvGraphicFramePr>
        <p:xfrm>
          <a:off x="1285920" y="1357200"/>
          <a:ext cx="6786360" cy="5761080"/>
        </p:xfrm>
        <a:graphic>
          <a:graphicData uri="http://schemas.openxmlformats.org/drawingml/2006/table">
            <a:tbl>
              <a:tblPr/>
              <a:tblGrid>
                <a:gridCol w="1982880"/>
                <a:gridCol w="4803480"/>
              </a:tblGrid>
              <a:tr h="320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语句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用途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注释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20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Dm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发布显示管理命令或文本编辑命令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发布主机操作系统命令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输出打印的标题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Fotnote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输出打印的脚注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Run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运行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SAS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程序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Endsas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终止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SAS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作业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Filename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标记一个外部文件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Libname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定义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SAS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逻辑库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%Include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调用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SAS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语句和数据行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%Run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结束由加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号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%INCLUDE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语句要求从键盘输入的源语句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%List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列出在当前会话中的输入行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Missing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缺失值字符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age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让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SAS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日志跳到新的一页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Skip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让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SAS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日志跳过规定的行数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Options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SAS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系统选项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Goptions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图形设备和各种选项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6" name="Rectangle 1"/>
          <p:cNvSpPr/>
          <p:nvPr/>
        </p:nvSpPr>
        <p:spPr>
          <a:xfrm>
            <a:off x="2643120" y="929160"/>
            <a:ext cx="3571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Times New Roman"/>
              </a:rPr>
              <a:t>表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</a:rPr>
              <a:t>7.1</a:t>
            </a:r>
            <a:r>
              <a:rPr b="1" lang="zh-CN" sz="1600" spc="-1" strike="noStrike">
                <a:solidFill>
                  <a:srgbClr val="080808"/>
                </a:solidFill>
                <a:latin typeface="Times New Roman"/>
              </a:rPr>
              <a:t>全局通用语句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1447920" y="15998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51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模型设定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y=x1-x5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y1 y2=a b c d;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 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52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回归分析过程模型设定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ResDat.class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PMingLiU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height=weight/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spe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out1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r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p  l95=l  u95=u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ID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143000" y="1714320"/>
            <a:ext cx="72388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规定用于识别观测的变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variable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其中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ariables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规定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用于识别观测的变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80808"/>
                </a:solidFill>
                <a:latin typeface="Times New Roman"/>
                <a:ea typeface="黑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53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规定替代观测序号的变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例中，打印列表输出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LASS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时，用变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NAME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的值来识别观测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/>
          </p:nvPr>
        </p:nvSpPr>
        <p:spPr>
          <a:xfrm>
            <a:off x="1447920" y="15235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54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  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规定数据集转置后的观测值识别变量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transp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a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transp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a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sex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运用上述程序段，查看输出结果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WHERE 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356840" y="164268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WHERE 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语句选择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数据集中的观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where-expression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用法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步中的用法类似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黑体"/>
              </a:rPr>
              <a:t> </a:t>
            </a: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WHER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与其它选项的生效顺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选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IRSTOBS=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BS=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选项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创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组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1447920" y="15998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观测值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sex=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'M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 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删除观测值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sex^=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'M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CLASS 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214280" y="178560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CLASS 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语句规定分类变量，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过程对分类变量的不同值分别进行分析处理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ASS /CLA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variables;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其中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variables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规定分析数据集中的分类变量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1371600" y="1218960"/>
            <a:ext cx="7238880" cy="27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5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应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LAS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17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mea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17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weight heigh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17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ex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17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a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e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w_m h_m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17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17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0" lang="en-US" sz="1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17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174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</a:t>
            </a:r>
            <a:r>
              <a:rPr b="0" lang="zh-CN" sz="1800" spc="-1" strike="noStrike">
                <a:solidFill>
                  <a:srgbClr val="080808"/>
                </a:solidFill>
                <a:latin typeface="宋体"/>
                <a:ea typeface="宋体"/>
              </a:rPr>
              <a:t>窗口输出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17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Sex  Obs  Variable   N    Mean         Std Dev       Minimum      Maximum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7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----------------------------------------------------------------------------------------------------------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7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F    9     Weight    9     90.1111111    19.3839137    50.5000000    112.5000000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7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     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Height     9     60.5888889     5.0183275     51.3000000    66.5000000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7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7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M   10   Weight   10    108.9500000   22.7271864    83.0000000     150.0000000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7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      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Height   10      63.9100000    4.9379370     57.3000000      72.0000000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7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----------------------------------------------------------------------------------------------------------------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1447920" y="114300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58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应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mea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weight heigh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ex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b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mea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w_m h_m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</a:t>
            </a:r>
            <a:r>
              <a:rPr b="0" lang="zh-CN" sz="1200" spc="-1" strike="noStrike">
                <a:solidFill>
                  <a:srgbClr val="080808"/>
                </a:solidFill>
                <a:latin typeface="Times New Roman"/>
                <a:ea typeface="宋体"/>
              </a:rPr>
              <a:t>窗口输出：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----------------------------------------- </a:t>
            </a: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Sex=F ----------------------------------------------------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                                            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 </a:t>
            </a: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Variable     N        Mean         Std Dev         Minimum         Maximum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       </a:t>
            </a: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--------------------------------------------------------------------------------------------------------------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 </a:t>
            </a: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Weight       9      90.1111111      19.3839137      50.5000000     112.5000000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 </a:t>
            </a: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Height       9      60.5888889       5.0183275      51.3000000      66.5000000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       </a:t>
            </a: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-----------------------------------------------------------------------------------------------------------------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 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  </a:t>
            </a: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---------------------------------------------------- Sex=M ----------------------------------------------------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 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        </a:t>
            </a: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Variable     N        Mean         Std Dev         Minimum         Maximum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         </a:t>
            </a: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------------------------------------------------------------------------------------------------------------------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         </a:t>
            </a: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Weight      10     108.9500000      22.7271864      83.0000000     150.0000000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         </a:t>
            </a: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Height      10      63.9100000       4.9379370      57.3000000      72.0000000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-------------------------------------------------------------------------------------------------------------------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BY 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213920" y="142848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BY 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语句规定分组处理变量。使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语句时，数据集必须先按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变量排序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variable-list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中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ariable-lis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规定变量列表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1600200" y="14475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组分开打印输出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sex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mea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sex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weight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注释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571400" y="2143080"/>
            <a:ext cx="6257880" cy="11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注释语句可以放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程序的任何地方作为程序的说明，或者介绍整个程序的步骤或算法等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OUTPUT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143000" y="16855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UTPU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语句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规定过程产生的输出数据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&lt;OUT=sas-data-set&gt; &lt;keyword=names&gt;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中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-data-se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规定输出的数据集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keyword=name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规定输出数据集中与关键词相联系的输出变量名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1447920" y="15235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60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应用举例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mea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height weight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out_m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h_m w_m  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例中，过程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MEANS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计算变量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HEIGHT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和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WEIGHT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的均值统计量。关键词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MEAN=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规定输出数据集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OUT_M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中的变量为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H_M 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和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W_M</a:t>
            </a:r>
            <a:r>
              <a:rPr b="0" lang="en-US" sz="2400" spc="-1" strike="noStrike">
                <a:solidFill>
                  <a:srgbClr val="080808"/>
                </a:solidFill>
                <a:latin typeface="宋体"/>
                <a:ea typeface="宋体"/>
              </a:rPr>
              <a:t>。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H_M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和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W_M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分别表示变量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HEIGHT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和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WEIGHT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  <a:ea typeface="宋体"/>
              </a:rPr>
              <a:t>的均值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QUIT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85920" y="1571760"/>
            <a:ext cx="72388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QUIT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语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用来结束一个交互式过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UIT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6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应用举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gpl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 ResDat.stk000002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l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lpr*dat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First Plot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l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oppr*dat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Second Plot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qu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FORMAT 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071720" y="17143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ORMAT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规定变量的输出格式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格式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步中的格式相同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应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FORMA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的规则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PRO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步中的输出格式只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过程中有效，原来的输出格式仍保留在数据集中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同时使用几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ORMA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时，最后一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ORMA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有效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FORMA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可以使用的输出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系统的输出格式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C FORMA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过程自定义的输出格式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/>
          </p:nvPr>
        </p:nvSpPr>
        <p:spPr>
          <a:xfrm>
            <a:off x="928800" y="1785600"/>
            <a:ext cx="7500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C FORMA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程定义的输出格式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form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$sexfmt 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'M' = 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ale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'F ' =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emale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class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sex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sex $</a:t>
            </a:r>
            <a:r>
              <a:rPr b="0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sexfm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中，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C FORMA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程定义的输出格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XMFT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来规定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X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输出格式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4"/>
          <p:cNvSpPr/>
          <p:nvPr/>
        </p:nvSpPr>
        <p:spPr>
          <a:xfrm>
            <a:off x="1619280" y="1557360"/>
            <a:ext cx="554364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     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Obs    Name        Sex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1    Alice      female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2    Barbara    female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3    Carol      female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4    Jane       female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5    Janet      female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6    Joyce      female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7    Judy       female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8    Louise     female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9    Mary       female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10    Alfred     male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11    Henry      male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12    James      male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        ……     ……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1213920" y="1071720"/>
            <a:ext cx="7239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63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规定变量的输出格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stk000002 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b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ate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ate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yymmdd10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 stk000002  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b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ate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ate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date7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 stk000002  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b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ate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ate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8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ATTRIB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428480" y="1714320"/>
            <a:ext cx="70102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TTRIB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规定变量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属性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格式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中的格式相同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TTRIB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规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属性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中以及由该过程产生的输出数据集中有效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6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可参考的例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ttr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 y z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$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sample variables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ttr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holiday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mmddyy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worddate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ttr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ay1-day7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day of week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week1-week4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week of month 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le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comma8.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dollar10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total sale’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LABEL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071360" y="1785600"/>
            <a:ext cx="7538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规定变量的标签。语句格式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步中的格式相同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可以出现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程的任意地方，并只在该过程中有效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图形时坐标轴使用变量标签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gpl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stk000002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pl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clpr*date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clpr=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收盘价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te=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日期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Picture 3" descr=""/>
          <p:cNvPicPr/>
          <p:nvPr/>
        </p:nvPicPr>
        <p:blipFill>
          <a:blip r:embed="rId1"/>
          <a:stretch/>
        </p:blipFill>
        <p:spPr>
          <a:xfrm>
            <a:off x="1000080" y="900000"/>
            <a:ext cx="7029360" cy="5600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/>
          </p:nvPr>
        </p:nvSpPr>
        <p:spPr>
          <a:xfrm>
            <a:off x="1428840" y="1356840"/>
            <a:ext cx="69292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黑体"/>
                <a:ea typeface="黑体"/>
              </a:rPr>
              <a:t>语句格式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格式一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 messag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信息的长度可任意，但不能包含分号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(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；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)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，最后的分号表示信息结束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格式二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message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中间的信息可以包含分号，但这种形式的注释不能嵌套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WordArt 2"/>
          <p:cNvSpPr txBox="1"/>
          <p:nvPr/>
        </p:nvSpPr>
        <p:spPr>
          <a:xfrm>
            <a:off x="1214280" y="342900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4ab1e4"/>
                </a:solidFill>
                <a:effectLst>
                  <a:outerShdw dist="53966" dir="2700000" blurRad="0" rotWithShape="0">
                    <a:srgbClr val="080808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4ab1e4"/>
              </a:solidFill>
              <a:effectLst>
                <a:outerShdw dist="53966" dir="2700000" blurRad="0" rotWithShape="0">
                  <a:srgbClr val="080808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499760" y="171432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.1 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注释语句应用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stk000002 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b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noob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输出前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10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个观测，不输出观测序号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oppr hipr lopr clpr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股票行情</a:t>
            </a:r>
            <a:r>
              <a:rPr b="0" lang="zh-CN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mea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stk000002 ; 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对数据集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ResDat.stk000002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使用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means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过程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v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oppr hipr lopr clpr;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输出变量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oppr hipr lopr clpr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的均值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/>
          </p:nvPr>
        </p:nvSpPr>
        <p:spPr>
          <a:xfrm>
            <a:off x="1523880" y="1904760"/>
            <a:ext cx="6477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.2 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标准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程序开头，记录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程序信息的注释形式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-----------------------------------------------------------*/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----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Begin Estimation for Grunfeld's Investment Models ----*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---- See SAS/ETS User's Guide, Version 5 Edition,     -----*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---- pages                                           ------*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-----------------------------------------------------------*/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713880" y="85716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X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574280" y="1428480"/>
            <a:ext cx="72392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24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运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时，发布主机操作系统命令。</a:t>
            </a:r>
            <a:r>
              <a:rPr b="0" lang="zh-CN" sz="1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X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'command'&gt;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其中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command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主机操作系统的命令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.8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应用举例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mkdir d:\ResDat1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ib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1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 d:\ResDat1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1.clas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会话期间用主机操作系统命令创建一个目录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:\ResDat1.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注意：键入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EXI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命令退出操作系统返回到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会话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03:57:00Z</dcterms:created>
  <dc:creator>微软用户</dc:creator>
  <dc:description/>
  <dc:language>en-US</dc:language>
  <cp:lastModifiedBy>RESSET</cp:lastModifiedBy>
  <dcterms:modified xsi:type="dcterms:W3CDTF">2013-02-19T06:23:24Z</dcterms:modified>
  <cp:revision>596</cp:revision>
  <dc:subject/>
  <dc:title>第1章 SAS软件入门</dc:title>
</cp:coreProperties>
</file>