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B27-D73C-4BBC-BCB0-9622B08EDE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9C88-C5C8-4AE2-8D19-58D16C1D4810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8FA-E13F-4D97-8A75-AEF9ED6F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899-3E48-468F-8A05-566E3285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2BBFC-4F52-4163-BBA9-74AC0F87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185FC-AA66-4058-9925-C1842AF5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801CE-AD2D-4F93-9E61-65A81A0F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F9C6B-ED56-4AB6-9FC8-CFDED71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73CBF-2753-488B-8B35-1A263A4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8593F-5C73-463D-9DAD-B91D35D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686B-75E8-4CD0-8DEB-3742DFEE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09A8C-BDE1-4C8C-8D38-1AED78C5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40F4F-3975-4AF4-A488-98D51E36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C642B-C52E-4EEE-9CA7-1B5D1428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2D0-A79A-478D-84AF-7A50BAE1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03929-618E-41DF-BA3D-3459CD4D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21135-08EC-4A18-A2B9-9DF9B485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F4716-CA71-4D98-BE0C-D17E854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EA4BC-A819-4340-95E8-3F749B3B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D844B-3E9B-443A-ACB5-7A4C05EB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BEFE9-2684-4C84-9D28-E528397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E2CA4-1C9A-4C74-9CA9-9E7F888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D689F-6A9C-4E01-8DC5-1CFEF390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92C1E-F719-487C-B9C2-FDDA8F1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A0FA4-4F25-4AFA-A54B-28B09336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8A4-F425-4CC8-B6B5-A136B275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7FA51-1A72-4EA5-A533-3B041F8F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1A993-37FE-47FB-83DD-DB78E7A7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3830-4EA6-4800-A4BB-ECC8E0D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8515D-C784-476D-BCAD-D93341E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7443A-9783-4624-9C68-4BB9CF7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4E637-559C-4778-9A23-7EFC3447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F8138-7EB0-42D3-AEDB-32EF5EF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B86CC-A94F-4107-8E9F-ADD9B1B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66227-3855-4F3C-9FD9-2E3EE39F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6EDC6-5BE0-4721-ABAF-5AD520F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C5BE-7768-4FDA-8A8E-E004B171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51E00-6775-420E-B1D6-F73A902C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A2801-A280-4C4C-920D-097D35E3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E9154-F5BD-43B5-B2F6-6A91E56A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2FD51-2E9B-49F2-A432-3285D121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838C8-6973-4755-B69C-2F4A69D4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BD4E3-53DA-4E32-B174-158B395C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D05DC-458D-4B2C-AF51-8797DE7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B4F46-10B2-4E0A-8B01-4CD60FA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65A5D-2D10-446D-8131-B600BF9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D8D69-2581-4637-BE83-E79B7C0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3A8-9F19-40E6-8002-A6A5A17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B6CEC-AE99-4F6F-879C-791B55A5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CAE4E-F781-4486-A006-92F595B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753BE-7591-43FB-9836-217E7D5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2B864-BDCE-4659-BE37-B9017A73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8F71C-B30F-45F5-8543-A7ED4C44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256B2-57E4-426B-8EC6-A0B7CB63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58D2E-161F-47D5-AEC6-E051A44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57A06-A767-4D4D-A5C9-CC23290A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D6848-8A47-499A-9A64-6363CB3D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7A499-4041-4172-883A-B7F3F11F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4F1E-11B1-47FE-B1CE-8D55B5EE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BACED-2E90-49CC-8D58-E284C15C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6F979-2167-4997-BC72-4D9780E7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995E3-F8DD-4C3F-9FAA-05CCBF6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7A346-132D-4DE5-B650-3B79349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68C49-FBC4-4C10-8F51-F9C2C5D1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3BC7D-EF91-4BCA-B7F0-9272488D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6DCCB-FA86-417F-814E-22BCE2CC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27AC-5B77-4FB9-9BD9-1C2B373E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9E3B-B19B-4D5F-BD00-1886F801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F0D2-7114-48FD-8BA7-B5081CB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5BA-ED39-42E5-A634-2FD25D0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B2B-C5B1-409C-B011-21D11AB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319F-A2B6-464D-ADFB-0E8DFC5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FA42-A40E-41C8-A777-3B72677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6442-3DEE-456C-99A0-FFCFB3F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4462-8CF3-4EA3-9784-A788B326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2F64-7FC6-4BA4-ADB3-F344E6B7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491B-865C-4001-A20B-4E348BFE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D378-8DD7-450A-AEBF-6A16CA69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E42E-6976-4E8D-9926-54060B3A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DD1D-6FF8-40A6-AD64-C82BB939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E938-41B7-4803-A73F-849FA0E3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D9A-39D6-4E14-9F14-55636C33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0BA5-0A99-4A89-A753-983C7437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C545-B6B7-456F-A0B0-95CCB7F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A236-20B8-4A58-9A33-C115B870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EFB1-09AE-46B4-83FF-944CCF0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CAC4-F2C6-4287-B94C-DB86A641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1789-7A64-4445-AF4A-6BC2CBB4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C898-A561-47DF-8A65-41949FFF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62BC-1BD8-4ED1-9F31-33857E83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EE44-EC72-4C25-8F13-988955D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FE5B9-CDB4-4848-AA00-7E7CBD08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111-C41B-4996-8068-5E31821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B859-C96F-45B1-B507-567ED130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AB3B-5B51-462A-9585-7A843B08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8542-A2F3-4332-A558-FDD7CDC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F0DB0-7309-4DC2-9730-ACD23AD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CACC-4BAB-4654-A898-BB1330A3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9E1E-FFDD-4426-B027-335E812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6724-71B6-4086-95A3-4B790D84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8136-A731-4157-A60E-0B1859D3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3318-CC57-4C41-AD19-9EB1223D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CB80-47D1-4AA8-849B-1BCC2081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2D7-C59C-44ED-8338-59CD4926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4A9E-14B7-48B6-83B5-FD13A49E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34E4-A0E0-4935-9143-F3E43A34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A4C4-A8E1-4A1E-8A9B-4F941EA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A0C08-77ED-4A7E-8DBF-B624DE1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1ADF9-1ABA-4D4F-97EB-C5CBED8F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8BD7-61A1-4B48-AAF7-C52770F5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9B17-C99E-4987-9B12-706A8CB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5468-A82C-43A2-9E52-53B6915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EDC4-FDD4-4D18-B461-BF4604D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AD459-25EC-455B-92EF-1315CC12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493-5DD9-42A4-9F8A-6AA99876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724D0-303B-4413-A688-D293E59D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652A-FE6A-4EF9-9E64-C5E01C3F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9569-9F40-4B08-AA65-3BC67D11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B0889-BCBA-4ACE-924F-61493E3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D909-8E10-4488-905F-6AA7BA0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C329-5625-4E1D-9918-E4CE28B4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8162-337F-449E-B138-DEFB1C95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6B87B-47C4-4654-8CAE-77D8B26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FEB0-6B9E-4314-BEF7-9D51803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5E2A-CB11-4551-86B7-E0215BE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41D-47DD-453C-8D02-95CF12EA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10FD-1D69-4933-A6F3-34978AD6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B1949-7262-4D20-9ECC-EC194070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FF67-073D-4061-B2F7-75C574A7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0660-A3F8-4D74-B192-02A81AED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FE9CA-696A-44CD-BEF5-3E4999B5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AEEF4-2C10-48AD-B2C1-50BF4301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253EC-0D8C-431F-8CC7-17E304B1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272A-7D40-4C48-BEB7-A6A185BE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623C-005E-4D9C-B5EB-DDA3BB16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7A8E5-8E38-4F86-B195-254F89A1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CCB-4501-4C59-8D21-ED8E270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9E36-024D-4C57-9503-903C747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F3F3-E1B3-47E1-BD0F-AFF214A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8D7E-EFF6-40BD-BD30-76A61E1F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60CE-BF0C-4E60-BE2D-E5D8FE77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B5724-B3A5-46CE-B9EB-CBE8F0E3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F6A8-95FD-4676-989E-EF0A4B17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8BAE-FF49-4B83-A251-A127EF31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B7A0A-F874-4BF0-9641-D2A514DF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2FF21-1963-400E-8590-EEBB48CD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7562A-9528-42BB-A2D9-B731BA91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425-ADA7-4300-9A59-82E0B5E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C5315-3F4A-48DB-95C4-502362E3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0A137-7E6E-4C88-953C-AD06C55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3C0A-C344-4F79-A4C6-05B78A7F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AA0A0-9A19-45BA-B078-17E688E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B6624-674F-444B-AD42-128394FE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3CCA-DDDA-41CA-ADA3-39B9C28E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499A4-BE8B-4C81-B357-3DC0B1AE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5FAA1-B10D-4B5C-B0DE-1CEB5780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43460-D6B6-4E76-A8DB-E80155CD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9F846-2E5B-4665-9A48-CAC2541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ED82-B911-49F7-968E-94468716CA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302-E29A-4E3F-9D41-4B26C03CD2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FE1B-4DF9-4696-A9D6-35F02472FF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61D3-40D5-4B3F-A3F8-76959C8A8D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6790-4C41-4AF3-B34B-43C09A6E1D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3E6-DD5D-4D67-A796-60D6CB6B1A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0C4-9CC2-4320-8A72-7090288129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5A4-25D1-487F-941F-A7918AEE44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EE9A-96EA-4972-B4D7-241BB68BDF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1724-9702-48F3-B074-EF495FC8EB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948-2DB6-4197-9B9D-60A9FFF88E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48C5-6E26-4B54-84D3-891A273DF1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6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常用函数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112536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值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331640" y="2491920"/>
            <a:ext cx="698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概率值和分位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probnorm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.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正态分布小于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.96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概率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1=tinv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9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由度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布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.95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位数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2=tinv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9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由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非中心参数为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布的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.95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分位数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q1= q2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Text Box 0"/>
          <p:cNvSpPr/>
          <p:nvPr/>
        </p:nvSpPr>
        <p:spPr>
          <a:xfrm>
            <a:off x="3708360" y="5373720"/>
            <a:ext cx="4248360" cy="6102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0.9750021049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q1=2.9199855804 q2=13.89437607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71720" y="9997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日期时间函数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期和时间存贮标准是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为起点，然后以相应的间隔记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6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，按日记的数值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按小时记的数值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6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，按日记的数值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按小时记就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日期函数是一类非常重要的函数，特别是对金融数据处理和金融计算，借助日期函数可以极大提高效率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600200" y="914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6.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两个日期之间的天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2'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date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3'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=datdif(sdate, edate,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ct/ac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按每个月的实际天数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ys360=datdif(sdate, edate,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30/36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按每个月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天计算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ctual=  days360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=datdif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2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3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act/ac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ys360=datdif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2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'01jan2003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30/360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ctual=  days360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两段程序的结果一样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actual=365, days360=360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71720" y="999720"/>
            <a:ext cx="7500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1071720" y="857160"/>
            <a:ext cx="7238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6.9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计算两个日期之间的年数。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null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ate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16oct1998'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ate=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16feb2003'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30360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30/360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30/360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求年数的标准 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ctact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/ACT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ct360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/360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ct365=yrdif(sdate, edate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CT/365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30360=  yactact=  yact360=  yact365=;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2643120" y="5429160"/>
            <a:ext cx="4714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矩形 6"/>
          <p:cNvSpPr/>
          <p:nvPr/>
        </p:nvSpPr>
        <p:spPr>
          <a:xfrm>
            <a:off x="3500280" y="4929120"/>
            <a:ext cx="457200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30360=4.33333333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actact=4.336986301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act360=4.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yact365=4.339726027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1643040" y="5357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294920" y="121896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以日为单位计算当前日期的天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date (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today(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 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DAY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一样，都是返回当天的天数。当然，也可以用一定的日期格式表示它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date (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today(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x y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yymmdd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Rectangle 0"/>
          <p:cNvSpPr/>
          <p:nvPr/>
        </p:nvSpPr>
        <p:spPr>
          <a:xfrm>
            <a:off x="4788000" y="1989000"/>
            <a:ext cx="288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=17232 y=17232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Rectangle 1"/>
          <p:cNvSpPr/>
          <p:nvPr/>
        </p:nvSpPr>
        <p:spPr>
          <a:xfrm>
            <a:off x="5064120" y="4869000"/>
            <a:ext cx="2997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=2007-03-07 y=2007-03-07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142640" y="856800"/>
            <a:ext cx="7358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以秒为单位计算当前的日期和时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=datetime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=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datetime 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datetime20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datetime20.4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日期时间变量输出格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datetime 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nldatm2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nldatm20.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日期时间变量输出格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=time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time(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hhmm8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402920" y="1557360"/>
            <a:ext cx="61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.12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日期值所在的年季月以及处于某月的第几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stk000001 (ob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year qtr month day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year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tr=qtr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nth=month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y=day (dat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Text Box 0"/>
          <p:cNvSpPr/>
          <p:nvPr/>
        </p:nvSpPr>
        <p:spPr>
          <a:xfrm>
            <a:off x="5429160" y="2928960"/>
            <a:ext cx="3384720" cy="36507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Times New Roman"/>
              </a:rPr>
              <a:t>Date              year    qtr    month    da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991-01-02    1991     1       1        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991-01-03    1991     1       1        3                                            1991-01-04    1991     1       1        4                                            1991-01-05    1991     1       1        5                                            1991-01-07    1991     1       1        7                                            1991-01-08    1991     1       1        8                                            1991-01-09    1991     1       1        9                                            1991-01-10    1991     1       1       10                                            1991-01-11    1991     1       1       11                                            1991-01-12    1991     1       1       1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日期时间值换算为以秒计数的计算方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dy=mdy 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d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dy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yymmdd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ms=hms 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ms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hms=dhms (date (),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hms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hms=dhms 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526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hms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526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6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x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5715000" y="3809880"/>
            <a:ext cx="27432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mdy=2001-08-18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ms=786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x=786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dhms=13478322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dhms=131880185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y=1318801851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2438280" y="2362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概率分布函数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02920" y="11966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标准正态分布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547280" y="22046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BNORM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X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标准正态分布随机变量小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概率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三个特殊的正态概率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1=probnorm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2=probnorm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.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3=probnorm(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.575829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1= P2= P3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Text Box 1"/>
          <p:cNvSpPr/>
          <p:nvPr/>
        </p:nvSpPr>
        <p:spPr>
          <a:xfrm>
            <a:off x="5724360" y="4292640"/>
            <a:ext cx="309564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1=0.5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2=0.9750021049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P3=0.9949999999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定义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自变量与结果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分类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期时间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常用概率分布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分位数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样本统计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随机数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 Call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子程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样本统计函数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75792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样本统计函数在实际中的用处不是很大，因为应用这些函数时，一定要把样本的观测数据放在同一行才可以，现实中样本的观测数据却往往是按一列一列排的。一般情况下，求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样本统计函数值时要用别的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样本统计量函数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均值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642680" y="1785600"/>
            <a:ext cx="5924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of xl-x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, …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非缺失自变量的算术平均。自变量中至少有一个非缺失值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求和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356840" y="1785960"/>
            <a:ext cx="6715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of xl-x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1,x2, …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自变量的和。要求有两个以上自变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方差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00120" y="1785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of xl-x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x1,x2, …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自变量中非缺失值的方差。要求至少有两个自变量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随机数函数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643040" y="1999800"/>
            <a:ext cx="585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提供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种随机数函数。由于随机数函数是进行随机模拟的基础，这里我们通过例子，给出每种随机数发生程序，供读者参考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正态分布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71720" y="1856880"/>
            <a:ext cx="535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6.2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ANNO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正态分布随机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retain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赋初值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给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seed_*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u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igma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1 = mu + sigma * rannor(_seed_)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均值为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mu,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差为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sigma*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  mu sigm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7072200" y="1785960"/>
          <a:ext cx="928800" cy="388620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ormal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972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8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7000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2.3400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109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0188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-0.6415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0.81876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0.22110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520">
                <a:tc>
                  <a:txBody>
                    <a:bodyPr lIns="7200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>
                      <a:noFill/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.2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RMA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正态分布随机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gma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1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normal(_seed_);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均值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u,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标准差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igma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均匀分布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2392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.2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ANUNI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均匀分布随机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form1 = a + (b-a) * ranuni(_seed_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区间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[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, b]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上的均匀分布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_seed_  _i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6.3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函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NIFORM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均匀分布随机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 =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form1 = a + (b - a) * uniform(_seed_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区间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[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, b]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上的均匀分布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seed_ _i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随机数函数自变量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EED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2388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随机数函数使用一个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来选择产生随机数的初始种子值，由这个值开始产生随机数流。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取值和初始化类型如下表列出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4   SE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取值与初始化类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2" name="Object 2"/>
          <p:cNvGraphicFramePr/>
          <p:nvPr/>
        </p:nvGraphicFramePr>
        <p:xfrm>
          <a:off x="2071800" y="3286080"/>
          <a:ext cx="5072040" cy="15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3286080"/>
                    <a:ext cx="50720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Text Box 5"/>
          <p:cNvSpPr/>
          <p:nvPr/>
        </p:nvSpPr>
        <p:spPr>
          <a:xfrm>
            <a:off x="1714680" y="4952880"/>
            <a:ext cx="659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随机数的过程中，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值保持不变，种子则不断变化。所以，用随机函数产生随机数时，不能控制种子的值，因此也不可能控制初始化之后的随机数。如果要控制随机数流，就要用随机数函数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程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00080" y="1000080"/>
            <a:ext cx="723888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函数定义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428480" y="1999800"/>
            <a:ext cx="59245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是一个子程序，对自变量返回一个结果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的形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1, X2, …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28800" y="928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SAS CALL 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子程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31640" y="2852640"/>
            <a:ext cx="629604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提供一系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，用于产生随机数或执行其它的系统功能，详见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随机数子程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143000" y="1785960"/>
            <a:ext cx="7238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随机数子程序可以更好地控制种子流和随机数流。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RMA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IFOR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函数之外，所有随机数函数都有一个相应的子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激活随机数子程序的格式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utine (seed, &lt;argument, &gt;variat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时，首先要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赋初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时产生几个随机数流时，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比用随机函数的效果更好。因为，用随机数函数同时创建的多个随机数变量都属于同一个随机数流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9" name="Object 2"/>
          <p:cNvGraphicFramePr/>
          <p:nvPr/>
        </p:nvGraphicFramePr>
        <p:xfrm>
          <a:off x="2214720" y="3571920"/>
          <a:ext cx="4071960" cy="135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3571920"/>
                    <a:ext cx="40719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294920" y="1066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6.38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随机函数产生两个随机数变量属于同一个随机数流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seed1  seed2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613218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= ranuni(seed1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2= ranuni(seed2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center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初值相同，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第一个观测值却不相同。因为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在这里不起作用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第一个值并不是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的，而是产生第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后一个新种子的结果。所以，这里产生的两个随机数变量属于同一个随机数流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4114800" y="2743200"/>
            <a:ext cx="50292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  seed1        seed2      I       x1         x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161321804    161321804    1    0.43617    0.6488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161321804    161321804    2    0.34138    0.42729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3     161321804    161321804    3    0.43237    0.6383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4     161321804    161321804    4    0.74690    0.8971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     161321804    161321804    5    0.13630    0.1903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3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产生两个独立的种子流和随机数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V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ed3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613218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eed4 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352798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anuni(seed3, X3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anuni(seed4, X4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产生两个独立的种子流和随机数流。因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ED3=SEED1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所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的随机数流就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成的随机数流。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随时可以看到当前的种子值，用随机数函数则看不到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3962520" y="2743200"/>
            <a:ext cx="48765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结果显示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Obs       seed3         seed4      I       X3         X4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1      936674311     724196333    1    0.43617    0.3372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2     1393460745    1733883844    2    0.64888    0.8074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      733112270    1200908019    3    0.34138    0.5592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      917607517     674688435    4    0.42729    0.31418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5      928513130    1646762308    5    0.43237    0.7668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357200" y="571320"/>
            <a:ext cx="7467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9a55"/>
                </a:solidFill>
                <a:latin typeface="Times New Roman"/>
                <a:ea typeface="宋体"/>
              </a:rPr>
              <a:t>函数用于组合表达式可以简化编程和统计计算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95280" y="1642680"/>
            <a:ext cx="7391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中用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(keep=date y d min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保留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e, y, d, min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四个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year(date);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函数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ar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给出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e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年份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=weekday(date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函数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weekda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给出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e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在一周内的哪一天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n=min(sum(oppr, hipr, lopr,clpr),1000)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2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件语句中使用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(date)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Where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中使用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ear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函数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9a55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9a55"/>
                </a:solidFill>
                <a:latin typeface="Times New Roman"/>
                <a:ea typeface="宋体"/>
              </a:rPr>
              <a:t>用函数处理多变量可以简化程序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628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与不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时的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tx=xl+x2+x3+x4+x5+x6+x7+x8+x9+x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tx&lt;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ast=tot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east=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ast=min(sum(of x1-x10),y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段程序的结果相同，第二段只有一个语句，非常简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自变量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2388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自变量类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名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.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及其自变量类型举例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785960" y="4071960"/>
          <a:ext cx="6500880" cy="2487600"/>
        </p:xfrm>
        <a:graphic>
          <a:graphicData uri="http://schemas.openxmlformats.org/drawingml/2006/table">
            <a:tbl>
              <a:tblPr/>
              <a:tblGrid>
                <a:gridCol w="2994120"/>
                <a:gridCol w="3506760"/>
              </a:tblGrid>
              <a:tr h="4118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函数举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自变量类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ax(X,Y); 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量名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X=Repeat(‘---‘, 20)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9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Leas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＝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n(sum(of x1-x10),y)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；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变量名和函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0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um=sum((if x1&gt;0), (if x2&gt;0))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表达式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变量个数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些函数不需要自变量，有些只需要一个自变量，有些函数有多个自变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9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自变量个数不能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76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函数的自变量是表达式，在函数被调用之前，所有表达式自变量首先计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变量表示法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函数有多个自变量时，必须用逗号分隔开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变量名缩写方法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)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与错误的表示方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6.6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自变量的缩写方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y1-y10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数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{10}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sum (of y{*}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sum (of y1-y10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的表示法是等价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5" name="Object 2"/>
          <p:cNvGraphicFramePr/>
          <p:nvPr/>
        </p:nvGraphicFramePr>
        <p:xfrm>
          <a:off x="1643040" y="2071800"/>
          <a:ext cx="5672160" cy="181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2071800"/>
                    <a:ext cx="567216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函数结果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2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常函数的结果由其自变量的属性决定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变量是字符时结果变量为字符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变量是数值时结果变量为数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是一个例外，它不管自变量是什么类型，其结果总是字符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缺省规则，对大多数函数来说，数值目标变量的长度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字符目标变量的长度没有缺省规则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变量长度不用缺省规则的函数见课本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18T06:01:42Z</dcterms:modified>
  <cp:revision>423</cp:revision>
  <dc:subject/>
  <dc:title>第1章 SAS软件入门</dc:title>
</cp:coreProperties>
</file>