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  <p:sldId id="333" r:id="rId95"/>
    <p:sldId id="334" r:id="rId96"/>
    <p:sldId id="335" r:id="rId97"/>
    <p:sldId id="336" r:id="rId98"/>
    <p:sldId id="337" r:id="rId99"/>
    <p:sldId id="338" r:id="rId100"/>
    <p:sldId id="339" r:id="rId101"/>
    <p:sldId id="340" r:id="rId102"/>
    <p:sldId id="341" r:id="rId103"/>
    <p:sldId id="342" r:id="rId104"/>
    <p:sldId id="343" r:id="rId105"/>
    <p:sldId id="344" r:id="rId106"/>
    <p:sldId id="345" r:id="rId107"/>
    <p:sldId id="346" r:id="rId108"/>
    <p:sldId id="347" r:id="rId109"/>
    <p:sldId id="348" r:id="rId110"/>
    <p:sldId id="349" r:id="rId111"/>
    <p:sldId id="350" r:id="rId112"/>
    <p:sldId id="351" r:id="rId113"/>
    <p:sldId id="352" r:id="rId114"/>
    <p:sldId id="353" r:id="rId115"/>
    <p:sldId id="354" r:id="rId116"/>
    <p:sldId id="355" r:id="rId117"/>
    <p:sldId id="356" r:id="rId118"/>
    <p:sldId id="357" r:id="rId119"/>
    <p:sldId id="358" r:id="rId120"/>
    <p:sldId id="359" r:id="rId121"/>
    <p:sldId id="360" r:id="rId122"/>
    <p:sldId id="361" r:id="rId123"/>
    <p:sldId id="362" r:id="rId124"/>
    <p:sldId id="363" r:id="rId125"/>
    <p:sldId id="364" r:id="rId126"/>
    <p:sldId id="365" r:id="rId127"/>
    <p:sldId id="366" r:id="rId128"/>
    <p:sldId id="367" r:id="rId129"/>
    <p:sldId id="368" r:id="rId130"/>
    <p:sldId id="369" r:id="rId131"/>
    <p:sldId id="370" r:id="rId132"/>
    <p:sldId id="371" r:id="rId133"/>
    <p:sldId id="372" r:id="rId134"/>
    <p:sldId id="373" r:id="rId135"/>
    <p:sldId id="374" r:id="rId136"/>
    <p:sldId id="375" r:id="rId137"/>
    <p:sldId id="376" r:id="rId138"/>
    <p:sldId id="377" r:id="rId139"/>
    <p:sldId id="378" r:id="rId140"/>
    <p:sldId id="379" r:id="rId141"/>
    <p:sldId id="380" r:id="rId142"/>
    <p:sldId id="381" r:id="rId143"/>
    <p:sldId id="382" r:id="rId144"/>
    <p:sldId id="383" r:id="rId145"/>
    <p:sldId id="384" r:id="rId146"/>
    <p:sldId id="385" r:id="rId147"/>
    <p:sldId id="386" r:id="rId148"/>
    <p:sldId id="387" r:id="rId149"/>
    <p:sldId id="388" r:id="rId150"/>
    <p:sldId id="389" r:id="rId151"/>
    <p:sldId id="390" r:id="rId152"/>
    <p:sldId id="391" r:id="rId153"/>
    <p:sldId id="392" r:id="rId1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slide" Target="slides/slide78.xml"/><Relationship Id="rId96" Type="http://schemas.openxmlformats.org/officeDocument/2006/relationships/slide" Target="slides/slide79.xml"/><Relationship Id="rId97" Type="http://schemas.openxmlformats.org/officeDocument/2006/relationships/slide" Target="slides/slide80.xml"/><Relationship Id="rId98" Type="http://schemas.openxmlformats.org/officeDocument/2006/relationships/slide" Target="slides/slide81.xml"/><Relationship Id="rId99" Type="http://schemas.openxmlformats.org/officeDocument/2006/relationships/slide" Target="slides/slide82.xml"/><Relationship Id="rId100" Type="http://schemas.openxmlformats.org/officeDocument/2006/relationships/slide" Target="slides/slide83.xml"/><Relationship Id="rId101" Type="http://schemas.openxmlformats.org/officeDocument/2006/relationships/slide" Target="slides/slide84.xml"/><Relationship Id="rId102" Type="http://schemas.openxmlformats.org/officeDocument/2006/relationships/slide" Target="slides/slide85.xml"/><Relationship Id="rId103" Type="http://schemas.openxmlformats.org/officeDocument/2006/relationships/slide" Target="slides/slide86.xml"/><Relationship Id="rId104" Type="http://schemas.openxmlformats.org/officeDocument/2006/relationships/slide" Target="slides/slide87.xml"/><Relationship Id="rId105" Type="http://schemas.openxmlformats.org/officeDocument/2006/relationships/slide" Target="slides/slide88.xml"/><Relationship Id="rId106" Type="http://schemas.openxmlformats.org/officeDocument/2006/relationships/slide" Target="slides/slide89.xml"/><Relationship Id="rId107" Type="http://schemas.openxmlformats.org/officeDocument/2006/relationships/slide" Target="slides/slide90.xml"/><Relationship Id="rId108" Type="http://schemas.openxmlformats.org/officeDocument/2006/relationships/slide" Target="slides/slide91.xml"/><Relationship Id="rId109" Type="http://schemas.openxmlformats.org/officeDocument/2006/relationships/slide" Target="slides/slide92.xml"/><Relationship Id="rId110" Type="http://schemas.openxmlformats.org/officeDocument/2006/relationships/slide" Target="slides/slide93.xml"/><Relationship Id="rId111" Type="http://schemas.openxmlformats.org/officeDocument/2006/relationships/slide" Target="slides/slide94.xml"/><Relationship Id="rId112" Type="http://schemas.openxmlformats.org/officeDocument/2006/relationships/slide" Target="slides/slide95.xml"/><Relationship Id="rId113" Type="http://schemas.openxmlformats.org/officeDocument/2006/relationships/slide" Target="slides/slide96.xml"/><Relationship Id="rId114" Type="http://schemas.openxmlformats.org/officeDocument/2006/relationships/slide" Target="slides/slide97.xml"/><Relationship Id="rId115" Type="http://schemas.openxmlformats.org/officeDocument/2006/relationships/slide" Target="slides/slide98.xml"/><Relationship Id="rId116" Type="http://schemas.openxmlformats.org/officeDocument/2006/relationships/slide" Target="slides/slide99.xml"/><Relationship Id="rId117" Type="http://schemas.openxmlformats.org/officeDocument/2006/relationships/slide" Target="slides/slide100.xml"/><Relationship Id="rId118" Type="http://schemas.openxmlformats.org/officeDocument/2006/relationships/slide" Target="slides/slide101.xml"/><Relationship Id="rId119" Type="http://schemas.openxmlformats.org/officeDocument/2006/relationships/slide" Target="slides/slide102.xml"/><Relationship Id="rId120" Type="http://schemas.openxmlformats.org/officeDocument/2006/relationships/slide" Target="slides/slide103.xml"/><Relationship Id="rId121" Type="http://schemas.openxmlformats.org/officeDocument/2006/relationships/slide" Target="slides/slide104.xml"/><Relationship Id="rId122" Type="http://schemas.openxmlformats.org/officeDocument/2006/relationships/slide" Target="slides/slide105.xml"/><Relationship Id="rId123" Type="http://schemas.openxmlformats.org/officeDocument/2006/relationships/slide" Target="slides/slide106.xml"/><Relationship Id="rId124" Type="http://schemas.openxmlformats.org/officeDocument/2006/relationships/slide" Target="slides/slide107.xml"/><Relationship Id="rId125" Type="http://schemas.openxmlformats.org/officeDocument/2006/relationships/slide" Target="slides/slide108.xml"/><Relationship Id="rId126" Type="http://schemas.openxmlformats.org/officeDocument/2006/relationships/slide" Target="slides/slide109.xml"/><Relationship Id="rId127" Type="http://schemas.openxmlformats.org/officeDocument/2006/relationships/slide" Target="slides/slide110.xml"/><Relationship Id="rId128" Type="http://schemas.openxmlformats.org/officeDocument/2006/relationships/slide" Target="slides/slide111.xml"/><Relationship Id="rId129" Type="http://schemas.openxmlformats.org/officeDocument/2006/relationships/slide" Target="slides/slide112.xml"/><Relationship Id="rId130" Type="http://schemas.openxmlformats.org/officeDocument/2006/relationships/slide" Target="slides/slide113.xml"/><Relationship Id="rId131" Type="http://schemas.openxmlformats.org/officeDocument/2006/relationships/slide" Target="slides/slide114.xml"/><Relationship Id="rId132" Type="http://schemas.openxmlformats.org/officeDocument/2006/relationships/slide" Target="slides/slide115.xml"/><Relationship Id="rId133" Type="http://schemas.openxmlformats.org/officeDocument/2006/relationships/slide" Target="slides/slide116.xml"/><Relationship Id="rId134" Type="http://schemas.openxmlformats.org/officeDocument/2006/relationships/slide" Target="slides/slide117.xml"/><Relationship Id="rId135" Type="http://schemas.openxmlformats.org/officeDocument/2006/relationships/slide" Target="slides/slide118.xml"/><Relationship Id="rId136" Type="http://schemas.openxmlformats.org/officeDocument/2006/relationships/slide" Target="slides/slide119.xml"/><Relationship Id="rId137" Type="http://schemas.openxmlformats.org/officeDocument/2006/relationships/slide" Target="slides/slide120.xml"/><Relationship Id="rId138" Type="http://schemas.openxmlformats.org/officeDocument/2006/relationships/slide" Target="slides/slide121.xml"/><Relationship Id="rId139" Type="http://schemas.openxmlformats.org/officeDocument/2006/relationships/slide" Target="slides/slide122.xml"/><Relationship Id="rId140" Type="http://schemas.openxmlformats.org/officeDocument/2006/relationships/slide" Target="slides/slide123.xml"/><Relationship Id="rId141" Type="http://schemas.openxmlformats.org/officeDocument/2006/relationships/slide" Target="slides/slide124.xml"/><Relationship Id="rId142" Type="http://schemas.openxmlformats.org/officeDocument/2006/relationships/slide" Target="slides/slide125.xml"/><Relationship Id="rId143" Type="http://schemas.openxmlformats.org/officeDocument/2006/relationships/slide" Target="slides/slide126.xml"/><Relationship Id="rId144" Type="http://schemas.openxmlformats.org/officeDocument/2006/relationships/slide" Target="slides/slide127.xml"/><Relationship Id="rId145" Type="http://schemas.openxmlformats.org/officeDocument/2006/relationships/slide" Target="slides/slide128.xml"/><Relationship Id="rId146" Type="http://schemas.openxmlformats.org/officeDocument/2006/relationships/slide" Target="slides/slide129.xml"/><Relationship Id="rId147" Type="http://schemas.openxmlformats.org/officeDocument/2006/relationships/slide" Target="slides/slide130.xml"/><Relationship Id="rId148" Type="http://schemas.openxmlformats.org/officeDocument/2006/relationships/slide" Target="slides/slide131.xml"/><Relationship Id="rId149" Type="http://schemas.openxmlformats.org/officeDocument/2006/relationships/slide" Target="slides/slide132.xml"/><Relationship Id="rId150" Type="http://schemas.openxmlformats.org/officeDocument/2006/relationships/slide" Target="slides/slide133.xml"/><Relationship Id="rId151" Type="http://schemas.openxmlformats.org/officeDocument/2006/relationships/slide" Target="slides/slide134.xml"/><Relationship Id="rId152" Type="http://schemas.openxmlformats.org/officeDocument/2006/relationships/slide" Target="slides/slide135.xml"/><Relationship Id="rId153" Type="http://schemas.openxmlformats.org/officeDocument/2006/relationships/slide" Target="slides/slide136.xml"/><Relationship Id="rId154" Type="http://schemas.openxmlformats.org/officeDocument/2006/relationships/slide" Target="slides/slide137.xml"/><Relationship Id="rId1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D617-F26F-4B01-B435-A61966F49F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72A9-56E3-4DF8-BEFB-FC2A8AD25D49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AD4-E2C7-4A88-9BCC-967CD244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FF0-8182-4E21-84FA-426AAC35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70163-7E98-43A0-A06F-4340DD46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7F0C8-4B17-4E79-A526-FF13C50B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1170A-59A9-48A1-A6E3-6A033789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4E0AC-4697-4194-920F-A1B870D6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69885-2760-4686-B513-14D198F3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887A6-AAE7-4C16-ADB8-6C9C365D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7D8AD-B3FD-4D01-BF8B-E94F1212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754B6-3D51-4137-9F1E-BA05F9C2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DE490-101B-43D7-9C2C-B2BA985D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58AF7-02C8-4CDB-9709-5D21D9A0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1BF-4252-4E90-B7D5-7F25E771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E0F23-8F88-4E3A-A4C1-61C1704E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BE121-474A-4BAF-9E93-30F53E0E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E2B07-60FF-4626-A166-FF1C2E10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B0EAC-F275-4DC6-BF28-DB5D0190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25215-D013-4D78-B751-4FCEB8A9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D54E6-70D5-48DA-B810-2B94D919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C5082-546D-4A68-9F9C-3688C370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908C8-FF86-4726-A013-CA3C02E8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368F3-F3C9-4E06-BDC7-7BE18EAC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BF3F0-0A83-492E-8E46-F0F55416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8E6-6DA6-4A1F-A04D-A7879EE2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50C91-C572-42E5-97CA-890F76D6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65B70-303A-4723-84C2-CFAF0B6B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16D94-4A2A-436C-8349-A0D71FA4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AC471-9663-4D86-AA02-9F888503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F0591-5EAA-43D7-A3F8-2901FDA0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F27D3-2106-4E54-9AA1-9B0BAB9D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32687-B63B-4E5C-9C41-B1011AA1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EE4FE-AC4F-468A-9652-3E3D3668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6C44A-9EA6-47EC-BB0F-27F60C5E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33A0D-6410-4980-AD66-CDC5E1CD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DB8B-FF6D-44DE-8D17-C664626C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D6AC7-B435-4C56-B5FF-1E97D4F1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5F4D7-7964-4301-8089-A5DBFDF3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D4D33-E481-4D6F-B947-1CCE596E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A92C9-3A6C-482F-9B3D-A1794E3B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E5CCB-22D3-4394-85A4-43045744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2F072-5AAF-4ED7-8CA0-87A1F344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4BE87-E97E-4B1D-8EE3-F830F6DE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54519-C61E-4FE6-9DF1-F8FE2A3D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7FA85-77B3-4981-B946-F7890135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0E299-F5B4-4445-915D-9A23403D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8EFF-20E5-4DFE-B9C4-4A97D1EC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1F45D-4839-44F0-ADC3-3290A285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237C9-EB22-418A-B769-1541CD88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84E96-603B-4772-8D40-1BF8B0B2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2E4F0-A84F-4CFA-BC9A-D9AA1FD0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007D2-A7BE-4CC9-B082-592C6C0E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677D6-4D49-426E-BCEA-6D464686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BCABA-2671-4167-9AAD-84E5BB30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D3838-A900-426F-9F1E-8A19447E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3431E-1608-4926-B1D7-91CCA486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4A3F9-DCA9-4C89-8F7A-0885550C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031D-D4FE-4DB5-BBAE-48B5CFC9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53ABA-F95E-4B26-8656-B7191694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2D938-057A-47FD-AFBE-A1208AD8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38E28-7289-4120-BE48-1729DF78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A3568-C4CC-4213-9D51-8CCB1E6A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64679-480F-443F-A90A-E43F2A2D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AEC84-7D5F-44C6-A76E-89BCD830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F9F5D-2A34-4EAD-BE62-ACAF6D3D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2C7497-F2A3-44FF-B4A7-DD36B8DD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58102-7071-4265-93F4-82071788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5B48F-0C84-4C64-BB65-11CBBB3F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15A4-13AC-4298-9FFD-9F83DFCC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F491B-30DD-4E36-9BDA-D897B2B5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E32237-2B7B-46F7-B338-CDDA44DE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CAC47-07D1-41B9-A9CE-1B5B795C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2B4C5-8C3F-4B4A-8DC7-97D4B392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966F4-EC90-48A4-BD64-A00A1F1C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88F21-5987-462B-8828-057B8DD9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0D046-AD4F-44ED-B604-665D2D5E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E66B5-A6CD-4AD3-98F9-F324840B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3218D-B168-4871-ACA8-5889526F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5552-38E3-4845-82DF-D478E424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7B02-B6B8-4E01-ADDA-1D1A7708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B947-2BC2-4CFC-BE5F-A878513C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489-74EF-42F9-A635-6001B00E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AED5-6020-459A-86A6-8EB104D0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F7AB-BB1C-47A3-8B4D-E57EEA5C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24D3-4210-4F5B-9D9D-77862BB7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DFFF-F77C-4E4C-9908-6EB6A851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5D14-64AE-4736-B021-9FC777C8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2FD08-DA58-4A60-B4F2-63A6BF77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DF8FD-0B6D-4A66-9A6B-EE5186A3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ED6F8-8488-46AC-B8BF-3D9280B1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5DC83-3583-44AB-9442-C0AAF101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A9ED1-A822-4696-A991-B189250D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77A-1C40-4823-A101-C77375B4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12DF-FEA2-440E-8320-7515E03A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F06A2-C7FC-4F02-908F-7B1C7A97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6897-95BB-4CAC-A8E8-25A43842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34D26-864A-44F6-BD05-FF061585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2CF4A-6F1F-44D8-B3AD-A31B5543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1B3F1-A3F4-42AB-80BE-1CB852E6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1615-6645-47B6-8F0E-24EAF24B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16EFA-01CB-4D9F-8596-13922D86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9EF4C-0DF3-4E9C-A840-630F4BD8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4FCBE-81DF-4C7C-AF2A-8E2E76EB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478-A4FC-47A4-B71D-06AD6C65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6B631-BCC1-4B95-90DF-65A60A48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41FCD-0B82-47B1-8355-8F808251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9FDA5-FDAA-498B-9665-AC3289FC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8A66C-4FF4-45DB-812C-171241B8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70B34-589B-445A-B9F6-72475366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787CE-1A78-4C8F-9B62-0AC7F79C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FC9FE-3A3C-4B99-8BB4-B5DA2775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3AFD7-4639-4D48-87B5-16722F0E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5E835-4582-4AEA-9F53-31A9C978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E63D0-E46B-407B-B3C8-2309B41E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2C0-4F33-470A-8BFE-81C817E4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C0920-37D4-4036-8EF4-AA0AC741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91903-506E-4DDF-B5E9-4F1CB87F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D8549-BA21-4BFF-9BF6-C7E3921D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80A0C-636D-4751-B946-1AD5CDDF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E3549-0E80-4308-8EF2-7645262A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251E9-3436-4ABD-87F0-50546BA9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6E73C-3F7A-4E8F-87DF-68CD1D92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EC2EF-901C-498B-B330-5A4C1896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CDEDE-4ADC-4B10-838F-04558F42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87228-C9CC-4E77-9168-F0FAA208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417-9326-4C2E-9C6D-86C71FBD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3E510-0869-4CF8-91EA-83147B98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7D397-4E0D-45B7-828A-3036AF75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1D488-1DDD-4214-A171-F615489F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9FBBB-26A7-4EC7-9676-56948E73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9E3FC-94C9-4EED-85AC-53888F0A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EA15C-492B-4872-B81E-D839D27E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E2C53-E427-484F-A837-D6507BB4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4F605-981E-4046-BA1E-01649A9C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D7E2D-3E6A-4D1F-9D0D-BAAE70A7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6112B-D8A2-4CBA-8E28-43314440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763-3D70-4095-A70A-5B7ACFA4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5D843-BB5B-446E-9830-0B353213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F3669-1F2D-4AB3-A69F-267F560D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F689B-F611-4D75-BB06-1958D28A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6665D-C5BD-4266-A29E-A3A81AA0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EB941-7B0F-4EE9-AA40-EE90D6E4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5C220-92D7-428A-AD61-E9935167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83A4B-C84B-4DA4-9C48-CA8BCD33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666EA-2CEA-4316-9FD2-2AF5A2D5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23630-973A-45B9-BBB8-15214FD3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B1637-9498-4D4B-A1E5-8A03472D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23B-66C6-4FB1-BB13-AA5800DC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FABB6-A243-44FA-B0B3-90AE28AE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D1131-72AB-4826-B1C0-6B7CE4C7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7C908-FDFE-4583-8C34-297A1B92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CFD15-D76F-413F-8A91-0013D57F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CF1FA-CB62-48DE-9D27-4870FDC6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11741-788E-4EE5-B79B-0F1A4EAD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7D764-519E-4D6E-881C-12F2E542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07360-C0BB-4CF4-86A3-09775D2B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C8440-C34B-406C-B0F7-4F95E3F6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3B7C8-AF62-4743-9B76-54E50469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170-43AF-409F-B413-21D126CC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5A372-F550-41B1-B457-651164F0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D1467-81C2-493A-85C1-4FB42EE8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B3921-0D44-4583-9A8C-DEA5FDAA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20A66-3967-455B-B6BA-C910DE9E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F9A48-F7E0-44BF-9070-0AA5A671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85AA2-FD6E-4129-86F8-B90E7334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4A62A-3E45-45AB-BAB2-71303616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37EF4-8892-496C-97EE-B9EC1DBD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BD06E-817E-45CA-A792-8D15FB84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E12DE-D844-4841-8517-0112697A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4D5F-2273-4FBA-9D1A-CE094C01DE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4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E12A-7ED9-4189-B7F3-08C721DB6F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3551-C246-4D9E-B0BD-A925E6D696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670B-DBE0-44EB-A122-CC8DE52268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7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E8E4-5EFD-41C4-B151-5185BFA655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7A10-4D10-4B7C-B7A8-CF87783626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6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87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4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5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6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7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8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9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0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1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2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3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4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5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6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7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8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9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0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1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2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3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4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5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6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7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8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9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0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1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2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3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4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5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6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7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8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9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0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1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2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3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4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9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7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8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9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EB44-E2DB-42AC-9A43-2076379184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3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BC8D-1BC2-4CE6-B38F-388BDCE655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7600-1C11-4EE7-A65B-E0658CF895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2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D85F-3A58-428D-AAC2-B8B8152599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ECFE-A6CB-4940-BC14-F72F74136F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2D55-1C44-4AD0-BCC4-4A3942C1A8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5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BB42-0E9B-4CF7-82FE-4C7768C0F6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9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6"/>
          <p:cNvSpPr/>
          <p:nvPr/>
        </p:nvSpPr>
        <p:spPr>
          <a:xfrm>
            <a:off x="3591360" y="3929760"/>
            <a:ext cx="237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0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5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DATA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步数据处理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累加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+express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累加语句累加表达式结果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矩形 4"/>
          <p:cNvSpPr/>
          <p:nvPr/>
        </p:nvSpPr>
        <p:spPr>
          <a:xfrm>
            <a:off x="1235520" y="292896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96" name="Object 5"/>
          <p:cNvGraphicFramePr/>
          <p:nvPr/>
        </p:nvGraphicFramePr>
        <p:xfrm>
          <a:off x="1357200" y="3786120"/>
          <a:ext cx="4496040" cy="93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786120"/>
                    <a:ext cx="4496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GO TO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与语句标号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跳到本程序步带有标号的语句继续往下执行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指定的目标语句必须在同一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O 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abel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O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abel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规定语句标号来指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目标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785880" y="114264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8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举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@@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=x&lt;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o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 count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k: sumx+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7 2 12 24 2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u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仅对大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数计数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X+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每个观测都执行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5500800" y="1428840"/>
          <a:ext cx="2881080" cy="2682720"/>
        </p:xfrm>
        <a:graphic>
          <a:graphicData uri="http://schemas.openxmlformats.org/drawingml/2006/table">
            <a:tbl>
              <a:tblPr/>
              <a:tblGrid>
                <a:gridCol w="649080"/>
                <a:gridCol w="576360"/>
                <a:gridCol w="934920"/>
                <a:gridCol w="720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sum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4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7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@@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=x&lt;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k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; count+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k: sumx+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2 7 2 12 24 2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U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仅对大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数计数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UMX+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仅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之间的那些观测执行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5000760" y="2000160"/>
          <a:ext cx="3020760" cy="2683080"/>
        </p:xfrm>
        <a:graphic>
          <a:graphicData uri="http://schemas.openxmlformats.org/drawingml/2006/table">
            <a:tbl>
              <a:tblPr/>
              <a:tblGrid>
                <a:gridCol w="755640"/>
                <a:gridCol w="755640"/>
                <a:gridCol w="753840"/>
                <a:gridCol w="7556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sum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/>
          </p:nvPr>
        </p:nvSpPr>
        <p:spPr>
          <a:xfrm>
            <a:off x="857160" y="500040"/>
            <a:ext cx="77724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9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面两例中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-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替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@@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r x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 count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+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7 2 12 24 2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@@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r x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 count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umx+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7 2 12 24 2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标号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标号给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NK,  FI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的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HEADER=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OF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位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statement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STOP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处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。当遇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正被处理的那个观测没有添加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上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.8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停止处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n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OUTPUT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照常打印数据集列表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从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lstkinf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读取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条观测，因为当指针标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N_=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时，遇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正被处理的那条观测没有添加到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ABORT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止执行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，继续执行下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时，创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执行前已处理观测的数据集。但是，当新创建数据集和已存在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同名时，不能覆盖已存在的数据集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ABEND|RETURN&gt;|&lt;n&gt;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RETURN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选项说明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使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业或会话正常结束。产生的结果依赖于执行的方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批处理方式和非交互方式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停止处理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显示错误信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终程序执行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执行任何相继的语句或检查句法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一个条件码指示有错误地控制返回到主机系统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显示管理方式和交互行方式下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停止处理并返回到主机系统。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REMOV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用于删除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的观测，它可以执行物理也可以执行逻辑删除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必须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一起使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因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执行物理或逻辑删除，故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对所有数据操作都是有效的。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子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两者结合，只能执行物理删除，因此对于一些特定的操作，不能用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ata-set-name-1&gt;&lt;…data-set-name-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1357200" y="5286240"/>
          <a:ext cx="5715000" cy="731880"/>
        </p:xfrm>
        <a:graphic>
          <a:graphicData uri="http://schemas.openxmlformats.org/drawingml/2006/table">
            <a:tbl>
              <a:tblPr/>
              <a:tblGrid>
                <a:gridCol w="1785960"/>
                <a:gridCol w="3929040"/>
              </a:tblGrid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没有选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删除由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步命名数据集的所有观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-set-name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要删除当前观测的数据集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累加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应用准则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变量的观测被读入之前，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的计算结果为缺失值时，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代替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可以使用比较算符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+(-B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必须的，不能写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-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REPLAC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互相独立地进行操作，两语句可以应用于相同的观测上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替换主数据集相同物理位置上的观测，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输出观测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的结尾；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必须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一起使用，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无此要求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ata-set-nme-1&gt;&lt;...data-set-name-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1143000" y="4929120"/>
          <a:ext cx="6215040" cy="1292400"/>
        </p:xfrm>
        <a:graphic>
          <a:graphicData uri="http://schemas.openxmlformats.org/drawingml/2006/table">
            <a:tbl>
              <a:tblPr/>
              <a:tblGrid>
                <a:gridCol w="1357200"/>
                <a:gridCol w="4857840"/>
              </a:tblGrid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没有选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替换主数据集相同物理位置上的观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6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-set-name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要输出观测的数据集，并用它的观测替换主数据集相同物理位置上的观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MISSING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缺失值的符号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读入含有缺失值的数据源时，必须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否则可能产生读入错误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issing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charcter1…charctern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harct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代表缺失值的字符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8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缺失值字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eriod_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iss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I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d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Foodpr1 Foodpr2 Foodpr3 Coffeem1 Coffeem2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li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1 115 45 65 I 7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2 86 27 55 72 8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4 93 52 X 76 8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15 73 35 43 112 10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27 101 127 39 76 79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用字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缺失值。如果不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当读入数值变量的缺失值时（这里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就要产生错误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其它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57160" y="16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本节介绍语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ST, CALL, NULL, ERROR, RETURN,CONTINU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LIST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日志窗口上列出正被加工处理观测的输入数据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S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被执行时，在列出的第一行记录之前，显示一条指示列数的标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ST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CALL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AL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用于调用子程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all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outine (parameter-1&lt;…parameter-n&gt;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17" name="Object 2"/>
          <p:cNvGraphicFramePr/>
          <p:nvPr/>
        </p:nvGraphicFramePr>
        <p:xfrm>
          <a:off x="1219320" y="4572000"/>
          <a:ext cx="6095880" cy="77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0"/>
                    <a:ext cx="60958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包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的宏变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mput 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ext1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rch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march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赋给宏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text1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mput 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beta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将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00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赋给宏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beta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9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发布操作系统命令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stem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ir *.sa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发布和操作系统命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ir *.sas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NULL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空语句是一个分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;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用于固定位置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用一个分号（；）或四个分号（；；；；）来接受空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分号（；）表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后数据行的结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四个分号（；；；；）表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后数据行的结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虽然空语句没有执行动作，但它是可执行语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空语句表示数据行结束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y z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d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: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2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 1 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 5 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 3 9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在这个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步，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语句告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AS 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系统在这个作业流中，紧跟着的是数据行，当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遇到空语句（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;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）时，就知道数据行结束了。上例中的空语句也可以省略，因数据行后面第一个语句（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PRINT;</a:t>
            </a:r>
            <a:r>
              <a:rPr b="0" lang="en-US" sz="1600" spc="-1" strike="noStrike">
                <a:solidFill>
                  <a:srgbClr val="080808"/>
                </a:solidFill>
                <a:latin typeface="宋体"/>
                <a:ea typeface="宋体"/>
              </a:rPr>
              <a:t>）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中包含一个分号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3" name="矩形 4"/>
          <p:cNvSpPr/>
          <p:nvPr/>
        </p:nvSpPr>
        <p:spPr>
          <a:xfrm>
            <a:off x="4500720" y="2928960"/>
            <a:ext cx="2857320" cy="22147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输出窗口显示结果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Obs    y    z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1     2    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2     1    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3     5    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4     3    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ERROR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RRO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置自动变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rror_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为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并有选择地输出用户规定的一段信息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记录窗口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RRO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message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26" name="Object 2"/>
          <p:cNvGraphicFramePr/>
          <p:nvPr/>
        </p:nvGraphicFramePr>
        <p:xfrm>
          <a:off x="1295280" y="4648320"/>
          <a:ext cx="4953240" cy="115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648320"/>
                    <a:ext cx="4953240" cy="11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语句等于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和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(keep=name height s_h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_h+heigh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(keep=name height s_h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_h=sum(s_h, height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这里的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0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可以省略，加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0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等于没加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_h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面两段程序等价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RR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等价于下面一系列语句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赋值语句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LE 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一段信息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新的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重新设置前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设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857160" y="1428840"/>
            <a:ext cx="777240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9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举例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type $ age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ee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 age 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rr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type and age don't match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u teen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 teen 1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indy adult 28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5"/>
          <p:cNvSpPr/>
          <p:nvPr/>
        </p:nvSpPr>
        <p:spPr>
          <a:xfrm>
            <a:off x="1258920" y="1484280"/>
            <a:ext cx="360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窗口显示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31" name="矩形 3"/>
          <p:cNvSpPr/>
          <p:nvPr/>
        </p:nvSpPr>
        <p:spPr>
          <a:xfrm>
            <a:off x="1000080" y="1928880"/>
            <a:ext cx="7286760" cy="40003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1  data a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2  input name $ type $ age 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3  if type='teen' &amp; age &gt;19 then error "type and age don't match" +3 age=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4  cards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type and age don't match   age=2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RULE:      ----+----1----+----2----+----3----+----4----+----5----+----6----+----7----+----8----+----9----+----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5        Wu teen 2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name=Wu type=teen age=20 _ERROR_=1 _N_=1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数据集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WORK.A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有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3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个观测和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3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个变量。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NOTE: “DATA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语句”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实际时间   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0.01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CPU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时间   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0.01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8  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9  run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857160" y="10522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type $ age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ee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 age 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type and age don't macth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error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u teen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 teen 1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indy adult 28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面程序与前一页程序结果相同。第一段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第二段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另外，可以通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改变输出错误信息的地点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RETURN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告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当前位置上停止执行语句，返回到一个预定位置上继续执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RETUR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的作用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后面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立即返回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后面的语句，并继续往下执行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EADER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立即返回到开始新页之前执行的最后一个语句后面的语句，并继续执行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的其它地方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返回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开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9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返回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开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urve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y 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y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y+z; a=x*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3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 3 4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 6 7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 8 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=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被执行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添加这个观测到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URVE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并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开头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后面的二个赋值语句没有被执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38" name=""/>
          <p:cNvGraphicFramePr/>
          <p:nvPr/>
        </p:nvGraphicFramePr>
        <p:xfrm>
          <a:off x="1428840" y="3143160"/>
          <a:ext cx="6119640" cy="1687680"/>
        </p:xfrm>
        <a:graphic>
          <a:graphicData uri="http://schemas.openxmlformats.org/drawingml/2006/table">
            <a:tbl>
              <a:tblPr/>
              <a:tblGrid>
                <a:gridCol w="1224000"/>
                <a:gridCol w="1225440"/>
                <a:gridCol w="1220760"/>
                <a:gridCol w="1225440"/>
                <a:gridCol w="1224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z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2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16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PMingLiU"/>
                        </a:rPr>
                        <a:t>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/>
          </p:nvPr>
        </p:nvSpPr>
        <p:spPr>
          <a:xfrm>
            <a:off x="999720" y="785880"/>
            <a:ext cx="47862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9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让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开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por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b c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x=a*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x&gt;b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12 3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 30 4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 22 7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 8 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0" name="文本占位符 2"/>
          <p:cNvSpPr/>
          <p:nvPr/>
        </p:nvSpPr>
        <p:spPr>
          <a:xfrm>
            <a:off x="2428920" y="4286160"/>
            <a:ext cx="55008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中，在循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组中应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步从每个输入行产生多个观测形成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PO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。 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组中，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X&lt;=B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输出观测到数据集，并继续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组。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X&gt;B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时，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步开头处理新的观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1" name=""/>
          <p:cNvGraphicFramePr/>
          <p:nvPr/>
        </p:nvGraphicFramePr>
        <p:xfrm>
          <a:off x="2286000" y="1143000"/>
          <a:ext cx="3798720" cy="4743360"/>
        </p:xfrm>
        <a:graphic>
          <a:graphicData uri="http://schemas.openxmlformats.org/drawingml/2006/table">
            <a:tbl>
              <a:tblPr/>
              <a:tblGrid>
                <a:gridCol w="633240"/>
                <a:gridCol w="632160"/>
                <a:gridCol w="633240"/>
                <a:gridCol w="633600"/>
                <a:gridCol w="633240"/>
                <a:gridCol w="633240"/>
              </a:tblGrid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Ob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x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x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CONTINUE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停止当前的这次循环过程，继续进行下一次循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ONTINUE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2" name="TextBox 4"/>
          <p:cNvSpPr/>
          <p:nvPr/>
        </p:nvSpPr>
        <p:spPr>
          <a:xfrm>
            <a:off x="1857240" y="2000160"/>
            <a:ext cx="507204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Obs    Name       Height      s_h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1         Alice       56.5       56.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2      Barbara     65.3      121.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3        Carol       62.8      184.6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4        Jane        59.8      244.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5        Janet       62.5      306.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6        Joyce      51.3      358.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7        Judy        64.3      422.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8        Louise     56.3      478.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PMingLiU"/>
              </a:rPr>
              <a:t>9        Mary        66.5      545.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……                      …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3" name="TextBox 5"/>
          <p:cNvSpPr/>
          <p:nvPr/>
        </p:nvSpPr>
        <p:spPr>
          <a:xfrm>
            <a:off x="1071720" y="8571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结果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785520" y="1285560"/>
            <a:ext cx="77151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8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停止当前的循环过程，继续进行下一次循环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idno status $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us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P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ntin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返回到下次循环的开头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enefits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713880" y="356760"/>
            <a:ext cx="20005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接上页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nes 9011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omas 876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ichards 1002 F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ye/Dent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elly 85111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mith 433 F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MO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elly 85111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mith 433 F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MO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nes 9011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omas 876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ichards 1002 F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ye/Dent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48" name=""/>
          <p:cNvGraphicFramePr/>
          <p:nvPr/>
        </p:nvGraphicFramePr>
        <p:xfrm>
          <a:off x="2786040" y="3571920"/>
          <a:ext cx="5643720" cy="2038320"/>
        </p:xfrm>
        <a:graphic>
          <a:graphicData uri="http://schemas.openxmlformats.org/drawingml/2006/table">
            <a:tbl>
              <a:tblPr/>
              <a:tblGrid>
                <a:gridCol w="941400"/>
                <a:gridCol w="487440"/>
                <a:gridCol w="1143000"/>
                <a:gridCol w="714240"/>
                <a:gridCol w="928800"/>
                <a:gridCol w="1428840"/>
              </a:tblGrid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Ob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i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idno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enefit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ichard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ye/Denta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3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MO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3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MO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ichard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ye/Denta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1049" name="Rectangle 1"/>
          <p:cNvSpPr/>
          <p:nvPr/>
        </p:nvSpPr>
        <p:spPr>
          <a:xfrm>
            <a:off x="4514400" y="-321120"/>
            <a:ext cx="1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LEAVE 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当前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循环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的处理过程，并继续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后面的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LEA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9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给定条件下停止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的处理过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ee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idno start status $ dept $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onu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ear=star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onus ge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a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onus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 Box 2"/>
          <p:cNvSpPr/>
          <p:nvPr/>
        </p:nvSpPr>
        <p:spPr>
          <a:xfrm>
            <a:off x="1071720" y="1214280"/>
            <a:ext cx="716256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接上页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Jones 9011 1990 PT PUB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as 876 1976 PT H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es 7899 1991 ft tech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rell 1250 1975 ft h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hards 1002 1990 ft dev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lly 85 1981 pt pub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ne 091 1990 pt mai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中，首先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检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，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超过允许的最大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V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来停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的处理过程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4" name=""/>
          <p:cNvGraphicFramePr/>
          <p:nvPr/>
        </p:nvGraphicFramePr>
        <p:xfrm>
          <a:off x="714240" y="1784520"/>
          <a:ext cx="7358040" cy="3001680"/>
        </p:xfrm>
        <a:graphic>
          <a:graphicData uri="http://schemas.openxmlformats.org/drawingml/2006/table">
            <a:tbl>
              <a:tblPr/>
              <a:tblGrid>
                <a:gridCol w="919440"/>
                <a:gridCol w="1009440"/>
                <a:gridCol w="830160"/>
                <a:gridCol w="920880"/>
                <a:gridCol w="919080"/>
                <a:gridCol w="919440"/>
                <a:gridCol w="920520"/>
                <a:gridCol w="919080"/>
              </a:tblGrid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Ob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idno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tar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e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onu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Jon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01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UB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homa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7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7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8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arn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89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ech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arrel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8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0372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ichard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ev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Kell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ub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ton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ai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1055" name="Rectangle 1"/>
          <p:cNvSpPr/>
          <p:nvPr/>
        </p:nvSpPr>
        <p:spPr>
          <a:xfrm>
            <a:off x="4514400" y="-321120"/>
            <a:ext cx="1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LEAV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与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CONTINU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的差别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714240" y="185724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得当前的循环过程结束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ONTINU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当前的这次循环过程，继续进行下一次循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一起使用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ONTINU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只能用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中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4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X+X*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*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果加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(keep=date uss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ret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=(stkcd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000002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s+ Dret*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USS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为变量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ret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平方和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非缺失值的观测个数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(keep=nmis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ndcl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mis+sector^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MI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CT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非缺失值的观测个数，即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CT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好类股票的个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P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日滑动平均线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+clp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a (firstob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name=(sum=sum_1)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5=(sum_1-sum)/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计算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P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日滑动平均值，体现了用简单方法处理复杂的问题的技巧。也可以用循环语句写相应程序，但程序的效率会很低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56760" y="856800"/>
            <a:ext cx="9001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观测的选择与输出（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IF WHERE DELETE OUTPUT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 </a:t>
            </a: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语句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1000080" y="2000160"/>
            <a:ext cx="723888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I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两种类型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条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，含有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E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子句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子句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子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，没有子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IF-THE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IF-THEN/ELSE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表达式为真时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THE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后面的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,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表达式为假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ELS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后面的语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express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expression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&lt;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ELS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expression;&g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子集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IF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714240" y="1499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任意有效的表达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如果表达式真的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对正被创建的观测继续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语句。如果表达式是假的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立即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开始对其他观测执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5"/>
          <p:cNvSpPr/>
          <p:nvPr/>
        </p:nvSpPr>
        <p:spPr>
          <a:xfrm>
            <a:off x="1214280" y="150012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.8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应用举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_n_&l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中，选择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条观测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3" name="矩形 3"/>
          <p:cNvSpPr/>
          <p:nvPr/>
        </p:nvSpPr>
        <p:spPr>
          <a:xfrm>
            <a:off x="1143000" y="4286160"/>
            <a:ext cx="65721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从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.IDX000001.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读取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3891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WORK.A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有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99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和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3043440" cy="42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WHERE</a:t>
            </a: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42960" y="1714320"/>
            <a:ext cx="78580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读入数据集之前选择观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是在执行数据集连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并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更新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修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D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之前进行的操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时，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只从输入数据集中读入满足条件的观测，所以这样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更有效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不是可执行语句，它起不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-TH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作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85880" y="1571760"/>
            <a:ext cx="75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基本语句（赋值、累加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观测的选择与输出（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IF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属性控制（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LENGTH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及循环控制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控制语句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数组（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ARRAY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GOTO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语句标号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LINK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ABORT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与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MISSING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其它语句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(LIST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CALL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NULL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ERROR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RETURN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CONTINU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65721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</a:t>
            </a:r>
            <a:endParaRPr b="1" i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071360" y="1285920"/>
            <a:ext cx="5143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 where-expression;</a:t>
            </a:r>
            <a:br>
              <a:rPr sz="2000"/>
            </a:b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仅用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表达式的特殊算符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18" name="Object 6"/>
          <p:cNvGraphicFramePr/>
          <p:nvPr/>
        </p:nvGraphicFramePr>
        <p:xfrm>
          <a:off x="1214280" y="2714760"/>
          <a:ext cx="6740640" cy="233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714760"/>
                    <a:ext cx="674064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3"/>
          <p:cNvSpPr/>
          <p:nvPr/>
        </p:nvSpPr>
        <p:spPr>
          <a:xfrm>
            <a:off x="928800" y="1285920"/>
            <a:ext cx="7315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.9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BETWEEN-AN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算符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IS MISSING|IS NUL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算符例句。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stocd between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600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6008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xes between salary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0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salary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0.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xes not between salary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0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salary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0.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dnum is missing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计算缺失值数目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 is 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符的两个特殊模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百分号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可以替代任意多个字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下划线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正好有一个字符与之匹配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进行比较时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符识别大写和小写之间的字符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3"/>
          <p:cNvSpPr/>
          <p:nvPr/>
        </p:nvSpPr>
        <p:spPr>
          <a:xfrm>
            <a:off x="1143000" y="142884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设有名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n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nth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an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符来选择第一个字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名字时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符的不同选择模式与结果如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a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选择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Dyan   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_an_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没有名子被选上 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an__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 Diana, Diane, Dianna, Dyan 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an%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上述列表的所有名字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Not like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an%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没有名子被选上 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857160" y="99972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情况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n_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错误语句，必须用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if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提示如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n_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/*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正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不能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控制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自动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n_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3" name="圆角矩形 3"/>
          <p:cNvSpPr/>
          <p:nvPr/>
        </p:nvSpPr>
        <p:spPr>
          <a:xfrm>
            <a:off x="1357200" y="3143160"/>
            <a:ext cx="62866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4" name="矩形 4"/>
          <p:cNvSpPr/>
          <p:nvPr/>
        </p:nvSpPr>
        <p:spPr>
          <a:xfrm>
            <a:off x="1428840" y="3214800"/>
            <a:ext cx="6286320" cy="42840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RROR: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变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n_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不在文件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SDAT.IDX000001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DELETE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0009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处理当前观测，该观测值不被读入到创建的数据集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开头处理其他观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删除部分观测值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删除数据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ktype=’B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观测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中信息如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9" name="矩形 3"/>
          <p:cNvSpPr/>
          <p:nvPr/>
        </p:nvSpPr>
        <p:spPr>
          <a:xfrm>
            <a:off x="1214280" y="4643280"/>
            <a:ext cx="6572520" cy="1000440"/>
          </a:xfrm>
          <a:prstGeom prst="rect">
            <a:avLst/>
          </a:prstGeom>
          <a:solidFill>
            <a:srgbClr val="f2f2f2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从数据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RESDAT.LSTKINFO.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读取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30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观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数据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WORK.STKA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有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20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观测和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19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空数据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删除数据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所有观测值，即清空数据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设计复杂程序时，常会用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这种用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志中信息如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2" name="矩形 3"/>
          <p:cNvSpPr/>
          <p:nvPr/>
        </p:nvSpPr>
        <p:spPr>
          <a:xfrm>
            <a:off x="1285920" y="4929120"/>
            <a:ext cx="6429240" cy="1000080"/>
          </a:xfrm>
          <a:prstGeom prst="rect">
            <a:avLst/>
          </a:prstGeom>
          <a:solidFill>
            <a:srgbClr val="f2f2f2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从数据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RESDAT.LSTKINFO.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读取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30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观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数据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WORK.A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有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0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观测和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19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变量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OUTPUT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输出当前的观测到被创建的数据集中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a-set-name-1&gt; &lt;…data-set-name-n&gt;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35" name="Object 4"/>
          <p:cNvGraphicFramePr/>
          <p:nvPr/>
        </p:nvGraphicFramePr>
        <p:xfrm>
          <a:off x="928800" y="3071880"/>
          <a:ext cx="6143400" cy="8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3071880"/>
                    <a:ext cx="6143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TextBox 4"/>
          <p:cNvSpPr/>
          <p:nvPr/>
        </p:nvSpPr>
        <p:spPr>
          <a:xfrm>
            <a:off x="1000080" y="4214880"/>
            <a:ext cx="635796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UT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的作用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一个输入数据行创建多个观测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一个输入数据文件创建多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据集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几个输入数据行合并为一个观测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56800" y="1214280"/>
            <a:ext cx="47149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.19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由一个输入数据行创建多个观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ID $ score1- score3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score1- score3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core=score1;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core=score2;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core=score3;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2126  99  96  94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2128  89  90  88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每一行记录生成三个观测。每个新观测将包括代号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和一次测验值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CORE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5786280" y="2571840"/>
          <a:ext cx="2376720" cy="2232000"/>
        </p:xfrm>
        <a:graphic>
          <a:graphicData uri="http://schemas.openxmlformats.org/drawingml/2006/table">
            <a:tbl>
              <a:tblPr/>
              <a:tblGrid>
                <a:gridCol w="2376720"/>
              </a:tblGrid>
              <a:tr h="2232000">
                <a:tc>
                  <a:txBody>
                    <a:bodyPr lIns="180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bs     ID      scor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     02126      99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     02126      9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     02126      9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     02128      89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     02128      9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6     02128      88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.20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创建多个数据集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stk Bst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st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st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创建两个数据集。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stk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包含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ktype=’A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所有观测；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stk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包含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ktype=’B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所有观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492912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基本语句（赋值 累加）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785520" y="1285920"/>
            <a:ext cx="175716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赋值语句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857160" y="2214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=expression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将表达式结果赋予一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78" name="Object 2"/>
          <p:cNvGraphicFramePr/>
          <p:nvPr/>
        </p:nvGraphicFramePr>
        <p:xfrm>
          <a:off x="1447920" y="4116240"/>
          <a:ext cx="6248160" cy="11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116240"/>
                    <a:ext cx="62481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785880" y="1213920"/>
            <a:ext cx="7929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2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stkinf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两类不同股票的数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lstkinfo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stkinfo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firs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um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um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 num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ast.stktyp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由几个记录组合信息，分别计算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stkinf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两类不同股票的数目。这个例子很有用，从这里也认识了自动变量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rst. stktyp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st. stktyp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使用方法。数据处理时用这个语句会很省力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5429160" y="4071960"/>
          <a:ext cx="2500560" cy="785880"/>
        </p:xfrm>
        <a:graphic>
          <a:graphicData uri="http://schemas.openxmlformats.org/drawingml/2006/table">
            <a:tbl>
              <a:tblPr/>
              <a:tblGrid>
                <a:gridCol w="2500560"/>
              </a:tblGrid>
              <a:tr h="1460520">
                <a:tc>
                  <a:txBody>
                    <a:bodyPr lIns="68760" rIns="68760" tIns="0" bIns="0" anchor="t">
                      <a:noAutofit/>
                    </a:bodyPr>
                    <a:p>
                      <a:pPr marL="28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Obs    Stktype    N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28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1        A        2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284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2        B        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6" name="TextBox 5"/>
          <p:cNvSpPr/>
          <p:nvPr/>
        </p:nvSpPr>
        <p:spPr>
          <a:xfrm>
            <a:off x="5618520" y="3571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统计结果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变量属性控制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57160" y="185724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把输入格式与变量联系起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s &lt;informat&gt;&lt;DEFAULT=default-informat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9" name="矩形 3"/>
          <p:cNvSpPr/>
          <p:nvPr/>
        </p:nvSpPr>
        <p:spPr>
          <a:xfrm>
            <a:off x="952920" y="1285920"/>
            <a:ext cx="26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FORMAT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</a:rPr>
              <a:t>语句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0" name="Object 2"/>
          <p:cNvGraphicFramePr/>
          <p:nvPr/>
        </p:nvGraphicFramePr>
        <p:xfrm>
          <a:off x="1500120" y="3643200"/>
          <a:ext cx="5191200" cy="97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643200"/>
                    <a:ext cx="51912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2" name="矩形 5"/>
          <p:cNvSpPr/>
          <p:nvPr/>
        </p:nvSpPr>
        <p:spPr>
          <a:xfrm>
            <a:off x="928800" y="4857840"/>
            <a:ext cx="7215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选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可以出现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中的任何位置，仅适用于当前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步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没有规定临时的缺省输入格式时，使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系统规定的缺省输入格式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714240" y="928440"/>
            <a:ext cx="77724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临时的缺省输入格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fault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fault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char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1-x5 name $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1-x5 nam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1 22 33 44 100 johnn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提交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输出显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列出的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-X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规定输入格式，那么使用这里规定的缺省输入格式，即用格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-X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格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r4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4" name="矩形 3"/>
          <p:cNvSpPr/>
          <p:nvPr/>
        </p:nvSpPr>
        <p:spPr>
          <a:xfrm>
            <a:off x="857160" y="4143240"/>
            <a:ext cx="4071960" cy="35748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1  2.2  3.3  4.4  10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868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消已存在的输入格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删除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输入格式。这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次序是重要的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放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前面就不能删除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输入格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2050" descr=""/>
          <p:cNvPicPr/>
          <p:nvPr/>
        </p:nvPicPr>
        <p:blipFill>
          <a:blip r:embed="rId1"/>
          <a:srcRect l="53468" t="13673" r="391" b="11134"/>
          <a:stretch/>
        </p:blipFill>
        <p:spPr>
          <a:xfrm>
            <a:off x="2786040" y="785880"/>
            <a:ext cx="4441680" cy="54291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2"/>
          <p:cNvSpPr/>
          <p:nvPr/>
        </p:nvSpPr>
        <p:spPr>
          <a:xfrm>
            <a:off x="500040" y="9288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右图显示已删除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dat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格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图片 1" descr=""/>
          <p:cNvPicPr/>
          <p:nvPr/>
        </p:nvPicPr>
        <p:blipFill>
          <a:blip r:embed="rId1"/>
          <a:srcRect l="24383" t="13721" r="11686" b="20467"/>
          <a:stretch/>
        </p:blipFill>
        <p:spPr>
          <a:xfrm>
            <a:off x="1857240" y="2428920"/>
            <a:ext cx="6000840" cy="4143240"/>
          </a:xfrm>
          <a:prstGeom prst="rect">
            <a:avLst/>
          </a:prstGeom>
          <a:ln w="0">
            <a:noFill/>
          </a:ln>
        </p:spPr>
      </p:pic>
      <p:sp>
        <p:nvSpPr>
          <p:cNvPr id="859" name="TextBox 2"/>
          <p:cNvSpPr/>
          <p:nvPr/>
        </p:nvSpPr>
        <p:spPr>
          <a:xfrm>
            <a:off x="785880" y="857160"/>
            <a:ext cx="70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未去除格式举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/*informa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语句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语句前，未能去除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格式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85520" y="785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FORMAT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71720" y="157176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s &lt;format&gt;&lt;DEFAULT=default-format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出现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的任何位置，仅适用于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规定临时的缺省输出格式时，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规定的缺省输入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62" name="Object 4"/>
          <p:cNvGraphicFramePr/>
          <p:nvPr/>
        </p:nvGraphicFramePr>
        <p:xfrm>
          <a:off x="1763640" y="3141720"/>
          <a:ext cx="6193080" cy="116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141720"/>
                    <a:ext cx="61930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1000080" y="128556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临时的缺省输出格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w $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.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fault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fault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$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good morning.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good morning.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z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/x/y/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提交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输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od mor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2.1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2.1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928800" y="107172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26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自定义的格式输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forma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fmt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male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fema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l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sex @@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sexfm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ane 2 bill 1 cindy 2 helen 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定义输出格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FM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中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把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FM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同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联系起来。当以后用一些过程输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值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A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EMA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替代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被输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6" name="矩形 7"/>
          <p:cNvSpPr/>
          <p:nvPr/>
        </p:nvSpPr>
        <p:spPr>
          <a:xfrm>
            <a:off x="5786280" y="2643120"/>
            <a:ext cx="2500560" cy="15001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bs    name      sex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jane       fema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bill         ma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indy     fema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helen    fema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57160" y="499680"/>
            <a:ext cx="74678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ENGTH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于规定存贮变量值的字节长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variable-specification-1 &lt;… variable-specification-n&gt;&g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EFAULT=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-specifica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变量说明项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FAULT=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新创建数值变量值的缺省字节长度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值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785520" y="857160"/>
            <a:ext cx="7467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赋值语句举例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sdat.class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=_N_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=_error_;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_s=first.sex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st_s=last.sex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a+b;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新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它是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=sum(of x1-x5);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数组元素，它的值是一函数值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a+b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一个已经存在的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它的值为原来值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之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6286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variable-specification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的格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量说明项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-1&lt;…variable-n&gt;&lt;$&gt;length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关选项说明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71" name="Object 2"/>
          <p:cNvGraphicFramePr/>
          <p:nvPr/>
        </p:nvGraphicFramePr>
        <p:xfrm>
          <a:off x="1600200" y="3505320"/>
          <a:ext cx="6629400" cy="170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505320"/>
                    <a:ext cx="662940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数值变量长度控制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中数值变量的存贮长度一般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然而很多值可以用小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的长度准确地表示。当数据集很大时，使用小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长度来存贮不需要很精确的值时，可以有效地减少外部存贮的要求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截短数据时，可能会引起误差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1285560" y="928440"/>
            <a:ext cx="7086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8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截短数据引起的误差问题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on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b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4   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2  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1   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3   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3  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3   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2.0   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two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on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1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数据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W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没有观测。因为，第二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步的子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的常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.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表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而数据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N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变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只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因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会等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.3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字符变量长度控制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071360" y="199980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不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TRI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变量的长度，字符变量的缺省长由它的第一个观测值决定，这样，后面更长的观测值会被截短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可隐含地说明字符变量的长度。所以，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定义的字符长度不同于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隐含表示的长度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应放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前面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1356840" y="13568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必须放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前面才能起作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 name $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隐含指定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度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（放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前面）给出在创建的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度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替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/>
          </p:nvPr>
        </p:nvSpPr>
        <p:spPr>
          <a:xfrm>
            <a:off x="928440" y="1499760"/>
            <a:ext cx="7127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符变量的长由它的第一个观测值决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='no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='yes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字符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次在赋值语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'NO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出现时，它的长度被确定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于是，当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ES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赋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仅前两个字符被存储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丢失了。为解决该问题，或者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度，或者重新排列语句顺序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5003640" y="3357720"/>
          <a:ext cx="2519640" cy="1439640"/>
        </p:xfrm>
        <a:graphic>
          <a:graphicData uri="http://schemas.openxmlformats.org/drawingml/2006/table">
            <a:tbl>
              <a:tblPr/>
              <a:tblGrid>
                <a:gridCol w="839880"/>
                <a:gridCol w="839880"/>
                <a:gridCol w="839880"/>
              </a:tblGrid>
              <a:tr h="57600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e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56800" y="1143000"/>
            <a:ext cx="5929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ENGTH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位置的重要性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214280" y="21427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字符变量的长度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必须放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前面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数值变量的长度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可以放在任何地方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/>
          </p:nvPr>
        </p:nvSpPr>
        <p:spPr>
          <a:xfrm>
            <a:off x="1364760" y="1066320"/>
            <a:ext cx="6735960" cy="34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之后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对字符变量不起作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深发展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大秦铁路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stknm $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ength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放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之后不起作用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stknm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长度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6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所以显示的值分别为’深发展’和’大秦铁’ 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4" name="Text Box 0"/>
          <p:cNvSpPr/>
          <p:nvPr/>
        </p:nvSpPr>
        <p:spPr>
          <a:xfrm>
            <a:off x="2340000" y="5157720"/>
            <a:ext cx="22320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Obs    lstknm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深发展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大秦铁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4"/>
          <p:cNvSpPr/>
          <p:nvPr/>
        </p:nvSpPr>
        <p:spPr>
          <a:xfrm>
            <a:off x="1547640" y="1484280"/>
            <a:ext cx="604872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上段程序的正确写法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tkn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深发展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tkn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大秦铁路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stknm $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length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语句放在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t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语句之前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显示正确结果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6" name="Text Box 5"/>
          <p:cNvSpPr/>
          <p:nvPr/>
        </p:nvSpPr>
        <p:spPr>
          <a:xfrm>
            <a:off x="2643120" y="5000760"/>
            <a:ext cx="22320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Obs    lstknm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深发展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大秦铁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路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66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ABE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用于为变量加标签。变量标签是对变量的进一步说明，看到标签就能理解变量的意思。这个标签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同变量名一起被存贮，而且可通过许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被打印输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-1='label-1' …&lt;variable-1='label-n'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加标签的变量名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符的标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标签语句可以出现若干个变量名和标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1428480" y="1356840"/>
            <a:ext cx="30430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结果显示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1500120" y="2000160"/>
            <a:ext cx="680868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   Name         Sex    Age    Height    Weight     n    error    first_s    last_s                        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ce          F      13       56.5       84.0     1      0         1          0                         2    Barbara      F      13       65.3       98.0     2      0         0          0                         3    Carol         F      14       62.8      102.5     3      0         0          0                         4    Jane           F      12       59.8       84.5     4      0         0          0                         5    Janet         F      15       62.5      112.5     5      0         0          0                         6    Joyce        F      11       51.3       50.5      6      0         0          0                         7    Judy          F      14       64.3       90.0      7      0         0          0                         8    Louise       F      12       56.3       77.0     8      0         0          0                         9    Mary         F      15       66.5      112.0    9      0         0          1                        10    Alfred     M      14      69.0      112.5    10    0         1          0                       11    Henry      M      14     63.5      102.5    11    0         0          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…                         …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1523520" y="106668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32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两种写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第一种写法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cod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交易所用代码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tock code by exchange"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stocd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最新股票代码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tock code"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rsd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观测日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hares outstanding observation date"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rou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观测到的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股股本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b shares outstanding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第二种写法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od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交易所用代码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tock code by exchange“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 hstocd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最新股票代码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tock code“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 shrsd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观测日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hares outstanding observation date“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 shrou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观测到的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股股本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b shares outstanding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33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删除变量的标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ode=''  hstocd=''  shrsdt=''  shrout='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Box 1"/>
          <p:cNvSpPr/>
          <p:nvPr/>
        </p:nvSpPr>
        <p:spPr>
          <a:xfrm>
            <a:off x="857160" y="85716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变量类型转换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91" name="TextBox 2"/>
          <p:cNvSpPr/>
          <p:nvPr/>
        </p:nvSpPr>
        <p:spPr>
          <a:xfrm>
            <a:off x="1357200" y="2000160"/>
            <a:ext cx="5857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实现数值与字符之间相互转换的方式有：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系统自动完成数值与字符之间的转换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函数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INPU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将字符转换为数值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函数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U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将数值转换为字符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读者自学书中例子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黑体"/>
              </a:rPr>
              <a:t>DO</a:t>
            </a:r>
            <a:r>
              <a:rPr b="1" lang="zh-CN" sz="3000" spc="-1" strike="noStrike">
                <a:solidFill>
                  <a:srgbClr val="003399"/>
                </a:solidFill>
                <a:latin typeface="Times New Roman"/>
                <a:ea typeface="黑体"/>
              </a:rPr>
              <a:t>语句</a:t>
            </a:r>
            <a:r>
              <a:rPr b="1" lang="zh-CN" sz="3000" spc="-1" strike="noStrike">
                <a:solidFill>
                  <a:srgbClr val="003399"/>
                </a:solidFill>
                <a:latin typeface="Arial Narrow"/>
                <a:ea typeface="黑体"/>
              </a:rPr>
              <a:t>及循环控制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必须由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来结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之间的这些语句称为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可以嵌套任意次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类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简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循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UNTIL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简单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57160" y="114264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应用举例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/TH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&gt;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_cm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0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height/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= sex= age= h_cm=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中信息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000080" y="3929040"/>
            <a:ext cx="7215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例与下面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效果一样，但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效率较低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_cm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0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height/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= sex= age= h_cm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1143000" y="1357200"/>
          <a:ext cx="6715080" cy="2011320"/>
        </p:xfrm>
        <a:graphic>
          <a:graphicData uri="http://schemas.openxmlformats.org/drawingml/2006/table">
            <a:tbl>
              <a:tblPr/>
              <a:tblGrid>
                <a:gridCol w="6715080"/>
              </a:tblGrid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Name=Janet Sex=F Age=15 h_cm=158.8541666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Name=Mary Sex=F Age=15 h_cm=169.0208333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Name=Philip Sex=M Age=16 h_cm=18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Name=Ronald Sex=M Age=15 h_cm=170.2916666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Name=William Sex=M Age=15 h_cm=169.0208333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NOTE: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从数据集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RESDAT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.CLASS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读取了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19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个观测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NOTE: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数据集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WORK.A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有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19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个观测和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6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PMingLiU"/>
                        </a:rPr>
                        <a:t>个变量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92d050"/>
                      </a:solidFill>
                    </a:lnL>
                    <a:lnR w="13680">
                      <a:solidFill>
                        <a:srgbClr val="92d050"/>
                      </a:solidFill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循环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57160" y="149976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中的语句需要被重复执行时要用到循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根据下标变量重复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N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之间的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dex_variable=specification-1&lt;,…specification-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dex-variab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项定义下标变量，用于控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的执行方式和重复次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标变量包含在创建的数据集中，可以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删除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SPECIFICATION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选项格式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&lt;TO stop&gt; &lt;BY increment&gt; &lt;WHILE/UNTIL(expression)&gt;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pecifica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03" name="Object 4"/>
          <p:cNvGraphicFramePr/>
          <p:nvPr/>
        </p:nvGraphicFramePr>
        <p:xfrm>
          <a:off x="1143000" y="2928960"/>
          <a:ext cx="6858000" cy="20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928960"/>
                    <a:ext cx="68580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1071360" y="1428480"/>
            <a:ext cx="57150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2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省的步长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y+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exi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43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起始值例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n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–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k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k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k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.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'saturday', 'sunday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'01jan99'd, '25feb99'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'01jan99'd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'01jan2000'd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例句子中，起始值必须全部是数值或全部是字符常数，也可以是变量。字符常数必须用引号括起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表达式选项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x&lt;y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(x/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&gt;y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–1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month='jan'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结果变量类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785880" y="178560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决定结果变量类型的准则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表达式中的变量全为数值型，结果变量为数值型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表达式中的变量全为字符型，结果变量为字符型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表达式中的变量既有数值又有字符型，结果变量为数值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714240" y="114300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6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生指定观测值个数的数据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中，产生一个含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观测值的数据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然数求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t+n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自然数之和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4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然数平方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t+n**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求</a:t>
            </a:r>
            <a:r>
              <a:rPr b="0" lang="es-E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s-E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0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自然数的平方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 OVER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357200" y="1928880"/>
            <a:ext cx="7072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对隐含下标数组元素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组里的语句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rray-nam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-nam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规定一个隐含下标数组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57160" y="128556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0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隐含数组的所有元素乘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01-sc0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 sc01-sc0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等价于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 _i_=1 to 5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=s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 .88  .99  .77  .5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18" name=""/>
          <p:cNvGraphicFramePr/>
          <p:nvPr/>
        </p:nvGraphicFramePr>
        <p:xfrm>
          <a:off x="1071720" y="5429160"/>
          <a:ext cx="6911640" cy="828720"/>
        </p:xfrm>
        <a:graphic>
          <a:graphicData uri="http://schemas.openxmlformats.org/drawingml/2006/table">
            <a:tbl>
              <a:tblPr/>
              <a:tblGrid>
                <a:gridCol w="1150920"/>
                <a:gridCol w="1152360"/>
                <a:gridCol w="1154160"/>
                <a:gridCol w="1150920"/>
                <a:gridCol w="1152360"/>
                <a:gridCol w="1150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4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9" name="TextBox 4"/>
          <p:cNvSpPr/>
          <p:nvPr/>
        </p:nvSpPr>
        <p:spPr>
          <a:xfrm>
            <a:off x="928800" y="500076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tes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 WHIL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785880" y="135720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使得当条件成立时重复地执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中的语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expression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任一有效表达式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857160" y="3143160"/>
            <a:ext cx="79106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1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值小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时重复执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组中的语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n lt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n=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 UNTIL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条件地执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中的语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UNTI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expression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任一有效表达式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928800" y="3286080"/>
            <a:ext cx="642924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重复循环直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&gt;=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时停止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unt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n&gt;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n=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黑体"/>
                <a:ea typeface="黑体"/>
              </a:rPr>
              <a:t>选择控制语句</a:t>
            </a:r>
            <a:r>
              <a:rPr b="1" lang="en-US" sz="3000" spc="-1" strike="noStrike">
                <a:solidFill>
                  <a:srgbClr val="003399"/>
                </a:solidFill>
                <a:latin typeface="黑体"/>
                <a:ea typeface="黑体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黑体"/>
                <a:ea typeface="黑体"/>
              </a:rPr>
              <a:t>SELECT</a:t>
            </a:r>
            <a:r>
              <a:rPr b="1" lang="zh-CN" sz="3000" spc="-1" strike="noStrike">
                <a:solidFill>
                  <a:srgbClr val="003399"/>
                </a:solidFill>
                <a:latin typeface="Arial Narrow"/>
                <a:ea typeface="宋体"/>
              </a:rPr>
              <a:t>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选择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select-expression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when-expression-1&lt;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-expression-n&gt;) statemen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when-expression-1&lt;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-expression-n&gt;) statement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WI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ment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28" name="Object 4"/>
          <p:cNvGraphicFramePr/>
          <p:nvPr/>
        </p:nvGraphicFramePr>
        <p:xfrm>
          <a:off x="1000080" y="4286160"/>
          <a:ext cx="7072200" cy="12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4286160"/>
                    <a:ext cx="70722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4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没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表达式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a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e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p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y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u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ul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ug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ep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mon in 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u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ul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ug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 put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ummer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mon in 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p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y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 put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pring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therwi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ut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all or winte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应用举例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Text Box 2"/>
          <p:cNvSpPr/>
          <p:nvPr/>
        </p:nvSpPr>
        <p:spPr>
          <a:xfrm>
            <a:off x="1285920" y="1500120"/>
            <a:ext cx="6985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fall or wintermon=jan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fall or wintermon=feb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spring mon=ma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spring mon=ap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spring mon=ma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summer mon=jun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summer mon=ju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summer mon=aug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fall or wintermon=sep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NOTE: “DATA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语句”所用时间（总处理时间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实际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0.03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CPU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0.01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33" name="TextBox 4"/>
          <p:cNvSpPr/>
          <p:nvPr/>
        </p:nvSpPr>
        <p:spPr>
          <a:xfrm>
            <a:off x="1357200" y="10717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日志信息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结果变量长度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85880" y="128556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变量的长度是第一次扫描结果的长度，除非事先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好结果变量的长度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2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扫描结果的长度不是所有数据中的最大长度时会出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深发展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第一扫描结果的长度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6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 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大秦铁路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lstknm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长度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6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所以显示结果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stknm =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大秦铁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2286000" y="5143680"/>
            <a:ext cx="3456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Obs    lstkn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Times New Roman"/>
              </a:rPr>
              <a:t>----------------------------------------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1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大秦铁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1523520" y="12189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5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的正确及错误用法举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 put 'two'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错误用法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 put 'two'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正确用法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 put 'two'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正确用法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后两个程序的效果相同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ARRAY</a:t>
            </a: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6248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于定义数组。数组通常由一组变量构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数组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可以简化很多复杂的数据处理过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引用数组等价引用构成数组的那一组变量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显式下标数组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071720" y="1500120"/>
            <a:ext cx="72388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显式下标数组由数组名，元素个数说明，及元素列表等构成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数组名引用整个数组，通过数组元素序号（也称为下标）引用该元素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rray-name{subscript}&lt;$&gt;&lt;length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array-elements&gt;&lt;(initial-values)&gt;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1357200" y="3857760"/>
          <a:ext cx="5857920" cy="2500200"/>
        </p:xfrm>
        <a:graphic>
          <a:graphicData uri="http://schemas.openxmlformats.org/drawingml/2006/table">
            <a:tbl>
              <a:tblPr/>
              <a:tblGrid>
                <a:gridCol w="1928880"/>
                <a:gridCol w="3929040"/>
              </a:tblGrid>
              <a:tr h="417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rray-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名字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ubscrip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下标范围或元素个数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元素为字符型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中元素的长度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rray-Element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组成数组的元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itial-Value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中相应元素的初始值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下标的三种格式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下标用于表示数组中元素的个数和排列的范围。括号可用大括号，中括号或圆括号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下标格式有三种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1285920" y="3068640"/>
          <a:ext cx="5842080" cy="2217600"/>
        </p:xfrm>
        <a:graphic>
          <a:graphicData uri="http://schemas.openxmlformats.org/drawingml/2006/table">
            <a:tbl>
              <a:tblPr/>
              <a:tblGrid>
                <a:gridCol w="2652840"/>
                <a:gridCol w="3189240"/>
              </a:tblGrid>
              <a:tr h="739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&lt;,…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n&gt;}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中每一维的元素个数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8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&lt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下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&gt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,…&lt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下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&gt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}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规定数组中每一维的上下界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9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*}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由规定数组中变量的个数来确定下标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857160" y="142884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56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格式一定义一维、二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imple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red, green, yellow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一维数组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数组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有三个元素，对应的变量命名分别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d, green, yellow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scorel-score15;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二维数组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数组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corel---score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按顺序从左上角开始逐行放入这个二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7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格式二定义二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scorel-score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数组下界时可以省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注意：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为下界时，可以加快处理时间，因为计算下标的时间减少了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13880" y="785520"/>
            <a:ext cx="65725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数组元素表示方法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071720" y="1642680"/>
            <a:ext cx="6858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元素必须全是数值变量，或全是字符变量，可以用任意顺序列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数组元素的两种表示方法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出变量名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临时数组元素列表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8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出变量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Cl-C3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上例句等价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 A{*}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MERIC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{*} _CHARACTER_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建立临时数组元素列表</a:t>
            </a: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：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357200" y="185688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MPORARY_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临时数组元素列表可以少占用内存，加快执行时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像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变量那样使用临时数组元素，但要注意有下面几点不同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它们没有名字，引用时必须用数组名和下标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出现在输出的数据集上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用特殊下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*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来引用所有元素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临时数组元素的值被自动保存，而不是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的变量，在下一次重复开始时被置为缺失值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 Box 4"/>
          <p:cNvSpPr/>
          <p:nvPr/>
        </p:nvSpPr>
        <p:spPr>
          <a:xfrm>
            <a:off x="1143000" y="1428840"/>
            <a:ext cx="691344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5.5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建立临时数组元素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若用如下程序，则会产生新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t1,t2,t3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若用临时数组，则不会产生新变量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temporary_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9" name=""/>
          <p:cNvGraphicFramePr/>
          <p:nvPr/>
        </p:nvGraphicFramePr>
        <p:xfrm>
          <a:off x="1403280" y="1700280"/>
          <a:ext cx="6193080" cy="1950840"/>
        </p:xfrm>
        <a:graphic>
          <a:graphicData uri="http://schemas.openxmlformats.org/drawingml/2006/table">
            <a:tbl>
              <a:tblPr/>
              <a:tblGrid>
                <a:gridCol w="889200"/>
                <a:gridCol w="728640"/>
                <a:gridCol w="730080"/>
                <a:gridCol w="730440"/>
                <a:gridCol w="730080"/>
                <a:gridCol w="728640"/>
                <a:gridCol w="730440"/>
                <a:gridCol w="925560"/>
              </a:tblGrid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Se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Ag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Height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Weigh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     </a:t>
                      </a: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t1  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     </a:t>
                      </a: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t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       </a:t>
                      </a: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t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6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Barbar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5.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9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2.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an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9.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84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an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1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oyc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1.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0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0" name="Rectangle 139"/>
          <p:cNvSpPr/>
          <p:nvPr/>
        </p:nvSpPr>
        <p:spPr>
          <a:xfrm>
            <a:off x="1821600" y="400536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使用临时数组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1" name="Rectangle 144"/>
          <p:cNvSpPr/>
          <p:nvPr/>
        </p:nvSpPr>
        <p:spPr>
          <a:xfrm>
            <a:off x="1821600" y="12682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不用临时数组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1428840" y="4429080"/>
          <a:ext cx="4071960" cy="1951200"/>
        </p:xfrm>
        <a:graphic>
          <a:graphicData uri="http://schemas.openxmlformats.org/drawingml/2006/table">
            <a:tbl>
              <a:tblPr/>
              <a:tblGrid>
                <a:gridCol w="950760"/>
                <a:gridCol w="779400"/>
                <a:gridCol w="779760"/>
                <a:gridCol w="780840"/>
                <a:gridCol w="781200"/>
              </a:tblGrid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Se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Ag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Height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Weigh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6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Barbar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5.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9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2.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an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9.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84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an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1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oyc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1.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0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初始值表示方法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857160" y="1714680"/>
            <a:ext cx="77724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元素和初值通过对应位置来确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t1 t2 t3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b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第一个语句数组元素的个数与初值的个数相同，把初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,8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依次赋给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1,t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个语句分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1,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因数组元素比给出的初始值多，多余的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缺失值，而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将发布一个警告信息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结果变量长度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57160" y="164304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用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ENGTH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得到正确输出结果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stknm $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变量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stknm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长度为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2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深发展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 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大秦铁路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Text Box 4"/>
          <p:cNvSpPr/>
          <p:nvPr/>
        </p:nvSpPr>
        <p:spPr>
          <a:xfrm>
            <a:off x="2786040" y="4929120"/>
            <a:ext cx="3456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Obs    lstkn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Times New Roman"/>
              </a:rPr>
              <a:t>----------------------------------------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1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大秦铁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路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213920" y="1785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6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数组例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rain{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 x1-x5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b(*)x y z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x[*]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_numeric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(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_temporary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ys{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 d1-d7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x{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green red denato  fetzer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 (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test1-test10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引用显式下标数组元素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285920" y="1714680"/>
            <a:ext cx="72388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凡是可用表达式的地方，都可以使用数组元素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2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下标引用数组元素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ew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qa1-qa10 qb1-qb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qa1-qa5 qb1-qb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=  test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1 1 6 1 1 1 1 1 1 8 2 2 2 2 2 2 2 2 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输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a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b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，即数组元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st(4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a4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元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st(6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b1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数组的定义仅在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有效。如果想在几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引用同一个数组，必须在每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都定义这个数组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4"/>
          <p:cNvSpPr/>
          <p:nvPr/>
        </p:nvSpPr>
        <p:spPr>
          <a:xfrm>
            <a:off x="1357200" y="1285920"/>
            <a:ext cx="6624720" cy="384084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    data new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    input qa1-qa10 qb1-qb10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3    array test{10} qa1-qa5 qb1-qb5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    put test{4}=  test{6}=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5    card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qa4=6 qb1=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WORK.NEW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实际时间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0.03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时间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7   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循环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DO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组中引用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57160" y="192852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3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规定数组元素的下标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组循环变量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day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 d1-d7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to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y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9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then day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数组元素的下标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于是循环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就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依次检查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值，并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9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改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0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3"/>
          <p:cNvSpPr/>
          <p:nvPr/>
        </p:nvSpPr>
        <p:spPr>
          <a:xfrm>
            <a:off x="1000080" y="1571760"/>
            <a:ext cx="678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4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规定数组的一些特殊元素作为循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范围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day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 d1-d7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中，处理数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中选定的一些特殊元素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/>
          </p:nvPr>
        </p:nvSpPr>
        <p:spPr>
          <a:xfrm>
            <a:off x="1285920" y="1642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6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循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里处理多个数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y(*)d1-d4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im(day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y(i)=day(i)+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循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里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得到数组中元素的个数。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上界时，这个上界会根据数组元素个数的实际情况自动调整，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上界的所有语句都不必改动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/>
          </p:nvPr>
        </p:nvSpPr>
        <p:spPr>
          <a:xfrm>
            <a:off x="1356840" y="164268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6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规定上下界的一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year76-year8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lbound(yrs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bound(yrs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两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是等价的。第二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BOU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取数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R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下界，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BOU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R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上界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/>
          </p:nvPr>
        </p:nvSpPr>
        <p:spPr>
          <a:xfrm>
            <a:off x="1428480" y="1500120"/>
            <a:ext cx="6429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6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引用规定上下界的两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x60-x99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j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(i,j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i,j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lbound1(x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bound1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j= lbound2(x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bound2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(i,j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i,j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DO WHILE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DO UNTI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组引用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674028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UNT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处理数组时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要创造循环变量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然后利用数组说明实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 UNT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条件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后使用程序语句来改变循环变量的值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2"/>
          <p:cNvSpPr/>
          <p:nvPr/>
        </p:nvSpPr>
        <p:spPr>
          <a:xfrm>
            <a:off x="1214280" y="1214280"/>
            <a:ext cx="331164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用法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s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1-x5 y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x1-x5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(i)&lt;y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i)= y=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=i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2 3 4 5 3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2 4 6 8 6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9" name="Text Box 0"/>
          <p:cNvSpPr/>
          <p:nvPr/>
        </p:nvSpPr>
        <p:spPr>
          <a:xfrm>
            <a:off x="4929120" y="1143000"/>
            <a:ext cx="3743280" cy="447588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2  data test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3  input x1-x5 y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4  array t(5) x1-x5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5  i=1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6  do while (t(i)&lt;y)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7  put t(i)= y=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8  i=i+1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9  end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90  cards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1=1 y=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2=2 y=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1=0 y=6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2=2 y=6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3=4 y=6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WORK.TEST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2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7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93  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94  run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4"/>
          <p:cNvSpPr/>
          <p:nvPr/>
        </p:nvSpPr>
        <p:spPr>
          <a:xfrm>
            <a:off x="2485440" y="1282680"/>
            <a:ext cx="456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表</a:t>
            </a:r>
            <a:r>
              <a:rPr b="0" lang="en-US" sz="1800" spc="-1" strike="noStrike">
                <a:solidFill>
                  <a:srgbClr val="080808"/>
                </a:solidFill>
                <a:latin typeface="Calibri"/>
                <a:ea typeface="黑体"/>
              </a:rPr>
              <a:t>5.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没有规定结果变量长度时，由表达式类型确定结果变量长度的准则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1187280" y="1773360"/>
          <a:ext cx="7320240" cy="3644640"/>
        </p:xfrm>
        <a:graphic>
          <a:graphicData uri="http://schemas.openxmlformats.org/drawingml/2006/table">
            <a:tbl>
              <a:tblPr/>
              <a:tblGrid>
                <a:gridCol w="1884600"/>
                <a:gridCol w="855720"/>
                <a:gridCol w="2203200"/>
                <a:gridCol w="2376720"/>
              </a:tblGrid>
              <a:tr h="42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表达式类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结果类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结果变量长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举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变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原变量的长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ngth a $4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a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长度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50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串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第一个字符串的长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’ABC’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’ABCDEF’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长度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变量连接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所有变量长度的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ngth a $4 b $6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a||b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长度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7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变量和字符串连接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变量和第一个字符串长度的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ngth a $4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a||’CAT’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a||’CATIP’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长度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隐含下标数组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143000" y="1642680"/>
            <a:ext cx="723888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隐含下标数组由一个数组名字，一个下标变量和列表名组成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rray-name &lt;(index-variable)&gt;&lt;$&gt;&lt;length&g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rray-elements &lt;(initial-values)&gt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r>
              <a:rPr b="0" lang="en-US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72" name="Object 2"/>
          <p:cNvGraphicFramePr/>
          <p:nvPr/>
        </p:nvGraphicFramePr>
        <p:xfrm>
          <a:off x="1285920" y="3857760"/>
          <a:ext cx="6864480" cy="216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857760"/>
                    <a:ext cx="686448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/>
          </p:nvPr>
        </p:nvSpPr>
        <p:spPr>
          <a:xfrm>
            <a:off x="1258920" y="1412640"/>
            <a:ext cx="723888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6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字符数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x1 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$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2 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$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tem(j)$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x1-x10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定义字符数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前两个元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们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里定义了。其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元素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里用长度说明选项，给出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1116000" y="1557360"/>
            <a:ext cx="723888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7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组成数组的元素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x1-x3) (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$8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x4 x5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tem _character_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输入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$8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读字符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数值变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使用特殊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aracter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引入字符变量到数组中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变量或一个隐含下标数组可以是多个隐含数组的元素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引用隐含数组元素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13920" y="1785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7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隐含下标数组的元素时，要先设置下标变量，然后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使用数组名字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x1-x10 y1-y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(i) x1-x10 y1-y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155 1 1 1 1 1 1 1 1 1 1 2 2 2 2 2 2 2 2 2 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输出隐含数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I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第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个元素值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 Box 4"/>
          <p:cNvSpPr/>
          <p:nvPr/>
        </p:nvSpPr>
        <p:spPr>
          <a:xfrm>
            <a:off x="1785960" y="1428840"/>
            <a:ext cx="5832360" cy="402120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4  data a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5  input id x1-x10 y1-y10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6  array big(i) x1-x10 y1-y10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7  i=11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8  put big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9  cards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WORK.A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2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11  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/>
          </p:nvPr>
        </p:nvSpPr>
        <p:spPr>
          <a:xfrm>
            <a:off x="1499760" y="1143000"/>
            <a:ext cx="7239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72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中引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1-s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 s1-s5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arra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里没有规定下标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i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自动变量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i_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作为下标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=s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.88 .57 .90 .6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.88 .57 .90 .6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.88 .57 .90 .6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.88 .57 .90 .6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每个变量值都乘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00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0" name="矩形 2"/>
          <p:cNvSpPr/>
          <p:nvPr/>
        </p:nvSpPr>
        <p:spPr>
          <a:xfrm>
            <a:off x="5143680" y="3000240"/>
            <a:ext cx="3643200" cy="207180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    s1    s2    s3    s4    s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    88    57    90    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         95    88    57    90    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         95    88    57    90    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     95    88    57    90    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/>
          </p:nvPr>
        </p:nvSpPr>
        <p:spPr>
          <a:xfrm>
            <a:off x="1285920" y="1499760"/>
            <a:ext cx="73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.73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中引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w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x1-x10 y1-y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(i) x1-x10 y1-y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等价于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 I=1 to 20;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其中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20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是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big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中元素的个数。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将数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I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所有缺失值改为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/>
          </p:nvPr>
        </p:nvSpPr>
        <p:spPr>
          <a:xfrm>
            <a:off x="107172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7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循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引用多个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hre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1-f10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  f1-f10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  c1-c100;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数组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f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c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_I_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作为下标变量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pl-PL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;            </a:t>
            </a:r>
            <a:r>
              <a:rPr b="0" lang="pl-PL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等价于</a:t>
            </a:r>
            <a:r>
              <a:rPr b="0" lang="pl-PL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 _i_=1 to 100;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=(f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表示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循环执行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00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次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处理两个数组，这种情况要求数据有相同的元素和下标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/>
          </p:nvPr>
        </p:nvSpPr>
        <p:spPr>
          <a:xfrm>
            <a:off x="857160" y="785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7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将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6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改为用隐含下标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ou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1-x5 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 x1-x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I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t&lt;y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= y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I_=_I_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3 4 5 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 2 4 6 8 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因一个隐含下标数组可以是其它隐含下标数组的元素，故允许有二维或更高维的隐含下标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785880" y="1000080"/>
            <a:ext cx="77724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7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处理上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由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est1, test2, test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维数相同，在内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规定的数组名可以是这三个数组名的任一个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只有当嵌套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引用的每个数组定义不同的下标变量时才能使用嵌套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zhushw</cp:lastModifiedBy>
  <dcterms:modified xsi:type="dcterms:W3CDTF">2013-04-19T07:35:10Z</dcterms:modified>
  <cp:revision>426</cp:revision>
  <dc:subject/>
  <dc:title>第1章 SAS软件入门</dc:title>
</cp:coreProperties>
</file>