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4.wmf" ContentType="image/x-wmf"/>
  <Override PartName="/ppt/media/image2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3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167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177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  <p:sldId id="321" r:id="rId83"/>
    <p:sldId id="322" r:id="rId84"/>
    <p:sldId id="323" r:id="rId85"/>
    <p:sldId id="324" r:id="rId86"/>
    <p:sldId id="325" r:id="rId87"/>
    <p:sldId id="326" r:id="rId88"/>
    <p:sldId id="327" r:id="rId89"/>
    <p:sldId id="328" r:id="rId90"/>
    <p:sldId id="329" r:id="rId91"/>
    <p:sldId id="330" r:id="rId92"/>
    <p:sldId id="331" r:id="rId93"/>
    <p:sldId id="332" r:id="rId94"/>
    <p:sldId id="333" r:id="rId95"/>
    <p:sldId id="334" r:id="rId96"/>
    <p:sldId id="335" r:id="rId97"/>
    <p:sldId id="336" r:id="rId98"/>
    <p:sldId id="337" r:id="rId99"/>
    <p:sldId id="338" r:id="rId100"/>
    <p:sldId id="339" r:id="rId101"/>
    <p:sldId id="340" r:id="rId102"/>
    <p:sldId id="341" r:id="rId103"/>
    <p:sldId id="342" r:id="rId104"/>
    <p:sldId id="343" r:id="rId105"/>
    <p:sldId id="344" r:id="rId106"/>
    <p:sldId id="345" r:id="rId107"/>
    <p:sldId id="346" r:id="rId108"/>
    <p:sldId id="347" r:id="rId109"/>
    <p:sldId id="348" r:id="rId110"/>
    <p:sldId id="349" r:id="rId111"/>
    <p:sldId id="350" r:id="rId112"/>
    <p:sldId id="351" r:id="rId113"/>
    <p:sldId id="352" r:id="rId114"/>
    <p:sldId id="353" r:id="rId115"/>
    <p:sldId id="354" r:id="rId116"/>
    <p:sldId id="355" r:id="rId117"/>
    <p:sldId id="356" r:id="rId118"/>
    <p:sldId id="357" r:id="rId119"/>
    <p:sldId id="358" r:id="rId120"/>
    <p:sldId id="359" r:id="rId121"/>
    <p:sldId id="360" r:id="rId122"/>
    <p:sldId id="361" r:id="rId123"/>
    <p:sldId id="362" r:id="rId124"/>
    <p:sldId id="363" r:id="rId125"/>
    <p:sldId id="364" r:id="rId126"/>
    <p:sldId id="365" r:id="rId127"/>
    <p:sldId id="366" r:id="rId128"/>
    <p:sldId id="367" r:id="rId129"/>
    <p:sldId id="368" r:id="rId130"/>
    <p:sldId id="369" r:id="rId131"/>
    <p:sldId id="370" r:id="rId132"/>
    <p:sldId id="371" r:id="rId133"/>
    <p:sldId id="372" r:id="rId134"/>
    <p:sldId id="373" r:id="rId135"/>
    <p:sldId id="374" r:id="rId136"/>
    <p:sldId id="375" r:id="rId137"/>
    <p:sldId id="376" r:id="rId138"/>
    <p:sldId id="377" r:id="rId139"/>
    <p:sldId id="378" r:id="rId140"/>
    <p:sldId id="379" r:id="rId141"/>
    <p:sldId id="380" r:id="rId142"/>
    <p:sldId id="381" r:id="rId143"/>
    <p:sldId id="382" r:id="rId144"/>
    <p:sldId id="383" r:id="rId145"/>
    <p:sldId id="384" r:id="rId146"/>
    <p:sldId id="385" r:id="rId147"/>
    <p:sldId id="386" r:id="rId148"/>
    <p:sldId id="387" r:id="rId149"/>
    <p:sldId id="388" r:id="rId150"/>
    <p:sldId id="389" r:id="rId151"/>
    <p:sldId id="390" r:id="rId152"/>
    <p:sldId id="391" r:id="rId153"/>
    <p:sldId id="392" r:id="rId154"/>
    <p:sldId id="393" r:id="rId155"/>
    <p:sldId id="394" r:id="rId156"/>
    <p:sldId id="395" r:id="rId157"/>
    <p:sldId id="396" r:id="rId158"/>
    <p:sldId id="397" r:id="rId159"/>
    <p:sldId id="398" r:id="rId160"/>
    <p:sldId id="399" r:id="rId161"/>
    <p:sldId id="400" r:id="rId162"/>
    <p:sldId id="401" r:id="rId163"/>
    <p:sldId id="402" r:id="rId164"/>
    <p:sldId id="403" r:id="rId165"/>
    <p:sldId id="404" r:id="rId166"/>
    <p:sldId id="405" r:id="rId167"/>
    <p:sldId id="406" r:id="rId168"/>
    <p:sldId id="407" r:id="rId169"/>
    <p:sldId id="408" r:id="rId170"/>
    <p:sldId id="409" r:id="rId171"/>
    <p:sldId id="410" r:id="rId172"/>
    <p:sldId id="411" r:id="rId173"/>
    <p:sldId id="412" r:id="rId174"/>
    <p:sldId id="413" r:id="rId175"/>
    <p:sldId id="414" r:id="rId176"/>
    <p:sldId id="415" r:id="rId177"/>
    <p:sldId id="416" r:id="rId178"/>
    <p:sldId id="417" r:id="rId179"/>
    <p:sldId id="418" r:id="rId180"/>
    <p:sldId id="419" r:id="rId181"/>
    <p:sldId id="420" r:id="rId182"/>
    <p:sldId id="421" r:id="rId183"/>
    <p:sldId id="422" r:id="rId184"/>
    <p:sldId id="423" r:id="rId185"/>
    <p:sldId id="424" r:id="rId186"/>
    <p:sldId id="425" r:id="rId187"/>
    <p:sldId id="426" r:id="rId188"/>
    <p:sldId id="427" r:id="rId189"/>
    <p:sldId id="428" r:id="rId190"/>
    <p:sldId id="429" r:id="rId191"/>
    <p:sldId id="430" r:id="rId192"/>
    <p:sldId id="431" r:id="rId193"/>
    <p:sldId id="432" r:id="rId194"/>
    <p:sldId id="433" r:id="rId1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slide" Target="slides/slide66.xml"/><Relationship Id="rId84" Type="http://schemas.openxmlformats.org/officeDocument/2006/relationships/slide" Target="slides/slide67.xml"/><Relationship Id="rId85" Type="http://schemas.openxmlformats.org/officeDocument/2006/relationships/slide" Target="slides/slide68.xml"/><Relationship Id="rId86" Type="http://schemas.openxmlformats.org/officeDocument/2006/relationships/slide" Target="slides/slide69.xml"/><Relationship Id="rId87" Type="http://schemas.openxmlformats.org/officeDocument/2006/relationships/slide" Target="slides/slide70.xml"/><Relationship Id="rId88" Type="http://schemas.openxmlformats.org/officeDocument/2006/relationships/slide" Target="slides/slide71.xml"/><Relationship Id="rId89" Type="http://schemas.openxmlformats.org/officeDocument/2006/relationships/slide" Target="slides/slide72.xml"/><Relationship Id="rId90" Type="http://schemas.openxmlformats.org/officeDocument/2006/relationships/slide" Target="slides/slide73.xml"/><Relationship Id="rId91" Type="http://schemas.openxmlformats.org/officeDocument/2006/relationships/slide" Target="slides/slide74.xml"/><Relationship Id="rId92" Type="http://schemas.openxmlformats.org/officeDocument/2006/relationships/slide" Target="slides/slide75.xml"/><Relationship Id="rId93" Type="http://schemas.openxmlformats.org/officeDocument/2006/relationships/slide" Target="slides/slide76.xml"/><Relationship Id="rId94" Type="http://schemas.openxmlformats.org/officeDocument/2006/relationships/slide" Target="slides/slide77.xml"/><Relationship Id="rId95" Type="http://schemas.openxmlformats.org/officeDocument/2006/relationships/slide" Target="slides/slide78.xml"/><Relationship Id="rId96" Type="http://schemas.openxmlformats.org/officeDocument/2006/relationships/slide" Target="slides/slide79.xml"/><Relationship Id="rId97" Type="http://schemas.openxmlformats.org/officeDocument/2006/relationships/slide" Target="slides/slide80.xml"/><Relationship Id="rId98" Type="http://schemas.openxmlformats.org/officeDocument/2006/relationships/slide" Target="slides/slide81.xml"/><Relationship Id="rId99" Type="http://schemas.openxmlformats.org/officeDocument/2006/relationships/slide" Target="slides/slide82.xml"/><Relationship Id="rId100" Type="http://schemas.openxmlformats.org/officeDocument/2006/relationships/slide" Target="slides/slide83.xml"/><Relationship Id="rId101" Type="http://schemas.openxmlformats.org/officeDocument/2006/relationships/slide" Target="slides/slide84.xml"/><Relationship Id="rId102" Type="http://schemas.openxmlformats.org/officeDocument/2006/relationships/slide" Target="slides/slide85.xml"/><Relationship Id="rId103" Type="http://schemas.openxmlformats.org/officeDocument/2006/relationships/slide" Target="slides/slide86.xml"/><Relationship Id="rId104" Type="http://schemas.openxmlformats.org/officeDocument/2006/relationships/slide" Target="slides/slide87.xml"/><Relationship Id="rId105" Type="http://schemas.openxmlformats.org/officeDocument/2006/relationships/slide" Target="slides/slide88.xml"/><Relationship Id="rId106" Type="http://schemas.openxmlformats.org/officeDocument/2006/relationships/slide" Target="slides/slide89.xml"/><Relationship Id="rId107" Type="http://schemas.openxmlformats.org/officeDocument/2006/relationships/slide" Target="slides/slide90.xml"/><Relationship Id="rId108" Type="http://schemas.openxmlformats.org/officeDocument/2006/relationships/slide" Target="slides/slide91.xml"/><Relationship Id="rId109" Type="http://schemas.openxmlformats.org/officeDocument/2006/relationships/slide" Target="slides/slide92.xml"/><Relationship Id="rId110" Type="http://schemas.openxmlformats.org/officeDocument/2006/relationships/slide" Target="slides/slide93.xml"/><Relationship Id="rId111" Type="http://schemas.openxmlformats.org/officeDocument/2006/relationships/slide" Target="slides/slide94.xml"/><Relationship Id="rId112" Type="http://schemas.openxmlformats.org/officeDocument/2006/relationships/slide" Target="slides/slide95.xml"/><Relationship Id="rId113" Type="http://schemas.openxmlformats.org/officeDocument/2006/relationships/slide" Target="slides/slide96.xml"/><Relationship Id="rId114" Type="http://schemas.openxmlformats.org/officeDocument/2006/relationships/slide" Target="slides/slide97.xml"/><Relationship Id="rId115" Type="http://schemas.openxmlformats.org/officeDocument/2006/relationships/slide" Target="slides/slide98.xml"/><Relationship Id="rId116" Type="http://schemas.openxmlformats.org/officeDocument/2006/relationships/slide" Target="slides/slide99.xml"/><Relationship Id="rId117" Type="http://schemas.openxmlformats.org/officeDocument/2006/relationships/slide" Target="slides/slide100.xml"/><Relationship Id="rId118" Type="http://schemas.openxmlformats.org/officeDocument/2006/relationships/slide" Target="slides/slide101.xml"/><Relationship Id="rId119" Type="http://schemas.openxmlformats.org/officeDocument/2006/relationships/slide" Target="slides/slide102.xml"/><Relationship Id="rId120" Type="http://schemas.openxmlformats.org/officeDocument/2006/relationships/slide" Target="slides/slide103.xml"/><Relationship Id="rId121" Type="http://schemas.openxmlformats.org/officeDocument/2006/relationships/slide" Target="slides/slide104.xml"/><Relationship Id="rId122" Type="http://schemas.openxmlformats.org/officeDocument/2006/relationships/slide" Target="slides/slide105.xml"/><Relationship Id="rId123" Type="http://schemas.openxmlformats.org/officeDocument/2006/relationships/slide" Target="slides/slide106.xml"/><Relationship Id="rId124" Type="http://schemas.openxmlformats.org/officeDocument/2006/relationships/slide" Target="slides/slide107.xml"/><Relationship Id="rId125" Type="http://schemas.openxmlformats.org/officeDocument/2006/relationships/slide" Target="slides/slide108.xml"/><Relationship Id="rId126" Type="http://schemas.openxmlformats.org/officeDocument/2006/relationships/slide" Target="slides/slide109.xml"/><Relationship Id="rId127" Type="http://schemas.openxmlformats.org/officeDocument/2006/relationships/slide" Target="slides/slide110.xml"/><Relationship Id="rId128" Type="http://schemas.openxmlformats.org/officeDocument/2006/relationships/slide" Target="slides/slide111.xml"/><Relationship Id="rId129" Type="http://schemas.openxmlformats.org/officeDocument/2006/relationships/slide" Target="slides/slide112.xml"/><Relationship Id="rId130" Type="http://schemas.openxmlformats.org/officeDocument/2006/relationships/slide" Target="slides/slide113.xml"/><Relationship Id="rId131" Type="http://schemas.openxmlformats.org/officeDocument/2006/relationships/slide" Target="slides/slide114.xml"/><Relationship Id="rId132" Type="http://schemas.openxmlformats.org/officeDocument/2006/relationships/slide" Target="slides/slide115.xml"/><Relationship Id="rId133" Type="http://schemas.openxmlformats.org/officeDocument/2006/relationships/slide" Target="slides/slide116.xml"/><Relationship Id="rId134" Type="http://schemas.openxmlformats.org/officeDocument/2006/relationships/slide" Target="slides/slide117.xml"/><Relationship Id="rId135" Type="http://schemas.openxmlformats.org/officeDocument/2006/relationships/slide" Target="slides/slide118.xml"/><Relationship Id="rId136" Type="http://schemas.openxmlformats.org/officeDocument/2006/relationships/slide" Target="slides/slide119.xml"/><Relationship Id="rId137" Type="http://schemas.openxmlformats.org/officeDocument/2006/relationships/slide" Target="slides/slide120.xml"/><Relationship Id="rId138" Type="http://schemas.openxmlformats.org/officeDocument/2006/relationships/slide" Target="slides/slide121.xml"/><Relationship Id="rId139" Type="http://schemas.openxmlformats.org/officeDocument/2006/relationships/slide" Target="slides/slide122.xml"/><Relationship Id="rId140" Type="http://schemas.openxmlformats.org/officeDocument/2006/relationships/slide" Target="slides/slide123.xml"/><Relationship Id="rId141" Type="http://schemas.openxmlformats.org/officeDocument/2006/relationships/slide" Target="slides/slide124.xml"/><Relationship Id="rId142" Type="http://schemas.openxmlformats.org/officeDocument/2006/relationships/slide" Target="slides/slide125.xml"/><Relationship Id="rId143" Type="http://schemas.openxmlformats.org/officeDocument/2006/relationships/slide" Target="slides/slide126.xml"/><Relationship Id="rId144" Type="http://schemas.openxmlformats.org/officeDocument/2006/relationships/slide" Target="slides/slide127.xml"/><Relationship Id="rId145" Type="http://schemas.openxmlformats.org/officeDocument/2006/relationships/slide" Target="slides/slide128.xml"/><Relationship Id="rId146" Type="http://schemas.openxmlformats.org/officeDocument/2006/relationships/slide" Target="slides/slide129.xml"/><Relationship Id="rId147" Type="http://schemas.openxmlformats.org/officeDocument/2006/relationships/slide" Target="slides/slide130.xml"/><Relationship Id="rId148" Type="http://schemas.openxmlformats.org/officeDocument/2006/relationships/slide" Target="slides/slide131.xml"/><Relationship Id="rId149" Type="http://schemas.openxmlformats.org/officeDocument/2006/relationships/slide" Target="slides/slide132.xml"/><Relationship Id="rId150" Type="http://schemas.openxmlformats.org/officeDocument/2006/relationships/slide" Target="slides/slide133.xml"/><Relationship Id="rId151" Type="http://schemas.openxmlformats.org/officeDocument/2006/relationships/slide" Target="slides/slide134.xml"/><Relationship Id="rId152" Type="http://schemas.openxmlformats.org/officeDocument/2006/relationships/slide" Target="slides/slide135.xml"/><Relationship Id="rId153" Type="http://schemas.openxmlformats.org/officeDocument/2006/relationships/slide" Target="slides/slide136.xml"/><Relationship Id="rId154" Type="http://schemas.openxmlformats.org/officeDocument/2006/relationships/slide" Target="slides/slide137.xml"/><Relationship Id="rId155" Type="http://schemas.openxmlformats.org/officeDocument/2006/relationships/slide" Target="slides/slide138.xml"/><Relationship Id="rId156" Type="http://schemas.openxmlformats.org/officeDocument/2006/relationships/slide" Target="slides/slide139.xml"/><Relationship Id="rId157" Type="http://schemas.openxmlformats.org/officeDocument/2006/relationships/slide" Target="slides/slide140.xml"/><Relationship Id="rId158" Type="http://schemas.openxmlformats.org/officeDocument/2006/relationships/slide" Target="slides/slide141.xml"/><Relationship Id="rId159" Type="http://schemas.openxmlformats.org/officeDocument/2006/relationships/slide" Target="slides/slide142.xml"/><Relationship Id="rId160" Type="http://schemas.openxmlformats.org/officeDocument/2006/relationships/slide" Target="slides/slide143.xml"/><Relationship Id="rId161" Type="http://schemas.openxmlformats.org/officeDocument/2006/relationships/slide" Target="slides/slide144.xml"/><Relationship Id="rId162" Type="http://schemas.openxmlformats.org/officeDocument/2006/relationships/slide" Target="slides/slide145.xml"/><Relationship Id="rId163" Type="http://schemas.openxmlformats.org/officeDocument/2006/relationships/slide" Target="slides/slide146.xml"/><Relationship Id="rId164" Type="http://schemas.openxmlformats.org/officeDocument/2006/relationships/slide" Target="slides/slide147.xml"/><Relationship Id="rId165" Type="http://schemas.openxmlformats.org/officeDocument/2006/relationships/slide" Target="slides/slide148.xml"/><Relationship Id="rId166" Type="http://schemas.openxmlformats.org/officeDocument/2006/relationships/slide" Target="slides/slide149.xml"/><Relationship Id="rId167" Type="http://schemas.openxmlformats.org/officeDocument/2006/relationships/slide" Target="slides/slide150.xml"/><Relationship Id="rId168" Type="http://schemas.openxmlformats.org/officeDocument/2006/relationships/slide" Target="slides/slide151.xml"/><Relationship Id="rId169" Type="http://schemas.openxmlformats.org/officeDocument/2006/relationships/slide" Target="slides/slide152.xml"/><Relationship Id="rId170" Type="http://schemas.openxmlformats.org/officeDocument/2006/relationships/slide" Target="slides/slide153.xml"/><Relationship Id="rId171" Type="http://schemas.openxmlformats.org/officeDocument/2006/relationships/slide" Target="slides/slide154.xml"/><Relationship Id="rId172" Type="http://schemas.openxmlformats.org/officeDocument/2006/relationships/slide" Target="slides/slide155.xml"/><Relationship Id="rId173" Type="http://schemas.openxmlformats.org/officeDocument/2006/relationships/slide" Target="slides/slide156.xml"/><Relationship Id="rId174" Type="http://schemas.openxmlformats.org/officeDocument/2006/relationships/slide" Target="slides/slide157.xml"/><Relationship Id="rId175" Type="http://schemas.openxmlformats.org/officeDocument/2006/relationships/slide" Target="slides/slide158.xml"/><Relationship Id="rId176" Type="http://schemas.openxmlformats.org/officeDocument/2006/relationships/slide" Target="slides/slide159.xml"/><Relationship Id="rId177" Type="http://schemas.openxmlformats.org/officeDocument/2006/relationships/slide" Target="slides/slide160.xml"/><Relationship Id="rId178" Type="http://schemas.openxmlformats.org/officeDocument/2006/relationships/slide" Target="slides/slide161.xml"/><Relationship Id="rId179" Type="http://schemas.openxmlformats.org/officeDocument/2006/relationships/slide" Target="slides/slide162.xml"/><Relationship Id="rId180" Type="http://schemas.openxmlformats.org/officeDocument/2006/relationships/slide" Target="slides/slide163.xml"/><Relationship Id="rId181" Type="http://schemas.openxmlformats.org/officeDocument/2006/relationships/slide" Target="slides/slide164.xml"/><Relationship Id="rId182" Type="http://schemas.openxmlformats.org/officeDocument/2006/relationships/slide" Target="slides/slide165.xml"/><Relationship Id="rId183" Type="http://schemas.openxmlformats.org/officeDocument/2006/relationships/slide" Target="slides/slide166.xml"/><Relationship Id="rId184" Type="http://schemas.openxmlformats.org/officeDocument/2006/relationships/slide" Target="slides/slide167.xml"/><Relationship Id="rId185" Type="http://schemas.openxmlformats.org/officeDocument/2006/relationships/slide" Target="slides/slide168.xml"/><Relationship Id="rId186" Type="http://schemas.openxmlformats.org/officeDocument/2006/relationships/slide" Target="slides/slide169.xml"/><Relationship Id="rId187" Type="http://schemas.openxmlformats.org/officeDocument/2006/relationships/slide" Target="slides/slide170.xml"/><Relationship Id="rId188" Type="http://schemas.openxmlformats.org/officeDocument/2006/relationships/slide" Target="slides/slide171.xml"/><Relationship Id="rId189" Type="http://schemas.openxmlformats.org/officeDocument/2006/relationships/slide" Target="slides/slide172.xml"/><Relationship Id="rId190" Type="http://schemas.openxmlformats.org/officeDocument/2006/relationships/slide" Target="slides/slide173.xml"/><Relationship Id="rId191" Type="http://schemas.openxmlformats.org/officeDocument/2006/relationships/slide" Target="slides/slide174.xml"/><Relationship Id="rId192" Type="http://schemas.openxmlformats.org/officeDocument/2006/relationships/slide" Target="slides/slide175.xml"/><Relationship Id="rId193" Type="http://schemas.openxmlformats.org/officeDocument/2006/relationships/slide" Target="slides/slide176.xml"/><Relationship Id="rId194" Type="http://schemas.openxmlformats.org/officeDocument/2006/relationships/slide" Target="slides/slide177.xml"/><Relationship Id="rId195" Type="http://schemas.openxmlformats.org/officeDocument/2006/relationships/slide" Target="slides/slide178.xml"/><Relationship Id="rId1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E3A7-6D03-4D91-A744-25D4832B50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025D-B270-433E-9F47-2DE92389988B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ECBE-D8A6-447C-9664-28099A07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0CB-C95E-428F-A14B-070D825A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8C020-D8DC-4849-B6BE-3EB72CF7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EC446-C3C7-4B76-9D9A-8A1A7F7C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047B5-2336-4B6A-B7AF-3CC6819C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B91B4-9294-4568-9194-B1604E5D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5B555-E5BD-4006-A5DE-151ACB9B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03CEA-BC4D-4A40-A18A-E25737FE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0B8EF-57E5-49E3-97B5-82C8FB1F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1AF8D-A98E-431D-85C5-5530A3CD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F47CA-D1C6-4692-A888-93676037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BA520-40A5-44B4-AC60-9ED3BFA3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0AD6-4198-4DE0-A8F4-ADD2CCD8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28319-2359-41E7-BF44-92E0FA04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D98FD-25B6-4D0F-BBF2-DDDBEB88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6D1D9-8262-43C0-9C77-ADEE9514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D53E9-0B49-4FCE-892B-0D3E2029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E5E7A-C2A7-4688-ABA8-42FFD8BB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5D9A7-D892-498E-ADFE-587D8B53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BE6F9-4546-4082-B74F-3E828825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DE9B9-93A2-4817-838F-40C4E7A9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AE90B-FF3B-4034-A1E6-FB8B75BC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2DC8D-078A-4D84-AF8D-B89AAE07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3D1-CF64-4C75-92F4-BEEA5252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4B221-72B3-48E5-9BED-9754D0FC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FEB6F-E153-4A07-8F88-B107F237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B7CF6-7E0C-445F-9671-5F2396C4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64A7E-9854-4CA3-8EF4-0CD256AC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50481-031D-4067-8449-5D94C60D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4C104-6D93-4452-B009-D7353D71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68B92-5650-456A-8F04-B279B767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D3909-80CE-435C-A8CC-6CE51F56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0EA25-E906-47C4-B438-B40C34E6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3439E-54EF-48B3-A62A-29E57A8D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0BA3-70E4-49B5-988C-1EA8B4B6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5B8D9-FA5E-4595-8A55-E807D060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AB1A8-6AC4-49A3-88B6-DCEB95AD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A76D0-ECD5-45EA-A292-1F4A5F5F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7FD2C-2224-4615-A63A-D3B10CF4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8EA9D-39D7-4474-93B1-23AB3716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EA5A8-BF8F-42CE-85ED-FD925A2B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1764C-4791-4955-86C2-56790969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52891-8EE0-45B6-8D24-A5D481D3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28EC8-46DB-4720-A3CC-F31A0EBC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B91B4-B3C0-449A-9C86-2F1507C1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45C5-E626-4D9B-8701-9BE24EA6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31037-ABEE-40C8-9E2B-A01ADCDA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AFD51-9F17-47F2-8717-1C815E86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6E3E1-A29A-48A6-89B1-02445D74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C731A-E043-4F7D-BAF2-797B3477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05133-F28D-4E47-804F-FD5008B8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18E2EC-121D-4DD3-B748-8054A7B9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6FB1C-CFBF-412C-A209-D9939977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E0629-07A1-4663-86DD-F40132D4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2A7341-8A3E-482B-A043-43954B12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F3E14-E0B7-43BD-9F12-0648278F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F9C6-6358-4387-9ADB-1001FD46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3E6D1-9086-43F9-B050-D449F27D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9C66BF-2C95-4B9E-9EB5-C9987594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C71E6-E183-4238-89DC-2F41DD07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4165DC-66B8-4C3E-90AA-D7BCDB1B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6DBB2F-5845-432F-8732-3C5D6F21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DF557-6A99-4B71-A92D-67A7D4CC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372501-FA8A-4CB6-865B-AF9CE309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333C6-5F48-47C4-B313-23C91CA0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485B11-1CAD-4A99-9A22-92365570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267AFE-FC71-4A58-A971-D87F9C2D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9BA1-782B-4879-8E40-6A40A7F4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AB495B-082E-451F-8D90-1A80C4FF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E814BB-3494-40BD-879B-B105A1D0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9E1230-83E2-4D3C-9A85-39359526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0526EE-7765-4CB0-ADED-2FACE375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B7A04D-C25B-4D79-ACD3-27BE5CFC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C179C-A7D5-4363-8ED1-072EBDBC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137BAD-A30F-4D5A-A4E7-7234A247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43DE4B-B2A9-488A-A7C7-6CE4BC11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69E494-0D0D-41B4-90D0-551252E9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A5C6-5DBA-4727-B4C9-679A23A3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0F7F-A584-43A6-8608-D7D25715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615F-4661-4967-9095-8077FC67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81B6-B6BA-499D-A05C-808EE35D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755A-E5D7-4C46-A5B6-366E3424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9FF5-9635-4C8D-8AC5-2DBFCC25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A490-1802-4D3D-BD3B-9FCDBAF2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7812-24EA-4EA9-A213-B9E45D0E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2690-C70B-433E-B134-EAFC58C4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96ED4-65B8-41F4-8A2F-CAA3DB36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2FF0A-9C2A-457E-AE8B-1FA2A6E1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CBDED-EAD7-4383-A246-6D5B2081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C5AE9-F38E-4CC2-AA54-BFE2B80F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4146F-A86D-4016-A9CF-F9E1D5FC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AB0D-004D-4CA4-8156-642846B3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59B6B-BAF8-4A1E-98D8-E7847ECE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F1678-78DA-47EB-9311-32FFE22D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DAFD8-6665-41FA-A4DE-D2375CA2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78DBB-D2AD-4BAD-A4FF-E6CDBC5B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920EA-9144-4CCB-8692-DDD9C7ED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0BA8E-8953-4C30-ADAD-86457258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6AE57-1AC6-4443-AD47-4E0DD743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611BF-4023-4D77-8DBF-83067E96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9EDFC-55F3-460C-93DD-02A4DFB4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9AD7D-50F8-475B-BAAF-A7D399EB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C577-A533-484A-99F0-E54A4EF8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57D6E-2F71-4266-9058-EE86332C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3D519-1835-4851-912A-DFC27739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46D26-B2A9-46AC-BD58-54D2573A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72715-3024-4E07-9881-2D36DC39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232BC-1570-433A-8DBD-E42CD86B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9DF67-81A7-44AD-A411-FF5A66FD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C1017-F4F4-4117-AFB1-058E570C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CE517-8503-4193-879F-D5CB9E57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2C823-1805-418F-8AA9-159901FF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C0264-C218-4BA6-9A20-B7714E7F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648-9627-4C47-B86A-3D9C5F46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88DD1-2DD2-4D4C-AB5A-F3270B22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850EC-ED1A-44C6-9100-224052B0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7C3B6-79A4-484E-9FAF-FCB99F3A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C2501-897B-4ED0-8815-AC17C8CF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E17FA-8724-4A9A-8CB3-E3E15065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324A7-5826-4B09-A24D-CB8823B2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18478-6D57-4F60-B9DC-88A85EFE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B03FF-60B1-42BA-A57F-F6CA12B4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20BBF-6AF5-427B-9067-B70665F1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5C86B-4D5F-4E52-B5E9-75B8C732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28D3-D08F-4CC4-B7ED-667D2D5B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91ECD-CEEC-44AD-9BB5-464E40D6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81EB2-A6C7-4B0C-9432-3005FE4E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C0641-08A9-4F64-BEBE-FE363DFC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5182C-E785-4816-A91E-2736F320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6AE18-53C4-481A-B657-C20FB2AD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43E73-720C-4A59-8648-AFB6F3FE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20661-6E21-4BFF-8447-0BD51608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14D56-8B48-4F33-A118-492D2F91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B254E-1313-4B41-AA1F-AAC67301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E548D-5297-4ADF-9DB9-F7452224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E7D0-0642-4DB1-8EB0-05D08BA0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BE8DF-41DB-4D2A-9801-D5E9EE1C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BCFE8-5EF4-4016-9991-32BD2D9E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47F6D-B9F2-4D1B-BC04-9B191520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44EA0-B15D-4359-A5E4-CFF63EC1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E6771-0114-4F0C-9622-0A174F4D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4CAB9-EEA5-4DF4-AB46-08E829B8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6DF20-B012-4242-9270-349ABAC6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FD6FF-3A6A-49C0-A475-6F9C823C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B4D5C-5B35-4097-A304-FA459FA1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45712-9888-4928-B73D-CA5572FF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9F3-5B56-47FC-BA44-EC0636DE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386C7-C8C0-4E68-A0EB-4BFDC0F8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B46ED-F550-428D-9220-C0054ABA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C79E1-AAA6-48AA-B44D-1AE6A7A6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BE7F1-CD4C-4511-A336-69D0DFF9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A19D3-16B9-472F-85D7-F8CFC70F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24242-CFFB-49E9-B1BB-230D105E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B4803-1951-4C57-8A48-C8541E4C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502E8-3D2E-4576-B068-FB15D8D4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346BD-D7B5-42ED-9295-486092FC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5A9E6-9223-446D-A036-AA28595A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B26-A52F-48EB-A6C0-DE5BD791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9BA3C-FA5C-4AE9-9D63-6CC6ED3A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4E952-AFDF-479F-911E-A2790B9B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A873A-1762-4DFE-8B0A-FDCD18DA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1824E-D5B5-4635-954D-62D09D25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5CA91-DD35-48D1-9D2D-C9E1843F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B9D8C-37EF-46AD-B5B2-7060F15A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D3F5D-16D0-4614-A115-53931702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7ABB0-3246-4B27-816A-312FC59A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D9844-A129-4B8C-AEA7-9E9F6C69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4EB67-F11E-44CB-B7A1-5EE3AED5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603C-00DE-48A0-9DC4-C2E0D6ECEA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4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967C-1BEF-4776-99C7-A1B8B8A4EF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1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677B-D879-44AF-9B56-CFABAE569B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4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3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9AF2-0EDE-4C45-A502-FC797BFDE9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7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5E88-C620-4417-9228-5B63D3AC05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2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C751-F196-4B2E-BD73-E635128A5A0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86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87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4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5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6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7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8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9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0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1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2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3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4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5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6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7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8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9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0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1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2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3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4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5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6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7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8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9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0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1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2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3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4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5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6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7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8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9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0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1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2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3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4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9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7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8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9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97D1-D9D1-4A95-B850-6AE9707DE3B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3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0B55-78CD-4EE4-BE98-96FC2F37A9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CB2F-223B-4F79-9B73-8C310743F7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2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51E3-F99B-4B4A-AC1B-E89E8E884F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1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2F08-FE2F-4226-9301-75779F5E21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5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10F7-5389-40DE-BAB4-CC51471856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59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4D3A-B917-4A3C-A7D1-507673DC4B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9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9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6"/>
          <p:cNvSpPr/>
          <p:nvPr/>
        </p:nvSpPr>
        <p:spPr>
          <a:xfrm>
            <a:off x="3591360" y="3929760"/>
            <a:ext cx="2375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0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1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5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DATA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步数据处理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累加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+expressio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累加语句累加表达式结果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5" name="矩形 4"/>
          <p:cNvSpPr/>
          <p:nvPr/>
        </p:nvSpPr>
        <p:spPr>
          <a:xfrm>
            <a:off x="1235520" y="292896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96" name="Object 5"/>
          <p:cNvGraphicFramePr/>
          <p:nvPr/>
        </p:nvGraphicFramePr>
        <p:xfrm>
          <a:off x="1357200" y="3786120"/>
          <a:ext cx="4496040" cy="93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786120"/>
                    <a:ext cx="4496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Text Box 4"/>
          <p:cNvSpPr/>
          <p:nvPr/>
        </p:nvSpPr>
        <p:spPr>
          <a:xfrm>
            <a:off x="1143000" y="1428840"/>
            <a:ext cx="691344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5.59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建立临时数组元素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若用如下程序，则会产生新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t1,t2,t3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若用临时数组，则不会产生新变量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temporary_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0" name=""/>
          <p:cNvGraphicFramePr/>
          <p:nvPr/>
        </p:nvGraphicFramePr>
        <p:xfrm>
          <a:off x="1403280" y="1700280"/>
          <a:ext cx="6193080" cy="1950840"/>
        </p:xfrm>
        <a:graphic>
          <a:graphicData uri="http://schemas.openxmlformats.org/drawingml/2006/table">
            <a:tbl>
              <a:tblPr/>
              <a:tblGrid>
                <a:gridCol w="889200"/>
                <a:gridCol w="728640"/>
                <a:gridCol w="730080"/>
                <a:gridCol w="730440"/>
                <a:gridCol w="730080"/>
                <a:gridCol w="728640"/>
                <a:gridCol w="730440"/>
                <a:gridCol w="925560"/>
              </a:tblGrid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Se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Ag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Height 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Weigh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     </a:t>
                      </a: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t1   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     </a:t>
                      </a: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t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       </a:t>
                      </a: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t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6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8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Barbara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5.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9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2.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an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9.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84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ane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1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oyc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1.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0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1" name="Rectangle 139"/>
          <p:cNvSpPr/>
          <p:nvPr/>
        </p:nvSpPr>
        <p:spPr>
          <a:xfrm>
            <a:off x="1821600" y="400536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使用临时数组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92" name="Rectangle 144"/>
          <p:cNvSpPr/>
          <p:nvPr/>
        </p:nvSpPr>
        <p:spPr>
          <a:xfrm>
            <a:off x="1821600" y="126828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不用临时数组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93" name=""/>
          <p:cNvGraphicFramePr/>
          <p:nvPr/>
        </p:nvGraphicFramePr>
        <p:xfrm>
          <a:off x="1428840" y="4429080"/>
          <a:ext cx="4071960" cy="1951200"/>
        </p:xfrm>
        <a:graphic>
          <a:graphicData uri="http://schemas.openxmlformats.org/drawingml/2006/table">
            <a:tbl>
              <a:tblPr/>
              <a:tblGrid>
                <a:gridCol w="950760"/>
                <a:gridCol w="779400"/>
                <a:gridCol w="779760"/>
                <a:gridCol w="780840"/>
                <a:gridCol w="781200"/>
              </a:tblGrid>
              <a:tr h="24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Se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Ag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Height 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Weigh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6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8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Barbara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5.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9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2.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0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an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9.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84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ane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6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1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Joyc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1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1.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</a:rPr>
                        <a:t>50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初始值表示方法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57160" y="1714680"/>
            <a:ext cx="777240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组元素和初值通过对应位置来确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 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t1 t2 t3 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7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b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第一个语句数组元素的个数与初值的个数相同，把初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0,8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依次赋给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1,t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个语句分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1,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因数组元素比给出的初始值多，多余的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缺失值，而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将发布一个警告信息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213920" y="1785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6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义数组例句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rain{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} x1-x5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b(*)x y z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x[*]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_numeric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(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_temporary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7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ays{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} d1-d7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x{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}green red denato  fetzer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 (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 test1-test10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引用显式下标数组元素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285920" y="1714680"/>
            <a:ext cx="72388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凡是可用表达式的地方，都可以使用数组元素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2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下标引用数组元素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ew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qa1-qa10 qb1-qb1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qa1-qa5 qb1-qb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=  test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1 1 6 1 1 1 1 1 1 8 2 2 2 2 2 2 2 2 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输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a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b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，即数组元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st(4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引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a4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组元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st(6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引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b1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数组的定义仅在当前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有效。如果想在几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引用同一个数组，必须在每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中都定义这个数组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Text Box 4"/>
          <p:cNvSpPr/>
          <p:nvPr/>
        </p:nvSpPr>
        <p:spPr>
          <a:xfrm>
            <a:off x="1357200" y="1285920"/>
            <a:ext cx="6624720" cy="384084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1    data new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    input qa1-qa10 qb1-qb10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3    array test{10} qa1-qa5 qb1-qb5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    put test{4}=  test{6}=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5    card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qa4=6 qb1=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WORK.NEW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1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0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NOTE: “DATA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语句”所用时间（总处理时间）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实际时间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0.03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时间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0.01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7   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循环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DO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组中引用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857160" y="1928520"/>
            <a:ext cx="77724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3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规定数组元素的下标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组循环变量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day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 d1-d7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to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day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9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then day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数组元素的下标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于是循环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就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依次检查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值，并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99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改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0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3"/>
          <p:cNvSpPr/>
          <p:nvPr/>
        </p:nvSpPr>
        <p:spPr>
          <a:xfrm>
            <a:off x="1000080" y="1571760"/>
            <a:ext cx="678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4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规定数组的一些特殊元素作为循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范围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day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 d1-d7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中，处理数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中选定的一些特殊元素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/>
          </p:nvPr>
        </p:nvSpPr>
        <p:spPr>
          <a:xfrm>
            <a:off x="1285920" y="16426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6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循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里处理多个数组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ay(*)d1-d4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im(day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y(i)=day(i)+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循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里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得到数组中元素的个数。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上界时，这个上界会根据数组元素个数的实际情况自动调整，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上界的所有语句都不必改动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/>
          </p:nvPr>
        </p:nvSpPr>
        <p:spPr>
          <a:xfrm>
            <a:off x="1356840" y="164268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6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引用规定上下界的一维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rs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7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year76-year8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7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rs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rs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lbound(yrs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bound(yrs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rs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rs(i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两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是等价的。第二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BOU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取数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R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下界，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BOU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R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上界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累加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85880" y="157140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应用准则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变量的观测被读入之前，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达式的计算结果为缺失值时，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代替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达式可以使用比较算符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+(-B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必须的，不能写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-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/>
          </p:nvPr>
        </p:nvSpPr>
        <p:spPr>
          <a:xfrm>
            <a:off x="1428480" y="1500120"/>
            <a:ext cx="6429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67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引用规定上下界的两维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x60-x99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j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(i,j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i,j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lbound1(x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bound1(x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j= lbound2(x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bound2(x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(i,j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i,j)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DO WHILE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DO UNTIL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组引用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674028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 UNT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处理数组时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要创造循环变量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然后利用数组说明实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  UNT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条件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后使用程序语句来改变循环变量的值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 Box 2"/>
          <p:cNvSpPr/>
          <p:nvPr/>
        </p:nvSpPr>
        <p:spPr>
          <a:xfrm>
            <a:off x="1214280" y="1214280"/>
            <a:ext cx="3311640" cy="40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6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WH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用法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s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1-x5 y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x1-x5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(i)&lt;y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i)= y=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=i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2 3 4 5 3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2 4 6 8 6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10" name="Text Box 0"/>
          <p:cNvSpPr/>
          <p:nvPr/>
        </p:nvSpPr>
        <p:spPr>
          <a:xfrm>
            <a:off x="4929120" y="1143000"/>
            <a:ext cx="3743280" cy="447588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2  data test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3  input x1-x5 y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4  array t(5) x1-x5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5  i=1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6  do while (t(i)&lt;y)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7  put t(i)= y=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8  i=i+1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89  end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90  cards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x1=1 y=3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x2=2 y=3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x1=0 y=6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x2=2 y=6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x3=4 y=6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WORK.TEST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2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7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NOTE: “DATA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语句”所用时间（总处理时间）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1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93  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494  run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隐含下标数组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143000" y="1642680"/>
            <a:ext cx="723888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隐含下标数组由一个数组名字，一个下标变量和列表名组成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rray-name &lt;(index-variable)&gt;&lt;$&gt;&lt;length&g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rray-elements &lt;(initial-values)&gt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；</a:t>
            </a:r>
            <a:r>
              <a:rPr b="0" lang="en-US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13" name="Object 2"/>
          <p:cNvGraphicFramePr/>
          <p:nvPr/>
        </p:nvGraphicFramePr>
        <p:xfrm>
          <a:off x="1285920" y="3857760"/>
          <a:ext cx="6864480" cy="216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3857760"/>
                    <a:ext cx="686448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1258920" y="1412640"/>
            <a:ext cx="723888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6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义字符数组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x1 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$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2 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$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tem(j)$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x1-x10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定义字符数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前两个元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们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里定义了。其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元素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里用长度说明选项，给出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/>
          </p:nvPr>
        </p:nvSpPr>
        <p:spPr>
          <a:xfrm>
            <a:off x="1116000" y="1557360"/>
            <a:ext cx="723888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7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组成数组的元素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x1-x3) (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$8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 x4 x5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tem _character_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输入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$8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读字符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数值变量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使用特殊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haracter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能引入字符变量到数组中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变量或一个隐含下标数组可以是多个隐含数组的元素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引用隐含数组元素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13920" y="1785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7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引用隐含下标数组的元素时，要先设置下标变量，然后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使用数组名字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 x1-x10 y1-y1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(i) x1-x10 y1-y1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155 1 1 1 1 1 1 1 1 1 1 2 2 2 2 2 2 2 2 2 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输出隐含数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I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第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个元素值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4"/>
          <p:cNvSpPr/>
          <p:nvPr/>
        </p:nvSpPr>
        <p:spPr>
          <a:xfrm>
            <a:off x="1785960" y="1428840"/>
            <a:ext cx="5832360" cy="402120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4  data a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5  input id x1-x10 y1-y10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6  array big(i) x1-x10 y1-y10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7  i=11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8  put big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09  cards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NOTE: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数据集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WORK.A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有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个观测和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2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个变量。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NOTE: “DATA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语句”所用时间（总处理时间）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1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1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511  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1499760" y="1143000"/>
            <a:ext cx="7239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72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循环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中引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1-s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 s1-s5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arra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里没有规定下标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i_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使用自动变量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i_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作为下标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=s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95 .88 .57 .90 .6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95 .88 .57 .90 .6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95 .88 .57 .90 .6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95 .88 .57 .90 .6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每个变量值都乘以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00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1" name="矩形 2"/>
          <p:cNvSpPr/>
          <p:nvPr/>
        </p:nvSpPr>
        <p:spPr>
          <a:xfrm>
            <a:off x="5143680" y="3000240"/>
            <a:ext cx="3643200" cy="207180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    s1    s2    s3    s4    s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5    88    57    90    6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         95    88    57    90    6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         95    88    57    90    6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         95    88    57    90    6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1285920" y="1499760"/>
            <a:ext cx="733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.73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中引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w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 x1-x10 y1-y1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(i) x1-x10 y1-y1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等价于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o I=1 to 20;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其中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20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是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big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中元素的个数。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ig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将数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I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所有缺失值改为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3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语句等于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和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(keep=name height s_h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_h+heigh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(keep=name height s_h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_h=sum(s_h, height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这里的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0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可以省略，加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0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等于没加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_h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上面两段程序等价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107172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7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一个循环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引用多个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hre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1-f10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  f1-f100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  c1-c100;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数组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f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c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_I_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作为下标变量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pl-PL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v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;            </a:t>
            </a:r>
            <a:r>
              <a:rPr b="0" lang="pl-PL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等价于</a:t>
            </a:r>
            <a:r>
              <a:rPr b="0" lang="pl-PL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o _i_=1 to 100;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=(f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表示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o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循环执行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100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次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处理两个数组，这种情况要求数据有相同的元素和下标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/>
          </p:nvPr>
        </p:nvSpPr>
        <p:spPr>
          <a:xfrm>
            <a:off x="857160" y="785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75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将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6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改为用隐含下标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ou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1-x5 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 x1-x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I_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t&lt;y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= y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I_=_I_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3 4 5 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 2 4 6 8 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因一个隐含下标数组可以是其它隐含下标数组的元素，故允许有二维或更高维的隐含下标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/>
          </p:nvPr>
        </p:nvSpPr>
        <p:spPr>
          <a:xfrm>
            <a:off x="857160" y="92844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.76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一些数组作为另一些数组的元素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1 t1q1-t1q10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2 t2q1-t2q10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3 t3q1-t3q10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ns(k) test1-test3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1q1-t1q10 t2q1-t2q10 t3q1-t3q10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k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j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ns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ns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有一组数据，包括三组测验题，每组又有十个问题。每个学生的测验数据包括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个答案。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步使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可以把这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个答案中的缺失值改变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/>
          </p:nvPr>
        </p:nvSpPr>
        <p:spPr>
          <a:xfrm>
            <a:off x="785880" y="1000080"/>
            <a:ext cx="77724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77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处理上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s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s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由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est1, test2, test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维数相同，在内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规定的数组名可以是这三个数组名的任一个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只有当嵌套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引用的每个数组定义不同的下标变量时才能使用嵌套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GO TO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与语句标号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 T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使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跳到本程序步带有标号的语句继续往下执行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 T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和指定的目标语句必须在同一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 TO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O 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abel;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O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abel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规定语句标号来指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 T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目标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785880" y="114264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8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应用举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 @@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=x&lt;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o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k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; count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k: sumx+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7 2 12 24 2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u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U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仅对大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数计数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X+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每个观测都执行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5500800" y="1428840"/>
          <a:ext cx="2881080" cy="2682720"/>
        </p:xfrm>
        <a:graphic>
          <a:graphicData uri="http://schemas.openxmlformats.org/drawingml/2006/table">
            <a:tbl>
              <a:tblPr/>
              <a:tblGrid>
                <a:gridCol w="649080"/>
                <a:gridCol w="576360"/>
                <a:gridCol w="934920"/>
                <a:gridCol w="720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sum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4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7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@@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=x&lt;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k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; count+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k: sumx+x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2 7 2 12 24 2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UN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仅对大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数计数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UMX+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仅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之间的那些观测执行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5000760" y="2000160"/>
          <a:ext cx="3020760" cy="2683080"/>
        </p:xfrm>
        <a:graphic>
          <a:graphicData uri="http://schemas.openxmlformats.org/drawingml/2006/table">
            <a:tbl>
              <a:tblPr/>
              <a:tblGrid>
                <a:gridCol w="755640"/>
                <a:gridCol w="755640"/>
                <a:gridCol w="753840"/>
                <a:gridCol w="7556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sum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857160" y="500040"/>
            <a:ext cx="77724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9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上面两例中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-E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替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GO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 @@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r x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; count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+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7 2 12 24 2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 @@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r x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; count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umx+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7 2 12 24 2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标号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标号给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 TO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INK,  FI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的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HEADER=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FI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OF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位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statement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LINK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告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立即转到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指示的语句标号，并从那里继续执行直到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立即返回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后面的那个语句并从那里继续执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和语句标号所在的目标语句必须在同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INK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2" name="TextBox 4"/>
          <p:cNvSpPr/>
          <p:nvPr/>
        </p:nvSpPr>
        <p:spPr>
          <a:xfrm>
            <a:off x="1857240" y="2000160"/>
            <a:ext cx="5072040" cy="31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新細明體"/>
              </a:rPr>
              <a:t>Obs    Name       Height      s_h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新細明體"/>
              </a:rPr>
              <a:t>1         Alice       56.5       56.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新細明體"/>
              </a:rPr>
              <a:t>2      Barbara     65.3      121.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新細明體"/>
              </a:rPr>
              <a:t>3        Carol       62.8      184.6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新細明體"/>
              </a:rPr>
              <a:t>4        Jane        59.8      244.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新細明體"/>
              </a:rPr>
              <a:t>5        Janet       62.5      306.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新細明體"/>
              </a:rPr>
              <a:t>6        Joyce      51.3      358.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新細明體"/>
              </a:rPr>
              <a:t>7        Judy        64.3      422.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新細明體"/>
              </a:rPr>
              <a:t>8        Louise     56.3      478.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新細明體"/>
              </a:rPr>
              <a:t>9        Mary        66.5      545.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……                      …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3" name="TextBox 5"/>
          <p:cNvSpPr/>
          <p:nvPr/>
        </p:nvSpPr>
        <p:spPr>
          <a:xfrm>
            <a:off x="1071720" y="85716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结果如下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/>
          </p:nvPr>
        </p:nvSpPr>
        <p:spPr>
          <a:xfrm>
            <a:off x="999720" y="857160"/>
            <a:ext cx="7715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5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8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0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一组语句。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bydro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 $ wd station $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='station type' wd='depth to water'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lev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.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='aluy'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lin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calcu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year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985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alcu: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ion='site_1'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elev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665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-wd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ion='site_2'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elev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550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-wd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返回到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link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下面的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year=1985;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luv   523     site_1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uppa   234     site_2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luy   666     site_2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39" name=""/>
          <p:cNvGraphicFramePr/>
          <p:nvPr/>
        </p:nvGraphicFramePr>
        <p:xfrm>
          <a:off x="3857760" y="4572000"/>
          <a:ext cx="4897440" cy="1441440"/>
        </p:xfrm>
        <a:graphic>
          <a:graphicData uri="http://schemas.openxmlformats.org/drawingml/2006/table">
            <a:tbl>
              <a:tblPr/>
              <a:tblGrid>
                <a:gridCol w="581040"/>
                <a:gridCol w="828360"/>
                <a:gridCol w="747720"/>
                <a:gridCol w="995400"/>
                <a:gridCol w="746280"/>
                <a:gridCol w="998640"/>
              </a:tblGrid>
              <a:tr h="36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wd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statio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elev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yea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aluv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52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site_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98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uppa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3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site_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98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aluy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66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site_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483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98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/>
          </p:nvPr>
        </p:nvSpPr>
        <p:spPr>
          <a:xfrm>
            <a:off x="928440" y="713880"/>
            <a:ext cx="635796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LINK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执行的一组语句在程序中仅一次，这时用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组要简单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bydro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 $ wd station $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=</a:t>
            </a:r>
            <a:r>
              <a:rPr b="0" lang="en-US" sz="1900" spc="-1" strike="noStrike">
                <a:solidFill>
                  <a:srgbClr val="800080"/>
                </a:solidFill>
                <a:latin typeface="Times New Roman"/>
                <a:ea typeface="宋体"/>
              </a:rPr>
              <a:t>'station type'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wd=</a:t>
            </a:r>
            <a:r>
              <a:rPr b="0" lang="en-US" sz="1900" spc="-1" strike="noStrike">
                <a:solidFill>
                  <a:srgbClr val="800080"/>
                </a:solidFill>
                <a:latin typeface="Times New Roman"/>
                <a:ea typeface="宋体"/>
              </a:rPr>
              <a:t>'depth to water'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elev=</a:t>
            </a:r>
            <a:r>
              <a:rPr b="1" lang="en-US" sz="19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=</a:t>
            </a:r>
            <a:r>
              <a:rPr b="0" lang="en-US" sz="1900" spc="-1" strike="noStrike">
                <a:solidFill>
                  <a:srgbClr val="800080"/>
                </a:solidFill>
                <a:latin typeface="Times New Roman"/>
                <a:ea typeface="宋体"/>
              </a:rPr>
              <a:t>'ALUY'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ion=</a:t>
            </a:r>
            <a:r>
              <a:rPr b="0" lang="en-US" sz="1900" spc="-1" strike="noStrike">
                <a:solidFill>
                  <a:srgbClr val="800080"/>
                </a:solidFill>
                <a:latin typeface="Times New Roman"/>
                <a:ea typeface="宋体"/>
              </a:rPr>
              <a:t>'SITE_1'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elev=</a:t>
            </a:r>
            <a:r>
              <a:rPr b="1" lang="en-US" sz="1900" spc="-1" strike="noStrike">
                <a:solidFill>
                  <a:srgbClr val="008080"/>
                </a:solidFill>
                <a:latin typeface="Times New Roman"/>
                <a:ea typeface="宋体"/>
              </a:rPr>
              <a:t>665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-wd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ion=</a:t>
            </a:r>
            <a:r>
              <a:rPr b="0" lang="en-US" sz="1900" spc="-1" strike="noStrike">
                <a:solidFill>
                  <a:srgbClr val="800080"/>
                </a:solidFill>
                <a:latin typeface="Times New Roman"/>
                <a:ea typeface="宋体"/>
              </a:rPr>
              <a:t>'SITE_2'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elev=</a:t>
            </a:r>
            <a:r>
              <a:rPr b="1" lang="en-US" sz="1900" spc="-1" strike="noStrike">
                <a:solidFill>
                  <a:srgbClr val="008080"/>
                </a:solidFill>
                <a:latin typeface="Times New Roman"/>
                <a:ea typeface="宋体"/>
              </a:rPr>
              <a:t>55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-wd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year=</a:t>
            </a:r>
            <a:r>
              <a:rPr b="1" lang="en-US" sz="1900" spc="-1" strike="noStrike">
                <a:solidFill>
                  <a:srgbClr val="008080"/>
                </a:solidFill>
                <a:latin typeface="Times New Roman"/>
                <a:ea typeface="宋体"/>
              </a:rPr>
              <a:t>1985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ALUV   523     SITE_1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UPPA   234      SITE_2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ALUY   666      SITE_2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/>
          </p:nvPr>
        </p:nvSpPr>
        <p:spPr>
          <a:xfrm>
            <a:off x="1213920" y="713880"/>
            <a:ext cx="3929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5.81 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多次执行一组语句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id test1 $ test2 $ test3$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test=test1;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link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recode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test1=test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test=test2;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link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recode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test2=test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test=test3;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link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recode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test3=test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recode: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=</a:t>
            </a:r>
            <a:r>
              <a:rPr b="0" lang="en-US" sz="1900" spc="-1" strike="noStrike">
                <a:solidFill>
                  <a:srgbClr val="800080"/>
                </a:solidFill>
                <a:latin typeface="Times New Roman"/>
                <a:ea typeface="宋体"/>
              </a:rPr>
              <a:t>'E'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=</a:t>
            </a:r>
            <a:r>
              <a:rPr b="0" lang="en-US" sz="1900" spc="-1" strike="noStrike">
                <a:solidFill>
                  <a:srgbClr val="800080"/>
                </a:solidFill>
                <a:latin typeface="Times New Roman"/>
                <a:ea typeface="宋体"/>
              </a:rPr>
              <a:t>'F'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retur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  A  B   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  E  F   C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3  C  D   A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4  A  B   A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5  B  E   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2" name="矩形 3"/>
          <p:cNvSpPr/>
          <p:nvPr/>
        </p:nvSpPr>
        <p:spPr>
          <a:xfrm>
            <a:off x="4286160" y="4000680"/>
            <a:ext cx="4286520" cy="221436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Obs    id    test1    test2    test3    tes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      A        B        F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          2      F        F        C       C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3          3      C        D        A       A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4          4      A        B        A       A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5          5      B        F        F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785880" y="856800"/>
            <a:ext cx="77724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如果在程序中有需要数次执行一组语句，用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LINK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编写程序可以更简洁，而且容易理解， 如上例。但用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ARRAY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来编写这段程序还可以更简单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5.82 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用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ARRAY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编写上例程序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{</a:t>
            </a:r>
            <a:r>
              <a:rPr b="1" lang="en-US" sz="19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} $ test1-test3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id test1-test3 $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19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dim(test)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(i)=</a:t>
            </a:r>
            <a:r>
              <a:rPr b="0" lang="en-US" sz="1900" spc="-1" strike="noStrike">
                <a:solidFill>
                  <a:srgbClr val="800080"/>
                </a:solidFill>
                <a:latin typeface="Times New Roman"/>
                <a:ea typeface="宋体"/>
              </a:rPr>
              <a:t>'E'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(i)=</a:t>
            </a:r>
            <a:r>
              <a:rPr b="0" lang="en-US" sz="1900" spc="-1" strike="noStrike">
                <a:solidFill>
                  <a:srgbClr val="800080"/>
                </a:solidFill>
                <a:latin typeface="Times New Roman"/>
                <a:ea typeface="宋体"/>
              </a:rPr>
              <a:t>'F'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  A   B   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  E   F   C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3  C   D   A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4  A   B   A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5  B   E   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4" name="矩形 3"/>
          <p:cNvSpPr/>
          <p:nvPr/>
        </p:nvSpPr>
        <p:spPr>
          <a:xfrm>
            <a:off x="3929040" y="3929040"/>
            <a:ext cx="4286160" cy="221472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Obs    test1    test2    test3    id    I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       B        F       1    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             F        F        C       2    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        D        A       3    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          </a:t>
            </a: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A        B        A       4    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5             B        F        F       5    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STOP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停止处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。当遇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，正被处理的那个观测没有添加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上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.8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停止处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n_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to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OUTPUT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窗口照常打印数据集列表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从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lstkinf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读取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4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条观测，因为当指针标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_N_=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时，遇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正被处理的那条观测没有添加到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ABORT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止执行当前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，继续执行下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时，创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执行前已处理观测的数据集。但是，当新创建数据集和已存在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同名时，不能覆盖已存在的数据集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ABEND|RETURN&gt;|&lt;n&gt;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ABEND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选项说明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当前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业或会话不正常地结束。产生的结果依赖于执行的方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批处理方式和非交互方式下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2728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立即停止处理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2728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显示错误信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说明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E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终止程序执行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2728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执行任何相继的语句或检查句法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2728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返回到主机系统，进一步的运行根据用户的主机系统及本机是如何处理不正常作业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显示管理方式和交互行方式下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立即停止处理并返回到主机系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RETURN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选项说明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立即使当前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业或会话正常结束。产生的结果依赖于执行的方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批处理方式和非交互方式下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立即停止处理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显示错误信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说明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O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终程序执行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执行任何相继的语句或检查句法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一个条件码指示有错误地控制返回到主机系统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显示管理方式和交互行方式下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立即停止处理并返回到主机系统。 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N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选项说明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停止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返回到主机系统时，用户规定的条件码。即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BEN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任选项后面规定一个整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值的范围依赖于主机系统，必须是整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bort abend 25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bort return 25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当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两个选项都规定时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, 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终止这个作业，并随同规定条件码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返回到主机系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观测下面程序的运行结果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57160" y="1213920"/>
            <a:ext cx="77724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data a (keep=name height s_h)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et ResDat.class 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_h=sum(s_h, height,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0); /* </a:t>
            </a:r>
            <a:r>
              <a:rPr b="1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这里的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1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可以省略，加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0</a:t>
            </a:r>
            <a:r>
              <a:rPr b="1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等于没加 </a:t>
            </a:r>
            <a:r>
              <a:rPr b="1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/</a:t>
            </a:r>
            <a:r>
              <a:rPr b="1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/* retain s_h 0; */  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prin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data a (keep=name height s_h)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et ResDat.class 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_h=s_h+height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/* retain s_h 0; */  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prin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data a (keep=name height s_h)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et ResDat.class 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_h=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0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_h=s_h+height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/* retain s_h 0; */  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prin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8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显示管理方式下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bor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区别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不显示错误信息，当新创建数据集和已存在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同名时，能覆盖已存在的数据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n_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to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显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57" name=""/>
          <p:cNvGraphicFramePr/>
          <p:nvPr/>
        </p:nvGraphicFramePr>
        <p:xfrm>
          <a:off x="1428840" y="4429080"/>
          <a:ext cx="5072040" cy="1646280"/>
        </p:xfrm>
        <a:graphic>
          <a:graphicData uri="http://schemas.openxmlformats.org/drawingml/2006/table">
            <a:tbl>
              <a:tblPr/>
              <a:tblGrid>
                <a:gridCol w="5072040"/>
              </a:tblGrid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从数据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SDAT.LSTKINFO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读取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5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数据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ORK.A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有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和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9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变量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“DATA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所用时间（总处理时间）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实际时间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0.35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秒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PU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时间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0.01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秒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Text Box 4"/>
          <p:cNvSpPr/>
          <p:nvPr/>
        </p:nvSpPr>
        <p:spPr>
          <a:xfrm>
            <a:off x="1116000" y="1413000"/>
            <a:ext cx="69134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使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bor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时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LOG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窗口显示错误信息，当新创建数据集和已存在的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数据集同名时，不能覆盖已存在的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lstkinfo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n_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bo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Log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窗口显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59" name=""/>
          <p:cNvGraphicFramePr/>
          <p:nvPr/>
        </p:nvGraphicFramePr>
        <p:xfrm>
          <a:off x="1500120" y="3643200"/>
          <a:ext cx="6786720" cy="2443320"/>
        </p:xfrm>
        <a:graphic>
          <a:graphicData uri="http://schemas.openxmlformats.org/drawingml/2006/table">
            <a:tbl>
              <a:tblPr/>
              <a:tblGrid>
                <a:gridCol w="6786720"/>
              </a:tblGrid>
              <a:tr h="244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ERROR: ABORT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在行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51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列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5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终止了执行。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tkcd=000007 Lstknm=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深达声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A Lstdt=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……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SAS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系统由于错误而停止了该步的处理。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从数据集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SDAT.LSTKINFO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读取了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5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。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ARNING: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数据集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ORK.A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可能不完整。该步停止时，共有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和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9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变量。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ARNING: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数据集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ORK.A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由于该步已停止，而没有被替换。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“DATA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所用时间（总处理时间）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实际时间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0.01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秒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PU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时间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0.02 </a:t>
                      </a:r>
                      <a:r>
                        <a:rPr b="0" lang="zh-CN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秒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Text Box 4"/>
          <p:cNvSpPr/>
          <p:nvPr/>
        </p:nvSpPr>
        <p:spPr>
          <a:xfrm>
            <a:off x="1332000" y="1413000"/>
            <a:ext cx="655308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5.85  ABOR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语句防止输入无效数据时出错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input ssn  pay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if _error_ then abor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ard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111    1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aaa    2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44    3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proc pri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输出结果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61" name="矩形 3"/>
          <p:cNvSpPr/>
          <p:nvPr/>
        </p:nvSpPr>
        <p:spPr>
          <a:xfrm>
            <a:off x="2143080" y="5072040"/>
            <a:ext cx="2286000" cy="57168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bs    ssn    pay                  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1     111    100</a:t>
            </a:r>
            <a:r>
              <a:rPr b="0" lang="en-US" sz="900" spc="-1" strike="noStrike">
                <a:solidFill>
                  <a:srgbClr val="080808"/>
                </a:solidFill>
                <a:latin typeface="Times New Roman"/>
              </a:rPr>
              <a:t>            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REMOVE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用于删除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的观测，它可以执行物理也可以执行逻辑删除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必须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一起使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因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执行物理或逻辑删除，故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对所有数据操作都是有效的。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ELE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和子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两者结合，只能执行物理删除，因此对于一些特定的操作，不能用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data-set-name-1&gt;&lt;…data-set-name-n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64" name=""/>
          <p:cNvGraphicFramePr/>
          <p:nvPr/>
        </p:nvGraphicFramePr>
        <p:xfrm>
          <a:off x="1357200" y="5286240"/>
          <a:ext cx="5715000" cy="731880"/>
        </p:xfrm>
        <a:graphic>
          <a:graphicData uri="http://schemas.openxmlformats.org/drawingml/2006/table">
            <a:tbl>
              <a:tblPr/>
              <a:tblGrid>
                <a:gridCol w="1785960"/>
                <a:gridCol w="3929040"/>
              </a:tblGrid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没有选项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删除由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步命名数据集的所有观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-set-name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要删除当前观测的数据集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/>
          </p:nvPr>
        </p:nvSpPr>
        <p:spPr>
          <a:xfrm>
            <a:off x="785520" y="857160"/>
            <a:ext cx="77151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5.87 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从某个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中移走一个观测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accounts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acctnum credit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001 1500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002 4900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003 3000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accounts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modify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Accounts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acctnum=</a:t>
            </a:r>
            <a:r>
              <a:rPr b="1" lang="en-US" sz="1900" spc="-1" strike="noStrike">
                <a:solidFill>
                  <a:srgbClr val="008080"/>
                </a:solidFill>
                <a:latin typeface="Times New Roman"/>
                <a:ea typeface="宋体"/>
              </a:rPr>
              <a:t>100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Times New Roman"/>
                <a:ea typeface="宋体"/>
              </a:rPr>
              <a:t>remove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1" lang="en-US" sz="19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1900" spc="-1" strike="noStrike">
                <a:solidFill>
                  <a:srgbClr val="008000"/>
                </a:solidFill>
                <a:latin typeface="Times New Roman"/>
                <a:ea typeface="宋体"/>
              </a:rPr>
              <a:t>移走</a:t>
            </a:r>
            <a:r>
              <a:rPr b="1" lang="en-US" sz="1900" spc="-1" strike="noStrike">
                <a:solidFill>
                  <a:srgbClr val="008000"/>
                </a:solidFill>
                <a:latin typeface="Times New Roman"/>
                <a:ea typeface="宋体"/>
              </a:rPr>
              <a:t>acctnum=1002</a:t>
            </a:r>
            <a:r>
              <a:rPr b="1" lang="zh-CN" sz="1900" spc="-1" strike="noStrike">
                <a:solidFill>
                  <a:srgbClr val="008000"/>
                </a:solidFill>
                <a:latin typeface="Times New Roman"/>
                <a:ea typeface="宋体"/>
              </a:rPr>
              <a:t>的观测 </a:t>
            </a:r>
            <a:r>
              <a:rPr b="1" lang="zh-CN" sz="19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19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1000080" y="5000760"/>
          <a:ext cx="7072200" cy="1197000"/>
        </p:xfrm>
        <a:graphic>
          <a:graphicData uri="http://schemas.openxmlformats.org/drawingml/2006/table">
            <a:tbl>
              <a:tblPr/>
              <a:tblGrid>
                <a:gridCol w="7072200"/>
              </a:tblGrid>
              <a:tr h="119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从数据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ORK.ACCOUNTS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读取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数据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ORK. ACCOUNTS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已被更新。重写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，添加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并删除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 account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Edited Data Set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果显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8" name="矩形 3"/>
          <p:cNvSpPr/>
          <p:nvPr/>
        </p:nvSpPr>
        <p:spPr>
          <a:xfrm>
            <a:off x="1643040" y="2928960"/>
            <a:ext cx="4357800" cy="164304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Edited Data Se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Obs    acctnum    credi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80808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001      15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3       1003      30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/>
          </p:nvPr>
        </p:nvSpPr>
        <p:spPr>
          <a:xfrm>
            <a:off x="857160" y="142884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没有选项时，删除所有观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ccount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odif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ccount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1428840" y="3500280"/>
          <a:ext cx="5438520" cy="1279800"/>
        </p:xfrm>
        <a:graphic>
          <a:graphicData uri="http://schemas.openxmlformats.org/drawingml/2006/table">
            <a:tbl>
              <a:tblPr/>
              <a:tblGrid>
                <a:gridCol w="5438520"/>
              </a:tblGrid>
              <a:tr h="127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从数据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ORK.ACCOUNTS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读取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数据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ORK.ACCOUNTS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已被更新。重写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，添加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并删除了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1" name="矩形 4"/>
          <p:cNvSpPr/>
          <p:nvPr/>
        </p:nvSpPr>
        <p:spPr>
          <a:xfrm>
            <a:off x="1538280" y="5357880"/>
            <a:ext cx="31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REMOV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语句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IML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中有很多应用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REPLACE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PLAC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以互相独立地进行操作，两语句可以应用于相同的观测上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PLAC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替换主数据集相同物理位置上的观测，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输出观测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的结尾；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PLAC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必须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一起使用，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无此要求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PLAC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ata-set-nme-1&gt;&lt;...data-set-name-n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74" name=""/>
          <p:cNvGraphicFramePr/>
          <p:nvPr/>
        </p:nvGraphicFramePr>
        <p:xfrm>
          <a:off x="1143000" y="4929120"/>
          <a:ext cx="6215040" cy="1292400"/>
        </p:xfrm>
        <a:graphic>
          <a:graphicData uri="http://schemas.openxmlformats.org/drawingml/2006/table">
            <a:tbl>
              <a:tblPr/>
              <a:tblGrid>
                <a:gridCol w="1357200"/>
                <a:gridCol w="4857840"/>
              </a:tblGrid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没有选项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替换主数据集相同物理位置上的观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62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-set-name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要输出观测的数据集，并用它的观测替换主数据集相同物理位置上的观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/>
          </p:nvPr>
        </p:nvSpPr>
        <p:spPr>
          <a:xfrm>
            <a:off x="857160" y="107136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88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应用举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ste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id $ phonenum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evin 1100100   3750066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ndi 11000001  3756666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indy 11000002  6758966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im  11000003   6750088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ran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id $ phonenum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 1100100   8375006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 11000001  8375666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/>
          </p:nvPr>
        </p:nvSpPr>
        <p:spPr>
          <a:xfrm>
            <a:off x="857160" y="128556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ivan 21000001 83750387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ste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odif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ster tran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iorc_=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ysrc (_sok)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plac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i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在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master</a:t>
            </a:r>
            <a:r>
              <a:rPr b="1" i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中找到观测进行替代 </a:t>
            </a:r>
            <a:r>
              <a:rPr b="1" i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iorc_=%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ysrc (_dsenmr)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rror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_iorc_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maste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含有新电话号码的数据集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MASTE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4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达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X+X*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*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果加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上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(keep=date uss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ret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=(stkcd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000002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s+ Dret*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USS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为变量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ret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平方和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非缺失值的观测个数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80"/>
                </a:solidFill>
                <a:uFillTx/>
                <a:latin typeface="Times New Roman"/>
                <a:ea typeface="宋体"/>
              </a:rPr>
              <a:t>data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a(keep=nmis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se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ResDat.indcl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nmis+ csrciccd ^=</a:t>
            </a:r>
            <a:r>
              <a:rPr b="0" lang="en-US" sz="20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</a:rPr>
              <a:t>' '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80"/>
                </a:solidFill>
                <a:uFillTx/>
                <a:latin typeface="Times New Roman"/>
                <a:ea typeface="宋体"/>
              </a:rPr>
              <a:t>ru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MI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srcicc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非缺失值的观测个数，即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srcicc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好类股票的个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/>
          </p:nvPr>
        </p:nvSpPr>
        <p:spPr>
          <a:xfrm>
            <a:off x="857160" y="114300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用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TRANS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值更新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AST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电话号码，增加一个观测到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AST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结尾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YSRC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AST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每次试图重新得到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_IORC_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值，自动调用宏检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_IORC_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为自动变量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_iorc_=%</a:t>
            </a:r>
            <a:r>
              <a:rPr b="1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ysrc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(_sok)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表示已经导入观测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_iorc_=%</a:t>
            </a:r>
            <a:r>
              <a:rPr b="1" i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ysrc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(_dsenmr)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表示在主数据集中没能找到与修改数据集相应的观测。更多可参见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帮助文档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结果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8" name="矩形 3"/>
          <p:cNvSpPr/>
          <p:nvPr/>
        </p:nvSpPr>
        <p:spPr>
          <a:xfrm>
            <a:off x="1357200" y="3786120"/>
            <a:ext cx="6357960" cy="264312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含有新电话号码的数据集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Obs    name        id       phonenu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80808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Kevin    1100100     83750066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   Sandi    11000001    83756666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80808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indy    11000002     6758966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80808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Jim        11000003     675008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5    Vivan    21000001    83750387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MISSING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ISSI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缺失值的符号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读入含有缺失值的数据源时，必须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ISSI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否则可能产生读入错误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issing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charcter1…charctern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harcte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代表缺失值的字符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89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缺失值字符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eriod_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iss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I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d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Foodpr1 Foodpr2 Foodpr3 Coffeem1 Coffeem2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lin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1 115 45 65 I 7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2 86 27 55 72 86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4 93 52 X 76 8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15 73 35 43 112 10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27 101 127 39 76 79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ISSIN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用字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缺失值。如果不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ISSIN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，当读入数值变量的缺失值时（这里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就要产生错误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其它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857160" y="164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本节介绍语句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IST, CALL, NULL, ERROR, RETURN,CONTINU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EA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LIST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S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日志窗口上列出正被加工处理观测的输入数据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IS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被执行时，在列出的第一行记录之前，显示一条指示列数的标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ST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读入可疑数据行时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IS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 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 6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 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-1 2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-4 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8" name="Text Box 2"/>
          <p:cNvSpPr/>
          <p:nvPr/>
        </p:nvSpPr>
        <p:spPr>
          <a:xfrm>
            <a:off x="3357720" y="2714760"/>
            <a:ext cx="5398920" cy="319716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90  data a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291  input x y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292  if x&lt;0 then list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293  cards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RULE:      ----+----1----+----2----+----3----+----4----+----5----+----6-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296        -1 2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297        -4 6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NOTE: </a:t>
            </a:r>
            <a:r>
              <a:rPr b="0" lang="zh-TW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数据集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WORK.A </a:t>
            </a:r>
            <a:r>
              <a:rPr b="0" lang="zh-TW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有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4 </a:t>
            </a:r>
            <a:r>
              <a:rPr b="0" lang="zh-TW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个观测和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2 </a:t>
            </a:r>
            <a:r>
              <a:rPr b="0" lang="zh-TW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个变量。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NOTE: “DATA </a:t>
            </a:r>
            <a:r>
              <a:rPr b="0" lang="zh-TW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语句”所用时间（总处理时间）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: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      </a:t>
            </a:r>
            <a:r>
              <a:rPr b="0" lang="zh-TW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实际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0.00 </a:t>
            </a:r>
            <a:r>
              <a:rPr b="0" lang="zh-TW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CPU </a:t>
            </a:r>
            <a:r>
              <a:rPr b="0" lang="zh-TW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时间        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0.00 </a:t>
            </a:r>
            <a:r>
              <a:rPr b="0" lang="zh-TW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298  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299  run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89" name="Text Box 3"/>
          <p:cNvSpPr/>
          <p:nvPr/>
        </p:nvSpPr>
        <p:spPr>
          <a:xfrm>
            <a:off x="3635280" y="2349360"/>
            <a:ext cx="40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显示结果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CALL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AL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用于调用子程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all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outine (parameter-1&lt;…parameter-n&gt;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92" name="Object 2"/>
          <p:cNvGraphicFramePr/>
          <p:nvPr/>
        </p:nvGraphicFramePr>
        <p:xfrm>
          <a:off x="1219320" y="4572000"/>
          <a:ext cx="6095880" cy="77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0"/>
                    <a:ext cx="60958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包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的宏变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ymput 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text1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arch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march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赋给宏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text1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ymput 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beta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将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100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赋给宏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beta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9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发布操作系统命令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ystem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dir *.sas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发布和操作系统命令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ir *.sas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NULL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空语句是一个分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;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用于固定位置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用一个分号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或四个分号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;;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接受空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分号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表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后数据行的结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四个分号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;;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表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后数据行的结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虽然空语句没有执行动作，但它是可执行语句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空语句表示数据行结束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y z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t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nd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: 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2 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 1 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 5 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 3 9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在这个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步，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语句告诉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AS 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系统在这个作业流中，紧跟着的是数据行，当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遇到空语句（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;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）时，就知道数据行结束了。上例中的空语句也可以省略，因数据行后面第一个语句（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PRINT;</a:t>
            </a:r>
            <a:r>
              <a:rPr b="0" lang="en-US" sz="1600" spc="-1" strike="noStrike">
                <a:solidFill>
                  <a:srgbClr val="080808"/>
                </a:solidFill>
                <a:latin typeface="宋体"/>
                <a:ea typeface="宋体"/>
              </a:rPr>
              <a:t>）</a:t>
            </a: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中包含一个分号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8" name="矩形 4"/>
          <p:cNvSpPr/>
          <p:nvPr/>
        </p:nvSpPr>
        <p:spPr>
          <a:xfrm>
            <a:off x="4500720" y="2928960"/>
            <a:ext cx="2857320" cy="221472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输出窗口显示结果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Obs    y    z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1     2    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2     1    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3     5    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4     3    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6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P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日滑动平均线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+clpr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er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a (firstobs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name=(sum=sum_1)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5=(sum_1-sum)/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计算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P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日滑动平均值，体现了用简单方法处理复杂的问题的技巧。也可以用循环语句写相应程序，但程序的效率会很低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ERROR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RRO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置自动变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rror_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为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并有选择地输出用户规定的一段信息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记录窗口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RROR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message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101" name="Object 2"/>
          <p:cNvGraphicFramePr/>
          <p:nvPr/>
        </p:nvGraphicFramePr>
        <p:xfrm>
          <a:off x="1295280" y="4648320"/>
          <a:ext cx="4953240" cy="115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648320"/>
                    <a:ext cx="4953240" cy="11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RR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等价于下面一系列语句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赋值语句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RROR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LE 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一段信息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新的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重新设置前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LE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设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94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应用举例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type $ age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tee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 age 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rr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type and age don't match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ge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u teen 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 teen 1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indy adult 28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Box 5"/>
          <p:cNvSpPr/>
          <p:nvPr/>
        </p:nvSpPr>
        <p:spPr>
          <a:xfrm>
            <a:off x="1258920" y="1484280"/>
            <a:ext cx="360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窗口显示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06" name="矩形 3"/>
          <p:cNvSpPr/>
          <p:nvPr/>
        </p:nvSpPr>
        <p:spPr>
          <a:xfrm>
            <a:off x="1000080" y="1928880"/>
            <a:ext cx="7286760" cy="400032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1  data a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2  input name $ type $ age 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3  if type='teen' &amp; age &gt;19 then error "type and age don't match" +3 age=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4  cards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type and age don't match   age=20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RULE:      ----+----1----+----2----+----3----+----4----+----5----+----6----+----7----+----8----+----9----+----0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5        Wu teen 20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name=Wu type=teen age=20 _ERROR_=1 _N_=1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NOTE: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数据集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WORK.A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有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3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个观测和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3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个变量。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NOTE: “DATA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语句”所用时间（总处理时间）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实际时间    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0.01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CPU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时间    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0.01 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秒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8  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719  run;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/>
          </p:nvPr>
        </p:nvSpPr>
        <p:spPr>
          <a:xfrm>
            <a:off x="785880" y="928440"/>
            <a:ext cx="77724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type $ age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yp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tee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&amp; age 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type and age don't macth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ge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error_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u teen 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 teen 1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indy adult 28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上面程序与前一页程序结果相同。第一段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RR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，第二段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RROR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另外，可以通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改变输出错误信息的地点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RETURN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告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当前位置上停止执行语句，返回到一个预定位置上继续执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RETURN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的作用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后面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立即返回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N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后面的语句，并继续往下执行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选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EADER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立即返回到开始新页之前执行的最后一个语句后面的语句，并继续执行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的其它地方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返回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开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9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返回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开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urve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 y z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=y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y+z; a=x*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3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 3 4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 6 7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 8 9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/>
          </p:nvPr>
        </p:nvSpPr>
        <p:spPr>
          <a:xfrm>
            <a:off x="857160" y="114264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当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X=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TUR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被执行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添加这个观测到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URVE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并返回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开头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后面的二个赋值语句没有被执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1428840" y="3143160"/>
          <a:ext cx="6119640" cy="1687680"/>
        </p:xfrm>
        <a:graphic>
          <a:graphicData uri="http://schemas.openxmlformats.org/drawingml/2006/table">
            <a:tbl>
              <a:tblPr/>
              <a:tblGrid>
                <a:gridCol w="1224000"/>
                <a:gridCol w="1225440"/>
                <a:gridCol w="1220760"/>
                <a:gridCol w="1225440"/>
                <a:gridCol w="1224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y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z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a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2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16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80808"/>
                          </a:solidFill>
                          <a:latin typeface="宋体"/>
                          <a:ea typeface="新細明體"/>
                        </a:rPr>
                        <a:t>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/>
          </p:nvPr>
        </p:nvSpPr>
        <p:spPr>
          <a:xfrm>
            <a:off x="999720" y="785880"/>
            <a:ext cx="47862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97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让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返回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开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por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b c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x=a*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x&gt;b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12 3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 30 4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 22 7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 8 9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5" name="文本占位符 2"/>
          <p:cNvSpPr/>
          <p:nvPr/>
        </p:nvSpPr>
        <p:spPr>
          <a:xfrm>
            <a:off x="2428920" y="4286160"/>
            <a:ext cx="55008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中，在循环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组中应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UR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OUT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步从每个输入行产生多个观测形成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POR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。 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组中，当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X&lt;=B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输出观测到数据集，并继续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组。当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X&gt;B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时，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UR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返回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步开头处理新的观测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6" name=""/>
          <p:cNvGraphicFramePr/>
          <p:nvPr/>
        </p:nvGraphicFramePr>
        <p:xfrm>
          <a:off x="2286000" y="1143000"/>
          <a:ext cx="3798720" cy="4743360"/>
        </p:xfrm>
        <a:graphic>
          <a:graphicData uri="http://schemas.openxmlformats.org/drawingml/2006/table">
            <a:tbl>
              <a:tblPr/>
              <a:tblGrid>
                <a:gridCol w="633240"/>
                <a:gridCol w="632160"/>
                <a:gridCol w="633240"/>
                <a:gridCol w="633600"/>
                <a:gridCol w="633240"/>
                <a:gridCol w="633240"/>
              </a:tblGrid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Ob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x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ax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0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2962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5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56760" y="856800"/>
            <a:ext cx="9001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观测的选择与输出（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IF WHERE DELETE OUTPUT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 </a:t>
            </a: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语句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1000080" y="2000160"/>
            <a:ext cx="7238880" cy="40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IF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两种类型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条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，含有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HE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子句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L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子句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子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，没有子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IF-THEN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与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IF-THEN/ELSE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表达式为真时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THE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后面的语句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,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表达式为假时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ELS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后面的语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express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expression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&lt;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ELSE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 expression;&gt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CONTINUE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TINU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停止当前的这次循环过程，继续进行下一次循环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ONTINUE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785520" y="1285560"/>
            <a:ext cx="77151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98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TINU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停止当前的循环过程，继续进行下一次循环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idno status $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us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P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ontin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返回到下次循环的开头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enefits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10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713880" y="356760"/>
            <a:ext cx="200052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接上页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ones 9011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omas 876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ichards 1002 F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ye/Dent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elly 85111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mith 433 F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MO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elly 85111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mith 433 F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MO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ones 9011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omas 876 P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ichards 1002 F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ye/Dent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123" name=""/>
          <p:cNvGraphicFramePr/>
          <p:nvPr/>
        </p:nvGraphicFramePr>
        <p:xfrm>
          <a:off x="2786040" y="3571920"/>
          <a:ext cx="5643720" cy="2038320"/>
        </p:xfrm>
        <a:graphic>
          <a:graphicData uri="http://schemas.openxmlformats.org/drawingml/2006/table">
            <a:tbl>
              <a:tblPr/>
              <a:tblGrid>
                <a:gridCol w="941400"/>
                <a:gridCol w="487440"/>
                <a:gridCol w="1143000"/>
                <a:gridCol w="714240"/>
                <a:gridCol w="928800"/>
                <a:gridCol w="1428840"/>
              </a:tblGrid>
              <a:tr h="682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Ob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i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idno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enefit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82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ichard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ye/Denta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mith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3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HMO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7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mith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3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HMO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82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ichard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Eye/Dental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1124" name="Rectangle 1"/>
          <p:cNvSpPr/>
          <p:nvPr/>
        </p:nvSpPr>
        <p:spPr>
          <a:xfrm>
            <a:off x="4514400" y="-321120"/>
            <a:ext cx="115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LEAVE 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EAVE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停止当前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循环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的处理过程，并继续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后面的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LEA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99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给定条件下停止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循环的处理过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week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idno start status $ dept $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onus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ear=start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99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onus ge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a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onus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Text Box 2"/>
          <p:cNvSpPr/>
          <p:nvPr/>
        </p:nvSpPr>
        <p:spPr>
          <a:xfrm>
            <a:off x="1071720" y="1214280"/>
            <a:ext cx="716256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接上页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Jones 9011 1990 PT PUB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mas 876 1976 PT HR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nes 7899 1991 ft tech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rell 1250 1975 ft hr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chards 1002 1990 ft dev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lly 85 1981 pt pub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ne 091 1990 pt mait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中，首先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检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，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超过允许的最大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V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来停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循环的处理过程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9" name=""/>
          <p:cNvGraphicFramePr/>
          <p:nvPr/>
        </p:nvGraphicFramePr>
        <p:xfrm>
          <a:off x="714240" y="1784520"/>
          <a:ext cx="7358040" cy="3001680"/>
        </p:xfrm>
        <a:graphic>
          <a:graphicData uri="http://schemas.openxmlformats.org/drawingml/2006/table">
            <a:tbl>
              <a:tblPr/>
              <a:tblGrid>
                <a:gridCol w="919440"/>
                <a:gridCol w="1009440"/>
                <a:gridCol w="830160"/>
                <a:gridCol w="920880"/>
                <a:gridCol w="919080"/>
                <a:gridCol w="919440"/>
                <a:gridCol w="920520"/>
                <a:gridCol w="919080"/>
              </a:tblGrid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Ob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idno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tar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ep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onu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yea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Jone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01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UB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homa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7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7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H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8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Barne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89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tech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Harrel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h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8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0372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Richard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f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dev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Kelly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8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ub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5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0360"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Ston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p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mai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58320" rIns="58320" tIns="58320" bIns="58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288"/>
                          </a:solidFill>
                          <a:latin typeface="黑体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1130" name="Rectangle 1"/>
          <p:cNvSpPr/>
          <p:nvPr/>
        </p:nvSpPr>
        <p:spPr>
          <a:xfrm>
            <a:off x="4514400" y="-321120"/>
            <a:ext cx="115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LEAVE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与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CONTINUE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的差别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714240" y="185724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EAVE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使得当前的循环过程结束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ONTINU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停止当前的这次循环过程，继续进行下一次循环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EAV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以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循环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一起使用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ONTINU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只能用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循环中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57160" y="356760"/>
            <a:ext cx="77724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黑体"/>
              </a:rPr>
              <a:t>5.7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应用举例。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x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ele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us=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OK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type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count+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 ne agecheck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ele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x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y ne 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x zero, y nozero'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s-E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x zero, y zero'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x nozero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ns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s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宋体"/>
              </a:rPr>
              <a:t>'invalid answer for 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id=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当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IF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条件不成立时，执行下面另一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DO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组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s=ans1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valid+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子集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IF</a:t>
            </a:r>
            <a:r>
              <a:rPr b="0" lang="zh-CN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14240" y="1499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任意有效的表达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如果表达式是真的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对正被创建的观测继续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语句。如果表达式是假的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立即返回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开始对其他观测执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i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85880" y="1571760"/>
            <a:ext cx="75009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基本语句（赋值、累加）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观测的选择与输出（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IF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DELET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）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属性控制（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LENGTH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）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及循环控制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控制语句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数组（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ARRAY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）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GOTO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与语句标号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LINK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与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ABORT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REMOV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与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REPLAC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MISSING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其它语句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(LIST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CALL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NULL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ERROR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RETURN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、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CONTINU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与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LEAVE</a:t>
            </a:r>
            <a:r>
              <a:rPr b="0" lang="zh-CN" sz="17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）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Box 5"/>
          <p:cNvSpPr/>
          <p:nvPr/>
        </p:nvSpPr>
        <p:spPr>
          <a:xfrm>
            <a:off x="1214280" y="150012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5.8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应用举例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Idx00000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_n_&lt;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1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中，选择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99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条观测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6" name="矩形 3"/>
          <p:cNvSpPr/>
          <p:nvPr/>
        </p:nvSpPr>
        <p:spPr>
          <a:xfrm>
            <a:off x="1143000" y="4286160"/>
            <a:ext cx="65721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从数据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ESDAT.IDX000001.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读取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3891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观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数据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WORK.A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有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99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观测和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/>
          </p:nvPr>
        </p:nvSpPr>
        <p:spPr>
          <a:xfrm>
            <a:off x="500040" y="571680"/>
            <a:ext cx="3043440" cy="42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WHERE</a:t>
            </a:r>
            <a:r>
              <a:rPr b="0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语句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42960" y="1714320"/>
            <a:ext cx="785808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读入数据集之前选择观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是在执行数据集连接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并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更新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修改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DIF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之前进行的操作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时，因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只从输入数据集中读入满足条件的观测，所以这样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更有效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不是可执行语句，它起不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-TH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作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65721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</a:t>
            </a:r>
            <a:endParaRPr b="1" i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071360" y="1285920"/>
            <a:ext cx="5143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 where-expression;</a:t>
            </a:r>
            <a:br>
              <a:rPr sz="2000"/>
            </a:b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仅用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表达式的特殊算符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21" name="Object 6"/>
          <p:cNvGraphicFramePr/>
          <p:nvPr/>
        </p:nvGraphicFramePr>
        <p:xfrm>
          <a:off x="1187280" y="2637000"/>
          <a:ext cx="6740640" cy="233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637000"/>
                    <a:ext cx="674064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3"/>
          <p:cNvSpPr/>
          <p:nvPr/>
        </p:nvSpPr>
        <p:spPr>
          <a:xfrm>
            <a:off x="928800" y="1285920"/>
            <a:ext cx="7315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.9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BETWEEN-AN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算符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IS MISSING|IS NUL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算符例句。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stocd between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600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6008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axes between salary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0.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salary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0.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axes not between salary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0.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salary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0.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dnum is missing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计算缺失值数目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 is 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符的两个特殊模式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百分号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可以替代任意多个字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a59a5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下划线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正好有一个字符与之匹配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进行比较时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符识别大写和小写之间的字符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3"/>
          <p:cNvSpPr/>
          <p:nvPr/>
        </p:nvSpPr>
        <p:spPr>
          <a:xfrm>
            <a:off x="1143000" y="142884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设有名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n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nth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an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符来选择第一个字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名字时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符的不同选择模式与结果如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D_a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选择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Dyan   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D__an_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没有名子被选上 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D_an__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 Diana, Diane, Dianna, Dyan 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D_an%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上述列表的所有名字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Not like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D_an%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没有名子被选上 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3"/>
          <p:cNvSpPr/>
          <p:nvPr/>
        </p:nvSpPr>
        <p:spPr>
          <a:xfrm>
            <a:off x="1071720" y="1500120"/>
            <a:ext cx="7238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condition-1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SAME AND condition -2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HERE SAME AND condition-n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选择除满足上述定义的条件外，还满足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-A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算符后列出条件的观测。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6" name="矩形 3"/>
          <p:cNvSpPr/>
          <p:nvPr/>
        </p:nvSpPr>
        <p:spPr>
          <a:xfrm>
            <a:off x="852840" y="78588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SAME AND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算符的形式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文本占位符 3"/>
          <p:cNvSpPr/>
          <p:nvPr/>
        </p:nvSpPr>
        <p:spPr>
          <a:xfrm>
            <a:off x="857160" y="1071720"/>
            <a:ext cx="711540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1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使用算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AME-A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来增加较多的从句到程序中已有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后面，而不需要重新打入原来的从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gplo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=ResDat.Idx000001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p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clpr*date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year(date)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99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same and year(date)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20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qu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828" name="图片 4" descr="00.bmp"/>
          <p:cNvPicPr/>
          <p:nvPr/>
        </p:nvPicPr>
        <p:blipFill>
          <a:blip r:embed="rId1"/>
          <a:stretch/>
        </p:blipFill>
        <p:spPr>
          <a:xfrm>
            <a:off x="3286080" y="3571920"/>
            <a:ext cx="47577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12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数值变量非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非缺失的观测值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and y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/y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5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.13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字符变量非缺失的观测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^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  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 is not missing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字符变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能单独地作为逻辑表达式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14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一定范围内的观测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between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=x&lt;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5.15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其中一个观测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 x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(1, 2, 3, 4, 5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857160" y="99972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1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能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情况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n_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错误语句，必须用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if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提示如下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_n_&l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/*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正确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不能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WHER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控制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自动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n_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2" name="圆角矩形 3"/>
          <p:cNvSpPr/>
          <p:nvPr/>
        </p:nvSpPr>
        <p:spPr>
          <a:xfrm>
            <a:off x="1357200" y="3143160"/>
            <a:ext cx="62866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3" name="矩形 4"/>
          <p:cNvSpPr/>
          <p:nvPr/>
        </p:nvSpPr>
        <p:spPr>
          <a:xfrm>
            <a:off x="1428840" y="3214800"/>
            <a:ext cx="6286320" cy="42840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RROR: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变量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n_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不在文件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SDAT.IDX000001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中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DELETE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语句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0009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ELE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停止处理当前观测，该观测值不被读入到创建的数据集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返回到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开头处理其他观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492912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基本语句（赋值 累加）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785520" y="1285920"/>
            <a:ext cx="175716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赋值语句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7" name="矩形 6"/>
          <p:cNvSpPr/>
          <p:nvPr/>
        </p:nvSpPr>
        <p:spPr>
          <a:xfrm>
            <a:off x="857160" y="22147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=expression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将表达式结果赋予一个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78" name="Object 2"/>
          <p:cNvGraphicFramePr/>
          <p:nvPr/>
        </p:nvGraphicFramePr>
        <p:xfrm>
          <a:off x="1447920" y="4116240"/>
          <a:ext cx="6248160" cy="110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116240"/>
                    <a:ext cx="624816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1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删除部分观测值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删除数据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SD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ktype=’B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观测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日志中信息如下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8" name="矩形 3"/>
          <p:cNvSpPr/>
          <p:nvPr/>
        </p:nvSpPr>
        <p:spPr>
          <a:xfrm>
            <a:off x="1214280" y="4643280"/>
            <a:ext cx="6572520" cy="1000440"/>
          </a:xfrm>
          <a:prstGeom prst="rect">
            <a:avLst/>
          </a:prstGeom>
          <a:solidFill>
            <a:srgbClr val="f2f2f2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NOTE: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从数据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RESDAT.LSTKINFO.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读取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30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观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NOTE: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数据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WORK.STKA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有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20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观测和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19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1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空数据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删除数据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所有观测值，即清空数据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设计复杂程序时，常会用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这种用法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志中信息如下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1" name="矩形 3"/>
          <p:cNvSpPr/>
          <p:nvPr/>
        </p:nvSpPr>
        <p:spPr>
          <a:xfrm>
            <a:off x="1285920" y="4929120"/>
            <a:ext cx="6429240" cy="1000080"/>
          </a:xfrm>
          <a:prstGeom prst="rect">
            <a:avLst/>
          </a:prstGeom>
          <a:solidFill>
            <a:srgbClr val="f2f2f2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NOTE: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从数据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RESDAT.LSTKINFO.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读取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30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观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NOTE: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数据集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WORK.A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有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0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观测和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19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个变量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OUTPUT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宋体"/>
              </a:rPr>
              <a:t>语句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输出当前的观测到被创建的数据集中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a-set-name-1&gt; &lt;…data-set-name-n&gt;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44" name="Object 4"/>
          <p:cNvGraphicFramePr/>
          <p:nvPr/>
        </p:nvGraphicFramePr>
        <p:xfrm>
          <a:off x="928800" y="3071880"/>
          <a:ext cx="6143400" cy="83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3071880"/>
                    <a:ext cx="6143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" name="TextBox 4"/>
          <p:cNvSpPr/>
          <p:nvPr/>
        </p:nvSpPr>
        <p:spPr>
          <a:xfrm>
            <a:off x="1000080" y="4214880"/>
            <a:ext cx="6357960" cy="16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UT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的作用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由一个输入数据行创建多个观测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由一个输入数据文件创建多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据集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由几个输入数据行合并为一个观测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56800" y="1214280"/>
            <a:ext cx="47149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.19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由一个输入数据行创建多个观测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ID $ score1- score3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score1- score3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core=score1;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core=score2;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core=score3;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2126  99  96  94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2128  89  90  88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每一行记录生成三个观测。每个新观测将包括代号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ID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和一次测验值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CORE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49" name=""/>
          <p:cNvGraphicFramePr/>
          <p:nvPr/>
        </p:nvGraphicFramePr>
        <p:xfrm>
          <a:off x="5786280" y="2571840"/>
          <a:ext cx="2376720" cy="2232000"/>
        </p:xfrm>
        <a:graphic>
          <a:graphicData uri="http://schemas.openxmlformats.org/drawingml/2006/table">
            <a:tbl>
              <a:tblPr/>
              <a:tblGrid>
                <a:gridCol w="2376720"/>
              </a:tblGrid>
              <a:tr h="2232000">
                <a:tc>
                  <a:txBody>
                    <a:bodyPr lIns="180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bs     ID      scor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     02126      99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     02126      96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     02126      9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4     02128      89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5     02128      9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6     02128      88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0722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.20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创建多个数据集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stk Bstk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stk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stk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一个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创建两个数据集。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Astk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包含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ktype=’A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所有观测；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stk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包含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tktype=’B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所有观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/>
          </p:nvPr>
        </p:nvSpPr>
        <p:spPr>
          <a:xfrm>
            <a:off x="714240" y="999720"/>
            <a:ext cx="7772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5.21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一个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步创建多个数据集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1 age2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age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 &lt;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宋体"/>
              </a:rPr>
              <a:t>1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1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age2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lice   13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Gail    14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ary    15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andy   11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hilip   16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obert   12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omas   11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William   15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一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步创建两个数据集。数据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GE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包含变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GE&lt;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所有观测，数据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GE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包含变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GE&gt;=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所有观测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title"/>
          </p:nvPr>
        </p:nvSpPr>
        <p:spPr>
          <a:xfrm>
            <a:off x="428760" y="49968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/>
          </p:nvPr>
        </p:nvSpPr>
        <p:spPr>
          <a:xfrm>
            <a:off x="785880" y="1213920"/>
            <a:ext cx="79293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2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计算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stkinf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两类不同股票的数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s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ResDat.lstkinfo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stkinfo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firs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um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um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kee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 num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ast.stktyp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由几个记录组合信息，分别计算数据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stkinf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中两类不同股票的数目。这个例子很有用，从这里也认识了自动变量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irst. stktype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ast. stktyp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使用方法。数据处理时用这个语句会很省力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5429160" y="4071960"/>
          <a:ext cx="2500560" cy="785880"/>
        </p:xfrm>
        <a:graphic>
          <a:graphicData uri="http://schemas.openxmlformats.org/drawingml/2006/table">
            <a:tbl>
              <a:tblPr/>
              <a:tblGrid>
                <a:gridCol w="2500560"/>
              </a:tblGrid>
              <a:tr h="1460520">
                <a:tc>
                  <a:txBody>
                    <a:bodyPr lIns="68760" rIns="68760" tIns="0" bIns="0" anchor="t">
                      <a:noAutofit/>
                    </a:bodyPr>
                    <a:p>
                      <a:pPr marL="28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Obs    Stktype    Num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28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1        A        2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284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2        B        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7" name="TextBox 5"/>
          <p:cNvSpPr/>
          <p:nvPr/>
        </p:nvSpPr>
        <p:spPr>
          <a:xfrm>
            <a:off x="5618520" y="3571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统计结果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结果相同：思考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F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条件语句的应用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713880" y="1285920"/>
            <a:ext cx="7929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stkinfo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firs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um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um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stkinfo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firs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typ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um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/*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这句与前段不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lse Num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/*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这句与前段不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变量属性控制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57160" y="185724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把输入格式与变量联系起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variables &lt;informat&gt;&lt;DEFAULT=default-informat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2" name="矩形 3"/>
          <p:cNvSpPr/>
          <p:nvPr/>
        </p:nvSpPr>
        <p:spPr>
          <a:xfrm>
            <a:off x="952920" y="1285920"/>
            <a:ext cx="26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FORMAT</a:t>
            </a:r>
            <a:r>
              <a:rPr b="0" lang="zh-CN" sz="2800" spc="-1" strike="noStrike">
                <a:solidFill>
                  <a:srgbClr val="003399"/>
                </a:solidFill>
                <a:latin typeface="Times New Roman"/>
              </a:rPr>
              <a:t>语句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63" name="Object 2"/>
          <p:cNvGraphicFramePr/>
          <p:nvPr/>
        </p:nvGraphicFramePr>
        <p:xfrm>
          <a:off x="1500120" y="3643200"/>
          <a:ext cx="5191200" cy="97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3643200"/>
                    <a:ext cx="51912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矩形 5"/>
          <p:cNvSpPr/>
          <p:nvPr/>
        </p:nvSpPr>
        <p:spPr>
          <a:xfrm>
            <a:off x="928800" y="4857840"/>
            <a:ext cx="7215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选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可以出现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语句中的任何位置，仅适用于当前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步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没有规定临时的缺省输入格式时，使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系统规定的缺省输入格式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/>
          </p:nvPr>
        </p:nvSpPr>
        <p:spPr>
          <a:xfrm>
            <a:off x="714240" y="928440"/>
            <a:ext cx="77724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3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临时的缺省输入格式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fault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.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fault=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char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1-x5 name $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1-x5 nam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1 22 33 44 100 johnn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提交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输出显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列出的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1-X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没有规定输入格式，那么使用这里规定的缺省输入格式，即用格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1-X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格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ar4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7" name="矩形 3"/>
          <p:cNvSpPr/>
          <p:nvPr/>
        </p:nvSpPr>
        <p:spPr>
          <a:xfrm>
            <a:off x="857160" y="4143240"/>
            <a:ext cx="4071960" cy="35748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.1  2.2  3.3  4.4  10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785520" y="857160"/>
            <a:ext cx="74674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1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赋值语句举例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esdat.class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=_N_;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rror=_error_;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_s=first.sex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st_s=last.sex;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a+b;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规定新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它是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和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=sum(of x1-x5);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规定数组元素，它的值是一函数值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=a+b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规定一个已经存在的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它的值为原来值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之和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857160" y="1142640"/>
            <a:ext cx="77868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取消已存在的输入格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nform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删除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输入格式。这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次序是重要的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放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前面就不能删除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输入格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Picture 2050" descr=""/>
          <p:cNvPicPr/>
          <p:nvPr/>
        </p:nvPicPr>
        <p:blipFill>
          <a:blip r:embed="rId1"/>
          <a:srcRect l="53468" t="13673" r="391" b="11134"/>
          <a:stretch/>
        </p:blipFill>
        <p:spPr>
          <a:xfrm>
            <a:off x="2786040" y="785880"/>
            <a:ext cx="4441680" cy="5429160"/>
          </a:xfrm>
          <a:prstGeom prst="rect">
            <a:avLst/>
          </a:prstGeom>
          <a:ln w="0">
            <a:noFill/>
          </a:ln>
        </p:spPr>
      </p:pic>
      <p:sp>
        <p:nvSpPr>
          <p:cNvPr id="870" name="TextBox 2"/>
          <p:cNvSpPr/>
          <p:nvPr/>
        </p:nvSpPr>
        <p:spPr>
          <a:xfrm>
            <a:off x="500040" y="9288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右图显示已删除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dat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格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图片 1" descr=""/>
          <p:cNvPicPr/>
          <p:nvPr/>
        </p:nvPicPr>
        <p:blipFill>
          <a:blip r:embed="rId1"/>
          <a:srcRect l="24383" t="13721" r="11686" b="20467"/>
          <a:stretch/>
        </p:blipFill>
        <p:spPr>
          <a:xfrm>
            <a:off x="1857240" y="2428920"/>
            <a:ext cx="6000840" cy="4143240"/>
          </a:xfrm>
          <a:prstGeom prst="rect">
            <a:avLst/>
          </a:prstGeom>
          <a:ln w="0">
            <a:noFill/>
          </a:ln>
        </p:spPr>
      </p:pic>
      <p:sp>
        <p:nvSpPr>
          <p:cNvPr id="872" name="TextBox 2"/>
          <p:cNvSpPr/>
          <p:nvPr/>
        </p:nvSpPr>
        <p:spPr>
          <a:xfrm>
            <a:off x="785880" y="857160"/>
            <a:ext cx="70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未去除格式举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idx00000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/*informat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语句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语句前，未能去除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格式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785520" y="7855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FORMAT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071720" y="157176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s &lt;format&gt;&lt;DEFAULT=default-format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出现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M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的任何位置，仅适用于当前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没有规定临时的缺省输出格式时，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规定的缺省输入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75" name="Object 4"/>
          <p:cNvGraphicFramePr/>
          <p:nvPr/>
        </p:nvGraphicFramePr>
        <p:xfrm>
          <a:off x="1763640" y="3141720"/>
          <a:ext cx="6193080" cy="116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141720"/>
                    <a:ext cx="619308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1000080" y="1285560"/>
            <a:ext cx="7238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临时的缺省输出格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w $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.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fault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fault=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$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good morning.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good morning.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2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z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2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w/x/y/z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提交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输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o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good mor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2.1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2.1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928800" y="107172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26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自定义的格式输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forma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fmt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male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female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l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sex @@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sexfm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ane 2 bill 1 cindy 2 helen 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定义输出格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XFM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中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把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XFM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同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X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联系起来。当以后用一些过程输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X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值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A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EMA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替代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被输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9" name="矩形 7"/>
          <p:cNvSpPr/>
          <p:nvPr/>
        </p:nvSpPr>
        <p:spPr>
          <a:xfrm>
            <a:off x="5786280" y="2643120"/>
            <a:ext cx="2500560" cy="150012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bs    name      sex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jane       femal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bill         mal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indy     femal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helen    femal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/>
          </p:nvPr>
        </p:nvSpPr>
        <p:spPr>
          <a:xfrm>
            <a:off x="1285920" y="12859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日期时间变量的输出格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 bdate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date7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date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worddat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immy 15jan84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indy 03mar8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如果没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表示日期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的值将用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960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年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月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日和日期值之间的天数输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因此，对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日期时间值变量，必须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M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对变量指定相应的日期时间输出格式，这样才能便于理解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ext Box 4"/>
          <p:cNvSpPr/>
          <p:nvPr/>
        </p:nvSpPr>
        <p:spPr>
          <a:xfrm>
            <a:off x="1619280" y="2133720"/>
            <a:ext cx="4968720" cy="126936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bs    name          bdat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1         jimmy    January 15, 198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         cindy       March 3, 198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57160" y="499680"/>
            <a:ext cx="74678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LENGTH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于规定存贮变量值的字节长度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variable-specification-1 &lt;… variable-specification-n&gt;&g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EFAULT=n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-specifica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变量说明项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FAULT=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新创建数值变量值的缺省字节长度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改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值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6286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variable-specification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的格式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60020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变量说明项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-1&lt;…variable-n&gt;&lt;$&gt;length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相关选项说明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86" name="Object 2"/>
          <p:cNvGraphicFramePr/>
          <p:nvPr/>
        </p:nvGraphicFramePr>
        <p:xfrm>
          <a:off x="1600200" y="3505320"/>
          <a:ext cx="6629400" cy="170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505320"/>
                    <a:ext cx="6629400" cy="17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1428480" y="1356840"/>
            <a:ext cx="30430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结果显示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1500120" y="2000160"/>
            <a:ext cx="680868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s   Name         Sex    Age    Height    Weight     n    error    first_s    last_s                        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ce          F      13       56.5       84.0     1      0         1          0                         2    Barbara      F      13       65.3       98.0     2      0         0          0                         3    Carol         F      14       62.8      102.5     3      0         0          0                         4    Jane           F      12       59.8       84.5     4      0         0          0                         5    Janet         F      15       62.5      112.5     5      0         0          0                         6    Joyce        F      11       51.3       50.5      6      0         0          0                         7    Judy          F      14       64.3       90.0      7      0         0          0                         8    Louise       F      12       56.3       77.0     8      0         0          0                         9    Mary         F      15       66.5      112.0    9      0         0          1                        10    Alfred     M      14      69.0      112.5    10    0         1          0                       11    Henry      M      14     63.5      102.5    11    0         0          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…                         …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数值变量长度控制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599840" y="220932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中数值变量的存贮长度一般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然而很多值可以用小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的长度准确地表示。当数据集很大时，使用小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长度来存贮不需要很精确的值时，可以有效地减少外部存贮的要求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截短数据时，可能会引起误差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1285560" y="928440"/>
            <a:ext cx="7086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8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截短数据引起的误差问题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on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b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leng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defa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4   6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2   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1   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3   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3   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.3   6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2.0   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two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on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1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数据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W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没有观测。因为，第二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步的子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的常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.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表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而数据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N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变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只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因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会等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.3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字符变量长度控制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071360" y="199980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不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TRI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变量的长度，字符变量的缺省长由它的第一个观测值决定，这样，后面更长的观测值会被截短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可隐含地说明字符变量的长度。所以，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定义的字符长度不同于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隐含表示的长度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应放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前面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/>
          </p:nvPr>
        </p:nvSpPr>
        <p:spPr>
          <a:xfrm>
            <a:off x="1356840" y="13568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必须放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前面才能起作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 name $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$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隐含指定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长度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（放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前面）给出在创建的数据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长度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替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/>
          </p:nvPr>
        </p:nvSpPr>
        <p:spPr>
          <a:xfrm>
            <a:off x="928440" y="1499760"/>
            <a:ext cx="7127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3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字符变量的长由它的第一个观测值决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='no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='yes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字符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次在赋值语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'NO'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出现时，它的长度被确定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于是，当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ES'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赋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仅前两个字符被存储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'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丢失了。为解决该问题，或者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长度，或者重新排列语句顺序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5003640" y="3357720"/>
          <a:ext cx="2519640" cy="1439640"/>
        </p:xfrm>
        <a:graphic>
          <a:graphicData uri="http://schemas.openxmlformats.org/drawingml/2006/table">
            <a:tbl>
              <a:tblPr/>
              <a:tblGrid>
                <a:gridCol w="839880"/>
                <a:gridCol w="839880"/>
                <a:gridCol w="839880"/>
              </a:tblGrid>
              <a:tr h="57600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ye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18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56800" y="1143000"/>
            <a:ext cx="59295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LENGTH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位置的重要性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14280" y="214272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字符变量的长度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必须放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前面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数值变量的长度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可以放在任何地方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/>
          </p:nvPr>
        </p:nvSpPr>
        <p:spPr>
          <a:xfrm>
            <a:off x="1364760" y="1066320"/>
            <a:ext cx="6735960" cy="34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之后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对字符变量不起作用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深发展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大秦铁路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 b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eng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stknm $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;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ength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放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之后不起作用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stknm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的长度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6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，所以显示的值分别为’深发展’和’大秦铁’ 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9" name="Text Box 0"/>
          <p:cNvSpPr/>
          <p:nvPr/>
        </p:nvSpPr>
        <p:spPr>
          <a:xfrm>
            <a:off x="2340000" y="5157720"/>
            <a:ext cx="22320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Obs    lstknm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深发展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大秦铁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4"/>
          <p:cNvSpPr/>
          <p:nvPr/>
        </p:nvSpPr>
        <p:spPr>
          <a:xfrm>
            <a:off x="1547640" y="1484280"/>
            <a:ext cx="604872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上段程序的正确写法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tkn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深发展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tknm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zh-CN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大秦铁路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ng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stknm $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 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length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语句放在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t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语句之前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显示正确结果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01" name="Text Box 5"/>
          <p:cNvSpPr/>
          <p:nvPr/>
        </p:nvSpPr>
        <p:spPr>
          <a:xfrm>
            <a:off x="2643120" y="5000760"/>
            <a:ext cx="22320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Obs    lstknm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1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深发展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2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</a:rPr>
              <a:t>大秦铁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路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99680" y="642600"/>
            <a:ext cx="66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LABEL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用于为变量加标签。变量标签是对变量的进一步说明，看到标签就能理解变量的意思。这个标签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中同变量名一起被存贮，而且可通过许多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被打印输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-1='label-1' …&lt;variable-1='label-n'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加标签的变量名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最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符的标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标签语句可以出现若干个变量名和标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/>
          </p:nvPr>
        </p:nvSpPr>
        <p:spPr>
          <a:xfrm>
            <a:off x="1523520" y="106668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.32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的两种写法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第一种写法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cod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交易所用代码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tock code by exchange"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stocd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最新股票代码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tock code"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hrsdt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观测日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hares outstanding observation date"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hrout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观测到的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股股本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b shares outstanding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第二种写法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code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交易所用代码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tock code by exchange“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 hstocd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最新股票代码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tock code“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 shrsdt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观测日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shares outstanding observation date“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bel shrout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"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观测到的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股股本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|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b shares outstanding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33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删除变量的标签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code=''  hstocd=''  shrsdt=''  shrout='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结果变量类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785880" y="178560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决定结果变量类型的准则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表达式中的变量全为数值型，结果变量为数值型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表达式中的变量全为字符型，结果变量为字符型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表达式中的变量既有数值又有字符型，结果变量为数值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TextBox 1"/>
          <p:cNvSpPr/>
          <p:nvPr/>
        </p:nvSpPr>
        <p:spPr>
          <a:xfrm>
            <a:off x="857160" y="857160"/>
            <a:ext cx="36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变量类型转换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06" name="TextBox 2"/>
          <p:cNvSpPr/>
          <p:nvPr/>
        </p:nvSpPr>
        <p:spPr>
          <a:xfrm>
            <a:off x="1357200" y="2000160"/>
            <a:ext cx="585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实现数值与字符之间相互转换的方式有：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系统自动完成数值与字符之间的转换；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函数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INPU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将字符转换为数值；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函数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PU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将数值转换为字符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字符自动转换为数值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57160" y="128592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34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字符自动转换为数值。本例中并没有真正把字符变量转换为数值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由字符变量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值创建一个新的数值变量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X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X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为数值变量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1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为字符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Y;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自动将字符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转换为数值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X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仍是字符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运算过程中自动转换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X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为数值变量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1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为字符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Z=X+Y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自动将字符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转换为数值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TextBox 1"/>
          <p:cNvSpPr/>
          <p:nvPr/>
        </p:nvSpPr>
        <p:spPr>
          <a:xfrm>
            <a:off x="1357200" y="1500120"/>
            <a:ext cx="6072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运算过程中自动转换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X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为数值变量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1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为字符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&lt;Y 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自动将字符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转换为数值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运算过程中自动转换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1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为字符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log(Y)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自动将字符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转换为数值变量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函数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INPUT</a:t>
            </a:r>
            <a:r>
              <a:rPr b="0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将字符转换为数值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57160" y="1356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的形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(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源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,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输入格式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源为要转换为数值的变量，常数或表达式。数据源既可以是数值型，也可以是字符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输入格式规定对数据源进行转换的输入格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3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字符变量为数值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lstkinf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kcd_1=input(stkcd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将字符变量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stkcd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转换为数值变量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stkcd_1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c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如果希望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lstkinfo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中的字符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stkcd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转换为数值变量，只要类型转换 ，变量名不变，需要增加一下数据步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kcd_1=stkc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857160" y="92844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36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字符型常数值为数值常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input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56888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8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结果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688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数值常数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37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字符型常数值为字符常数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input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56888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$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y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结果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字符常数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数值自动转换为字符</a:t>
            </a:r>
            <a:br>
              <a:rPr sz="2800"/>
            </a:b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57160" y="164268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能自动地将数值转换为字符情况有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"/>
              <a:tabLst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将数值变量赋值给一个字符变量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"/>
              <a:tabLst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字符表达式中有数值变量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"/>
              <a:tabLst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需要字符变量的函数中引用数值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自动地将数值转换为字符时，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EST12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输出格式，字符值右对齐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857160" y="92844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5.38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值自动转换为字符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10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X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为字符变量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Y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为数值变量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Y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自动将数值变量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Y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转换为字符变量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X, Y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仍是数值变量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Y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为数值变量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Z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ROOM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||Y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自动将数值变量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Y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转换为字符变量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Z=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6000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Y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为数值变量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Z=SUBSTR(Y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自动将数值变量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Y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转换为字符变量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Z=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7" name="矩形 3"/>
          <p:cNvSpPr/>
          <p:nvPr/>
        </p:nvSpPr>
        <p:spPr>
          <a:xfrm>
            <a:off x="5643720" y="4000680"/>
            <a:ext cx="2500200" cy="35712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=ROOM          1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18" name="矩形 4"/>
          <p:cNvSpPr/>
          <p:nvPr/>
        </p:nvSpPr>
        <p:spPr>
          <a:xfrm>
            <a:off x="5715000" y="5643720"/>
            <a:ext cx="2571840" cy="35712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=60000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函数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PUT</a:t>
            </a:r>
            <a:r>
              <a:rPr b="0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将数值转换为字符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函数的形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6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T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格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6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6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源为要转换为字符值的变量，常数或表达式。数据源既可以是数值型，也可以是字符型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6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格式规定对数据源进行转换的输出格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39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数值变量为字符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888.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put(y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.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10.4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是输出格式，将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按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10.4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数值输出格式呈现，但使用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put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赋给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后，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为字符型变量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3888.00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结果变量长度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785880" y="128556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果变量的长度是第一次扫描结果的长度，除非事先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好结果变量的长度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2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扫描结果的长度不是所有数据中的最大长度时会出错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深发展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第一扫描结果的长度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6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 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大秦铁路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lstknm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长度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6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，所以显示结果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lstknm =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大秦铁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2286000" y="5143680"/>
            <a:ext cx="34560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Obs    lstkn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Times New Roman"/>
              </a:rPr>
              <a:t>----------------------------------------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1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zh-TW" sz="1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大秦铁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785880" y="85716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5.40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转换数值常数为字符常数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x=put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黑体"/>
              </a:rPr>
              <a:t>'288.00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黑体"/>
              </a:rPr>
              <a:t>$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)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/* x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的输出格式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$4. 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x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288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put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288.00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6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x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的输出格式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$6. 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288.0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put(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288.00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.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x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的输出格式为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$6. 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288.0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黑体"/>
              </a:rPr>
              <a:t>DO</a:t>
            </a:r>
            <a:r>
              <a:rPr b="1" lang="zh-CN" sz="3000" spc="-1" strike="noStrike">
                <a:solidFill>
                  <a:srgbClr val="003399"/>
                </a:solidFill>
                <a:latin typeface="Times New Roman"/>
                <a:ea typeface="黑体"/>
              </a:rPr>
              <a:t>语句</a:t>
            </a:r>
            <a:r>
              <a:rPr b="1" lang="zh-CN" sz="3000" spc="-1" strike="noStrike">
                <a:solidFill>
                  <a:srgbClr val="003399"/>
                </a:solidFill>
                <a:latin typeface="Arial Narrow"/>
                <a:ea typeface="黑体"/>
              </a:rPr>
              <a:t>及循环控制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必须由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来结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之间的这些语句称为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可以嵌套任意次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类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简单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循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OVE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 UNTIL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简单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DO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57160" y="114264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应用举例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4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/TH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e&gt;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_cm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0.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height/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me= sex= age= h_cm=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日志中信息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000080" y="3929040"/>
            <a:ext cx="72151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上例与下面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效果一样，但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效率较低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ge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_cm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0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height/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ge&gt;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= sex= age= h_cm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1143000" y="1357200"/>
          <a:ext cx="6715080" cy="2011320"/>
        </p:xfrm>
        <a:graphic>
          <a:graphicData uri="http://schemas.openxmlformats.org/drawingml/2006/table">
            <a:tbl>
              <a:tblPr/>
              <a:tblGrid>
                <a:gridCol w="6715080"/>
              </a:tblGrid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Name=Janet Sex=F Age=15 h_cm=158.8541666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Name=Mary Sex=F Age=15 h_cm=169.0208333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Name=Philip Sex=M Age=16 h_cm=18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Name=Ronald Sex=M Age=15 h_cm=170.2916666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Name=William Sex=M Age=15 h_cm=169.0208333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NOTE: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从数据集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RESDAT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.CLASS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读取了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19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个观测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NOTE: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数据集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WORK.A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有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19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个观测和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6 </a:t>
                      </a:r>
                      <a:r>
                        <a:rPr b="0" lang="zh-TW" sz="18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个变量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92d050"/>
                      </a:solidFill>
                    </a:lnL>
                    <a:lnR w="13680">
                      <a:solidFill>
                        <a:srgbClr val="92d050"/>
                      </a:solidFill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循环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DO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57160" y="149976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中的语句需要被重复执行时要用到循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循环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根据下标变量重复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END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之间的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dex_variable=specification-1&lt;,…specification-N&gt;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dex-variab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项定义下标变量，用于控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的执行方式和重复次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标变量包含在创建的数据集中，可以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删除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SPECIFICATION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选项格式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 &lt;TO stop&gt; &lt;BY increment&gt; &lt;WHILE/UNTIL(expression)&gt;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pecifica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34" name="Object 4"/>
          <p:cNvGraphicFramePr/>
          <p:nvPr/>
        </p:nvGraphicFramePr>
        <p:xfrm>
          <a:off x="1143000" y="2928960"/>
          <a:ext cx="6858000" cy="200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928960"/>
                    <a:ext cx="685800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/>
          </p:nvPr>
        </p:nvSpPr>
        <p:spPr>
          <a:xfrm>
            <a:off x="1071360" y="1428480"/>
            <a:ext cx="57150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42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省的步长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y+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exi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857160" y="114264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43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起始值例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n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–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k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k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k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.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0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'saturday', 'sunday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'01jan99'd, '25feb99'd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='01jan99'd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'01jan2000'd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例句子中，起始值必须全部是数值或全部是字符常数，也可以是变量。字符常数必须用引号括起来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4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表达式选项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x&lt;y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(x/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&gt;y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–1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month='jan'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57160" y="1213920"/>
            <a:ext cx="54295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.45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O T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跳出循环体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y; 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&gt;y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go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kip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skip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是循环体外的语句标号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=log(y-x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y=y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kip: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y&lt;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= y=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z=log(x-y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 6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 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 -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</a:t>
            </a:r>
            <a:r>
              <a:rPr b="0" lang="es-E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结果变量长度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57160" y="164304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用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LENGTH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得到正确输出结果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stknm $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规定变量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lstknm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的长度为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12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深发展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stknm 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大秦铁路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Text Box 4"/>
          <p:cNvSpPr/>
          <p:nvPr/>
        </p:nvSpPr>
        <p:spPr>
          <a:xfrm>
            <a:off x="2786040" y="4929120"/>
            <a:ext cx="34560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Obs    lstkn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Times New Roman"/>
              </a:rPr>
              <a:t>----------------------------------------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1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zh-TW" sz="18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大秦铁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路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657252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LOG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显示：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2" name="矩形 4"/>
          <p:cNvSpPr/>
          <p:nvPr/>
        </p:nvSpPr>
        <p:spPr>
          <a:xfrm>
            <a:off x="1214280" y="1785960"/>
            <a:ext cx="578664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x=5 y=-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数据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WORK.A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有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3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观测和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4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43" name="Text Box 36"/>
          <p:cNvSpPr/>
          <p:nvPr/>
        </p:nvSpPr>
        <p:spPr>
          <a:xfrm>
            <a:off x="928800" y="30002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数据集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数据如下：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44" name=""/>
          <p:cNvGraphicFramePr/>
          <p:nvPr/>
        </p:nvGraphicFramePr>
        <p:xfrm>
          <a:off x="1285920" y="3714840"/>
          <a:ext cx="5724360" cy="1871640"/>
        </p:xfrm>
        <a:graphic>
          <a:graphicData uri="http://schemas.openxmlformats.org/drawingml/2006/table">
            <a:tbl>
              <a:tblPr/>
              <a:tblGrid>
                <a:gridCol w="488880"/>
                <a:gridCol w="495360"/>
                <a:gridCol w="1668600"/>
                <a:gridCol w="1452240"/>
                <a:gridCol w="161928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yy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1.386294361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-18.6137056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新細明體"/>
                        </a:rPr>
                        <a:t>1.79175946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/>
          </p:nvPr>
        </p:nvSpPr>
        <p:spPr>
          <a:xfrm>
            <a:off x="714240" y="114300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46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生指定观测值个数的数据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中，产生一个含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观测值的数据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/>
          </p:nvPr>
        </p:nvSpPr>
        <p:spPr>
          <a:xfrm>
            <a:off x="857160" y="114264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4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然数求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t+n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自然数之和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4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然数平方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t+n**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求</a:t>
            </a:r>
            <a:r>
              <a:rPr b="0" lang="es-E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到</a:t>
            </a:r>
            <a:r>
              <a:rPr b="0" lang="es-E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00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自然数的平方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应用举例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857160" y="142848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49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循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处理数组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ay{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} d1-d7;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定义数组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day{7} */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ay{i}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ay{i}=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中，用循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处理数组时，便于进行批量更新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DO OVER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357200" y="1928880"/>
            <a:ext cx="7072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O OV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对隐含下标数组元素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组里的语句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 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rray-name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ND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-nam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规定一个隐含下标数组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应用举例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857160" y="128556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0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隐含数组的所有元素乘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c01-sc0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 sc01-sc05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等价于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o _i_=1 to 5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=s*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95  .88  .99  .77  .5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1071720" y="5429160"/>
          <a:ext cx="6911640" cy="828720"/>
        </p:xfrm>
        <a:graphic>
          <a:graphicData uri="http://schemas.openxmlformats.org/drawingml/2006/table">
            <a:tbl>
              <a:tblPr/>
              <a:tblGrid>
                <a:gridCol w="1150920"/>
                <a:gridCol w="1152360"/>
                <a:gridCol w="1154160"/>
                <a:gridCol w="1150920"/>
                <a:gridCol w="1152360"/>
                <a:gridCol w="1150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0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0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0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04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0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9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8" name="TextBox 4"/>
          <p:cNvSpPr/>
          <p:nvPr/>
        </p:nvSpPr>
        <p:spPr>
          <a:xfrm>
            <a:off x="928800" y="500076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tes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DO WHILE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785880" y="135720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句使得当条件成立时重复地执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中的语句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expression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任一有效表达式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1" name="Rectangle 3"/>
          <p:cNvSpPr/>
          <p:nvPr/>
        </p:nvSpPr>
        <p:spPr>
          <a:xfrm>
            <a:off x="857160" y="3143160"/>
            <a:ext cx="79106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1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值小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时重复执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组中的语句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(n lt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n=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DO UNTIL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有条件地执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中的语句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 UNTI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expression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中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ressi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任一有效表达式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4" name="Rectangle 3"/>
          <p:cNvSpPr/>
          <p:nvPr/>
        </p:nvSpPr>
        <p:spPr>
          <a:xfrm>
            <a:off x="928800" y="3286080"/>
            <a:ext cx="642924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重复循环直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&gt;=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黑体"/>
              </a:rPr>
              <a:t>时停止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unt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(n&gt;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n=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+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黑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黑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黑体"/>
                <a:ea typeface="黑体"/>
              </a:rPr>
              <a:t>选择控制语句</a:t>
            </a:r>
            <a:r>
              <a:rPr b="1" lang="en-US" sz="3000" spc="-1" strike="noStrike">
                <a:solidFill>
                  <a:srgbClr val="003399"/>
                </a:solidFill>
                <a:latin typeface="黑体"/>
                <a:ea typeface="黑体"/>
              </a:rPr>
              <a:t> </a:t>
            </a:r>
            <a:r>
              <a:rPr b="1" lang="en-US" sz="3000" spc="-1" strike="noStrike">
                <a:solidFill>
                  <a:srgbClr val="003399"/>
                </a:solidFill>
                <a:latin typeface="黑体"/>
                <a:ea typeface="黑体"/>
              </a:rPr>
              <a:t>SELECT</a:t>
            </a:r>
            <a:r>
              <a:rPr b="1" lang="zh-CN" sz="3000" spc="-1" strike="noStrike">
                <a:solidFill>
                  <a:srgbClr val="003399"/>
                </a:solidFill>
                <a:latin typeface="Arial Narrow"/>
                <a:ea typeface="宋体"/>
              </a:rPr>
              <a:t>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选择执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select-expression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when-expression-1&lt;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n-expression-n&gt;) statemen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when-expression-1&lt;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n-expression-n&gt;) statement;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THERWI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ement;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ND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选项说明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67" name="Object 4"/>
          <p:cNvGraphicFramePr/>
          <p:nvPr/>
        </p:nvGraphicFramePr>
        <p:xfrm>
          <a:off x="1000080" y="4286160"/>
          <a:ext cx="7072200" cy="122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4286160"/>
                    <a:ext cx="70722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4"/>
          <p:cNvSpPr/>
          <p:nvPr/>
        </p:nvSpPr>
        <p:spPr>
          <a:xfrm>
            <a:off x="2485440" y="1282680"/>
            <a:ext cx="456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表</a:t>
            </a:r>
            <a:r>
              <a:rPr b="0" lang="en-US" sz="1800" spc="-1" strike="noStrike">
                <a:solidFill>
                  <a:srgbClr val="080808"/>
                </a:solidFill>
                <a:latin typeface="Calibri"/>
                <a:ea typeface="黑体"/>
              </a:rPr>
              <a:t>5.1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没有规定结果变量长度时，由表达式类型确定结果变量长度的准则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1187280" y="1773360"/>
          <a:ext cx="7320240" cy="3644640"/>
        </p:xfrm>
        <a:graphic>
          <a:graphicData uri="http://schemas.openxmlformats.org/drawingml/2006/table">
            <a:tbl>
              <a:tblPr/>
              <a:tblGrid>
                <a:gridCol w="1884600"/>
                <a:gridCol w="855720"/>
                <a:gridCol w="2203200"/>
                <a:gridCol w="2376720"/>
              </a:tblGrid>
              <a:tr h="420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表达式类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结果类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结果变量长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举例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9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变量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原变量的长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ength a $4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a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长度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50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串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第一个字符串的长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’ABC’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’ABCDEF’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长度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9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变量连接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所有变量长度的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ength a $4 b $6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a||b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长度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74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变量和字符串连接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字符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变量和第一个字符串长度的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ength a $4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a||’CAT’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a||’CATIP’;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长度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应用举例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黑体"/>
              </a:rPr>
              <a:t>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285920" y="171468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.53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表达式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bs=_n_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uniform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obs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 x=x*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x=x*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therwi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根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B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来计算新变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。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B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执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x*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B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值不变。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B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执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X*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B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其它值时，执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/>
          </p:nvPr>
        </p:nvSpPr>
        <p:spPr>
          <a:xfrm>
            <a:off x="857160" y="14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4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没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表达式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on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ja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e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a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p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ay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ju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jul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ug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ep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mon in 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ju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jul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ug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) put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ummer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on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mon in (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a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ap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may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) put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spring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on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therwi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ut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all or winte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on=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应用举例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2"/>
          <p:cNvSpPr/>
          <p:nvPr/>
        </p:nvSpPr>
        <p:spPr>
          <a:xfrm>
            <a:off x="1285920" y="1500120"/>
            <a:ext cx="6985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fall or wintermon=jan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fall or wintermon=feb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spring mon=mar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spring mon=apr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spring mon=may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summer mon=jun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summer mon=ju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summer mon=aug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fall or wintermon=sep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NOTE: “DATA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语句”所用时间（总处理时间）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: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     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实际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0.03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CPU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0.01 </a:t>
            </a:r>
            <a:r>
              <a:rPr b="0" lang="zh-TW" sz="1600" spc="-1" strike="noStrike">
                <a:solidFill>
                  <a:srgbClr val="080808"/>
                </a:solidFill>
                <a:latin typeface="Times New Roman"/>
                <a:ea typeface="新細明體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4" name="TextBox 4"/>
          <p:cNvSpPr/>
          <p:nvPr/>
        </p:nvSpPr>
        <p:spPr>
          <a:xfrm>
            <a:off x="1357200" y="10717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日志信息如下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1523520" y="1218960"/>
            <a:ext cx="7239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5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LEC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组的正确及错误用法举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x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 put 'two'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错误用法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x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 put 'two';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正确用法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 put 'two';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正确用法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中，后两个程序的效果相同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ARRAY</a:t>
            </a: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</a:t>
            </a: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599840" y="2209320"/>
            <a:ext cx="6248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于定义数组。数组通常由一组变量构成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数组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可以简化很多复杂的数据处理过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引用数组等价引用构成数组的那一组变量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显式下标数组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071720" y="1500120"/>
            <a:ext cx="72388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显式下标数组由数组名，元素个数说明，及元素列表等构成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数组名引用整个数组，通过数组元素序号（也称为下标）引用该元素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rray-name{subscript}&lt;$&gt;&lt;length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array-elements&gt;&lt;(initial-values)&gt;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80" name=""/>
          <p:cNvGraphicFramePr/>
          <p:nvPr/>
        </p:nvGraphicFramePr>
        <p:xfrm>
          <a:off x="1357200" y="3857760"/>
          <a:ext cx="5857920" cy="2500200"/>
        </p:xfrm>
        <a:graphic>
          <a:graphicData uri="http://schemas.openxmlformats.org/drawingml/2006/table">
            <a:tbl>
              <a:tblPr/>
              <a:tblGrid>
                <a:gridCol w="1928880"/>
                <a:gridCol w="3929040"/>
              </a:tblGrid>
              <a:tr h="417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rray-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数组名字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ubscrip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下标范围或元素个数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数组元素为字符型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数组中元素的长度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rray-Element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组成数组的元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nitial-Value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数组中相应元素的初始值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下标的三种格式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下标用于表示数组中元素的个数和排列的范围。括号可用大括号，中括号或圆括号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下标格式有三种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83" name=""/>
          <p:cNvGraphicFramePr/>
          <p:nvPr/>
        </p:nvGraphicFramePr>
        <p:xfrm>
          <a:off x="1285920" y="3068640"/>
          <a:ext cx="5842080" cy="2217600"/>
        </p:xfrm>
        <a:graphic>
          <a:graphicData uri="http://schemas.openxmlformats.org/drawingml/2006/table">
            <a:tbl>
              <a:tblPr/>
              <a:tblGrid>
                <a:gridCol w="2652840"/>
                <a:gridCol w="3189240"/>
              </a:tblGrid>
              <a:tr h="739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&lt;,…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n&gt;}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数组中每一维的元素个数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8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&lt;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下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&gt;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,…&lt;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下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&gt;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}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规定数组中每一维的上下界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9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*}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由规定数组中变量的个数来确定下标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857160" y="142884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5.56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用格式一定义一维、二维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imple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red, green, yellow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定义一维数组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数组名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组有三个元素，对应的变量命名分别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d, green, yellow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scorel-score15;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定义二维数组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数组名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变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corel---score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按顺序从左上角开始逐行放入这个二维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7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格式二定义二维数组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x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scorel-score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数组下界时可以省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注意：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为下界时，可以加快处理时间，因为计算下标的时间减少了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713880" y="785520"/>
            <a:ext cx="65725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数组元素表示方法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071720" y="1642680"/>
            <a:ext cx="6858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组元素必须全是数值变量，或全是字符变量，可以用任意顺序列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数组元素的两种表示方法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列出变量名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临时数组元素列表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.58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列出变量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 Cl-C3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{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和上例句等价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rray A{*}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_NUMERIC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{*} _CHARACTER_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建立临时数组元素列表</a:t>
            </a:r>
            <a:r>
              <a:rPr b="0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：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357200" y="185688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MPORARY_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临时数组元素列表可以少占用内存，加快执行时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像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中变量那样使用临时数组元素，但要注意有下面几点不同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它们没有名字，引用时必须用数组名和下标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能出现在输出的数据集上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能用特殊下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*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来引用所有元素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临时数组元素的值被自动保存，而不是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中的变量，在下一次重复开始时被置为缺失值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zhushw</cp:lastModifiedBy>
  <dcterms:modified xsi:type="dcterms:W3CDTF">2013-08-14T01:33:38Z</dcterms:modified>
  <cp:revision>467</cp:revision>
  <dc:subject/>
  <dc:title>第1章 SAS软件入门</dc:title>
</cp:coreProperties>
</file>