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989-05C5-4269-863B-C76C0F3671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9A11-5098-4CF4-96A3-6040BDECC031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D03-1041-4739-97F9-47052C32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99C-7804-42C1-B9D9-17A0474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907CA-A79B-49E6-9EBA-5723C82A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A56C-6A17-405D-BD44-0E6971A1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3045-E569-46F9-963F-689D55A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0900B-2184-4261-9EB5-C4FB4CA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08AF7-1BE4-4609-8C9E-CE01B25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2EB97-255F-4B6B-82A9-A063D36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319BB-10EE-49B8-BE1F-BBDA7D5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8CA4-AFAA-46B8-9570-F6155065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3AABD-AA36-43DC-9298-ABD19C77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87AFD-FD05-4AAC-936E-E627F0F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FDF-3CCD-462B-9BB3-4841B261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F395F-E999-433A-B670-90C8F25D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BC6E1-A663-4B04-A71B-AD281137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EAD8F-3226-4883-A9D8-51949D8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8C101-A07B-426C-A8BA-4680749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78C9-16A3-4D3A-B2AA-70E7C63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5FC3D-25CE-4E59-B5D1-C12B543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6906-D37A-43F8-A607-0801803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D6977-42F7-4EE3-8EAA-9417A9E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E378E-A559-4389-9A0E-3475ECD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6DFE9-5835-4129-A2AA-AF54F3FA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A20-40A6-4B45-A620-421138FE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FECCF-CB9A-4336-8DFC-6017099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E690-B53A-440C-B2D7-0C638EE0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506B-A2DA-48D9-8D6D-0065A94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B4A1-028F-4DF9-9F60-761AA8F5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BB6ED-A96D-44A9-BC67-378F32A5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7E447-4B56-4768-96CB-3447909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9119-41F6-4078-8233-8A476EF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88A25-D1BE-4F60-93F5-9B762BC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66F44-8787-4148-9BD1-DDF09F57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92DF-D10D-4838-9AFA-C54F1A8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6E3-6D7F-4A22-A811-73E91727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FC573-DDB7-4B6F-998C-AC2860A7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59C94-56DF-487E-92CC-AC6286A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189D-6685-444E-9036-97E37161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F7649-69DC-484F-8FFB-D047F4A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5979C-1FEC-4292-A4BC-7F9589F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07A68-9F2B-42F8-B2C1-D9EDC86B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D3E52-88C9-43C9-B4CE-9B4D907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01D7A-CDB0-4306-99AE-AEDD5BEB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2E72A-01B5-4A87-8EF5-94A12644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CB656-5E49-4F95-8B8F-1D4FA8C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B8D-DDA8-4D17-A286-E826E38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45EFA-3497-493C-9C43-8246D899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E2F7A-FF82-40E0-8CB3-E118D4A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3CBC-D709-48A7-BE17-DFC1EDB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F6DF-9103-4487-AE8F-170183BA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916C4-0493-4476-B519-905E043A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645A-E9C8-44CB-9388-66A51230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99271-067D-4A89-89CF-410F0131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A3275-382F-4074-A3DA-940FC1A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DC6B9-4839-4F8D-8D27-34BEA49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D70D8-5F5D-40B7-A15D-0ADDAE21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4192-8EC7-40EA-8C0D-102E2B6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6B5BA-1689-4B79-963A-0F52D1FB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7077B-317E-43FF-939C-F7B6D7D9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DE38A-B1A3-4FC2-BF58-21EEA4D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DD2FF-A29D-4345-84B8-AE07911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33489-7FA1-4D3A-95F5-E0F31FD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E3117-D8E4-4A65-8CD0-F1CACCA3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08A4A-503B-4421-9803-739BAAE4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BDA-CFDF-45F2-999F-49F6144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77B-DF95-4CA9-822B-32DE0B6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A4BB-A489-4F94-827D-1800021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1080-5176-4039-B59C-2F8B9FD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B6-BF8A-4A22-86F3-4FBEE2FE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468-14DF-40DA-A720-885781F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E660-8586-452C-A11E-55F8530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4631-8A93-47B7-966E-39A05A1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852-03E2-4DBD-BF23-7C9ADD3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B9A9-E823-4594-A0C8-5B47591A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09B8-EF91-4954-B986-FD264F77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8CC3-4A69-4DCF-A032-5EF2F72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0A6B-BF19-4992-9B2F-0B83705F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E147-24C4-4C43-A181-99149CB1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70BB-5E51-406B-A18E-95017BFF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2F2-BBA8-4AA4-827A-00B6AA5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23D5-D638-4BDB-8296-8EE37970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9B8A-2E87-4389-8404-CEE937C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AF1D-4BB7-4597-8710-F5E5C8A1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D3F5-9CC8-4009-A04F-B503F07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1569-6661-4E13-9631-14701DE8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535B-FAE8-4E3B-8826-A5FF11F5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3E5F-0A6A-4255-B1BF-E4331A31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C6C9-84CC-424F-9313-1BBC3C6B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607E-2598-4FA0-B17E-E37F382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C198-30AE-4677-9CE5-0E5A40D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A17-BBB1-42DE-9F9F-4A2820A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0C25-F318-430C-984D-E08B7643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16ED-C115-4AAE-9384-0689AA0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C44F-BC73-47CA-8A1B-47FB487D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71A7-5102-4FE2-913A-4B0D40D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42AE-4A27-4588-811F-0306074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E458-5A25-48EF-B210-965A8B17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5BB1-901F-4ED5-8C11-17C0CED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E2E4-8790-45EE-958C-6D6392E8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5596-A0B1-4890-9EF0-98BE493C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F59F-B3B0-410B-B074-7D1C78BE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1B9-CF2C-4154-9285-22F3249E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CC1A-FD2A-4ADF-8A9F-9DE5325F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4A49-A642-4E56-A898-2C347046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0A1D-4E88-475A-9B81-F9BB3B8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EF23-B829-483B-893A-DE4D77D7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DF54-5A2C-4D94-9A0B-7B4D3B1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6E6D-7AB1-46CB-BC58-4ECBB91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25CD-9E14-4811-A8D8-9B760FA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D3B6-FCD7-413F-A227-5553067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8F54-20F5-412B-B759-D1EE9E5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6085-A038-4356-A385-6D1E7F9F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C2D-C16A-4CF4-98E7-94B73B5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7FCB-A4AD-417D-9007-B78490BB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8C07-E81E-4E8D-8820-FEA6EF4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0E36-0B0E-4A76-A59C-5F61E89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EB19-2C23-471B-ADC0-6BAD372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8D69-0C8C-4F1A-A8A8-2D81695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331C-FEC1-48A6-882E-32A06818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0B57-20C3-4B8E-A484-FFDFED6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DA98-D683-4855-A33E-0CB2EC5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22A1C-285E-40BB-AE1F-25E2688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9674E-74E9-4468-806F-D2622C4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05A-801A-42C9-9AAB-E04D9AC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5F33-FEB9-45B2-B491-A7968B2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8BF19-4B48-471C-AC86-7282A347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6C1B-4B51-4E91-A10E-6D1B06E4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637A-D091-41CF-BA34-EFF2D78F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DEF5-0B91-42A7-B6C6-8C3ADD9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DDBD-ABD2-4531-9A6A-CE01A43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B68A-3041-4A86-AD44-CA762A8B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73D71-3FE3-40A6-9A07-1A7B241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F750-48D8-4519-95FC-5DF4355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F415-7882-4819-B079-E02B4FE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CB8-BCCB-4DB6-8E36-7C43398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7AF6-CE63-468B-9195-EA6C2A0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E857-B9D5-432E-88B7-F5F3425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113E-F06E-48DE-AB94-195FD46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C8B7-8FA1-4C0E-9D2D-CF236314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EFC1-3A4F-45AB-B850-C3314192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CC50-0A9C-4D07-83D5-A57000FD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B5AE-AE1D-4D98-9040-94BE5FC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B8E34-7DEB-48B7-9368-CFEB1286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3646A-E6E7-4D9A-8B70-01FE0BC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C27D-F818-4711-BCFD-68E0EEF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13F-C0DE-486A-AAE5-F183A95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FC3C-2059-43A2-9BD8-5755B768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CCE2D-59C8-406A-9DEF-EA3C0052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D05D-AF8C-4C1D-92DD-80FDE5C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023B-29EC-4ED5-BD0D-5A1CE90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80A30-DD4A-44DA-BC0E-D4AE666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02969-3924-49A2-8597-B058CF3B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2B4F1-0834-4E75-908D-8D049B4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8CDB1-0DA2-4E9A-BF3A-C2082080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6B4F6-B6C5-4601-9A1D-1D8F70A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C4D1-DAA6-4AAA-B865-97A6C49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6AB4-87C4-47D2-9F59-3897038F91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496-32DA-4DBC-9141-F0C34F929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F0D-2CE4-4E65-97B3-12F4F4582E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153-0FF4-47A3-B122-2DE80E6166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5410-9DC7-4FE4-BEA5-66A9688454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7585-0CD6-4D0E-8950-AA84AB80DF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9B4A-48AC-41A0-B3C9-904B5BA01B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2392-DA27-4D14-B0B3-5056095176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F98B-9762-436C-8110-4C1D9839C9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235-0F9D-48CB-A890-A2958BFCED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D8D-3930-438F-B58E-BE41A16BAE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A277-B75B-4DEF-9FBA-8AFC082285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ms-its:base.chm::/base.hlp/a000206074.htm" TargetMode="External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resset.cn/" TargetMode="External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6"/>
          <p:cNvSpPr/>
          <p:nvPr/>
        </p:nvSpPr>
        <p:spPr>
          <a:xfrm>
            <a:off x="3708000" y="3929760"/>
            <a:ext cx="214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数据集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971280" y="1571400"/>
            <a:ext cx="71247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ull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用。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，只输出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，不会产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Text Box 2048"/>
          <p:cNvSpPr/>
          <p:nvPr/>
        </p:nvSpPr>
        <p:spPr>
          <a:xfrm>
            <a:off x="4214880" y="3071880"/>
            <a:ext cx="4392720" cy="24339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0   data _null_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1   x=exp(5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2   y=log(10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3   put x= y=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4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x=148.4131591 y=2.30258509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TextBox 3"/>
          <p:cNvSpPr/>
          <p:nvPr/>
        </p:nvSpPr>
        <p:spPr>
          <a:xfrm>
            <a:off x="1116000" y="3143160"/>
            <a:ext cx="280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产生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exp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log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2388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st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last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自动变量，取值为最新创建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TextBox 2"/>
          <p:cNvSpPr/>
          <p:nvPr/>
        </p:nvSpPr>
        <p:spPr>
          <a:xfrm>
            <a:off x="1643040" y="314316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查看最新创建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last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下多个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5920" y="1928520"/>
            <a:ext cx="6858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子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Rectangle 1035"/>
          <p:cNvSpPr/>
          <p:nvPr/>
        </p:nvSpPr>
        <p:spPr>
          <a:xfrm>
            <a:off x="1000080" y="450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观测子集，名字分别为女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男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2"/>
          <p:cNvSpPr/>
          <p:nvPr/>
        </p:nvSpPr>
        <p:spPr>
          <a:xfrm>
            <a:off x="1571760" y="178596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9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子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形成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(keep=name height) weight (keep=name weight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0" name="Rectangle 1026"/>
          <p:cNvSpPr/>
          <p:nvPr/>
        </p:nvSpPr>
        <p:spPr>
          <a:xfrm>
            <a:off x="64296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下多个数据集名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1" name="Rectangle 1035"/>
          <p:cNvSpPr/>
          <p:nvPr/>
        </p:nvSpPr>
        <p:spPr>
          <a:xfrm>
            <a:off x="1214280" y="42861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个变量子集，名子分别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eight, weigh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，每个数据集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保留两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行引导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4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624816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下面跟着的是数据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TextBox 3"/>
          <p:cNvSpPr/>
          <p:nvPr/>
        </p:nvSpPr>
        <p:spPr>
          <a:xfrm>
            <a:off x="1785960" y="4071960"/>
            <a:ext cx="5929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 var2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20 Fir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中含有分号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；；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1643040" y="3571920"/>
            <a:ext cx="542916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中含有分号时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$ var2$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;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  ;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;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5429160" y="4357800"/>
            <a:ext cx="3000600" cy="1285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var1    var2    var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A          ;    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(           ;    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Box 4"/>
          <p:cNvSpPr/>
          <p:nvPr/>
        </p:nvSpPr>
        <p:spPr>
          <a:xfrm>
            <a:off x="557208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PU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71760" y="2428560"/>
            <a:ext cx="5952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输出信息到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的外部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1499760" y="1571400"/>
            <a:ext cx="676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简单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specification(s)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pointer-control&gt;&lt;specification&gt;&lt;...specification &lt;@ | @@&gt;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化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(variable-list) (format-list)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表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命名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= &lt;format.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= &lt;$&gt; start-column &lt;-end-column&gt;&lt;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.d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ecimalplaces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1000080" y="107172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格式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714680" y="1428840"/>
          <a:ext cx="6286320" cy="4998960"/>
        </p:xfrm>
        <a:graphic>
          <a:graphicData uri="http://schemas.openxmlformats.org/drawingml/2006/table">
            <a:tbl>
              <a:tblPr/>
              <a:tblGrid>
                <a:gridCol w="2033280"/>
                <a:gridCol w="42530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pecification(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变量及其格式的详细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variable-li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要读入数据值的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移到下一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要求一条记录必须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保持在当前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要求一条记录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字符型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tart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起始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终止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plac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小数点位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pointer-control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移动输入指针到指定的行或列上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的输入格式；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-list 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列表对应的输入格式列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小数部分的位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TextBox 3"/>
          <p:cNvSpPr/>
          <p:nvPr/>
        </p:nvSpPr>
        <p:spPr>
          <a:xfrm>
            <a:off x="3214800" y="1071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4.1 </a:t>
            </a: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变量及其格式说明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宋体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产生的输出结果及其比较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_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3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下划线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"_"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infile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最新的数据行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 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786120" y="4429080"/>
            <a:ext cx="3276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3929040" y="4929120"/>
          <a:ext cx="1928880" cy="10969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   -5 9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0    3  7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0  2 8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引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语句</a:t>
            </a:r>
            <a:r>
              <a:rPr b="0" lang="da-DK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已存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横向合并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改变量名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数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TAI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外部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外部数据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导出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5"/>
          <p:cNvSpPr/>
          <p:nvPr/>
        </p:nvSpPr>
        <p:spPr>
          <a:xfrm>
            <a:off x="1785960" y="157176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785960" y="4357800"/>
          <a:ext cx="5857920" cy="1360440"/>
        </p:xfrm>
        <a:graphic>
          <a:graphicData uri="http://schemas.openxmlformats.org/drawingml/2006/table">
            <a:tbl>
              <a:tblPr/>
              <a:tblGrid>
                <a:gridCol w="585792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 y=-5 z=9 _ERROR_=0 _N_=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0 y=3 z=7 _ERROR_=0 _N_=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0 y=2 z=8 _ERROR_=0 _N_=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矩形 7"/>
          <p:cNvSpPr/>
          <p:nvPr/>
        </p:nvSpPr>
        <p:spPr>
          <a:xfrm>
            <a:off x="2162160" y="3929040"/>
            <a:ext cx="166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8"/>
          <p:cNvSpPr/>
          <p:nvPr/>
        </p:nvSpPr>
        <p:spPr>
          <a:xfrm>
            <a:off x="1219320" y="1523880"/>
            <a:ext cx="678168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1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其它控制输出格式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shelp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@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.sex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This is the last of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 $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page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476360" y="213372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一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4500720" y="2060640"/>
            <a:ext cx="15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二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1403280" y="155736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1285920" y="2428920"/>
            <a:ext cx="2786040" cy="36432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ic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Barbara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rol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t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yce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ud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ouise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Mar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7" name="矩形 7"/>
          <p:cNvSpPr/>
          <p:nvPr/>
        </p:nvSpPr>
        <p:spPr>
          <a:xfrm>
            <a:off x="4429080" y="2428920"/>
            <a:ext cx="2928960" cy="3571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fred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Henry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mes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effrey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hn 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hilip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bert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nald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omas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William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4"/>
          <p:cNvSpPr/>
          <p:nvPr/>
        </p:nvSpPr>
        <p:spPr>
          <a:xfrm>
            <a:off x="1403280" y="1844640"/>
            <a:ext cx="612144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Example of overpri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ver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-----------------------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1403280" y="3429000"/>
            <a:ext cx="41054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0" name="矩形 3"/>
          <p:cNvSpPr/>
          <p:nvPr/>
        </p:nvSpPr>
        <p:spPr>
          <a:xfrm>
            <a:off x="1643040" y="4000680"/>
            <a:ext cx="4286160" cy="571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xample of overpri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4857480"/>
            <a:ext cx="67820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结果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00.00   300.000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714680" y="2857680"/>
            <a:ext cx="47145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控制输出的列位置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4" name="Rectangle 1027"/>
          <p:cNvSpPr/>
          <p:nvPr/>
        </p:nvSpPr>
        <p:spPr>
          <a:xfrm>
            <a:off x="1285920" y="1714680"/>
            <a:ext cx="6781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PUT &lt;variable&gt; &lt;$&gt; start-column &lt;-end-column&gt;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ecimalplaces&gt; &lt;@ | @@&gt;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表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修饰符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*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次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输出变量值时去掉前后的空格。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371600" y="4286160"/>
            <a:ext cx="723888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4,569.24 18,969.06  3,592.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TextBox 2"/>
          <p:cNvSpPr/>
          <p:nvPr/>
        </p:nvSpPr>
        <p:spPr>
          <a:xfrm>
            <a:off x="1785960" y="1571760"/>
            <a:ext cx="528624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34569.2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8969.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3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592.1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comma10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化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inter-control&gt; (variable-list) (format-list)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读入已存在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E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99720" y="2142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从一个或多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读取观测值，并将这些观测组合在一个数据集中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data-set-options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 data-set-name-n &lt;(data-set-options-n 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=variable-name |KEY=index-name&gt;/UNIQUE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-name &gt; &lt;END=variable-name 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可以有多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有任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116000" y="2205000"/>
          <a:ext cx="7310520" cy="3745080"/>
        </p:xfrm>
        <a:graphic>
          <a:graphicData uri="http://schemas.openxmlformats.org/drawingml/2006/table">
            <a:tbl>
              <a:tblPr/>
              <a:tblGrid>
                <a:gridCol w="2519280"/>
                <a:gridCol w="4791240"/>
              </a:tblGrid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变元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组合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Optio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对数据集的操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选项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=,where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oint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E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读入的观测序号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BS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记录读入数据集的观测总数。此变量不含在新产生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。文件结束时取值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其它观测取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此变量不含在新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创建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DATA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 &lt; (data-set-options-1)&gt; &gt; &lt;...data-set--name--n &l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data-set-options-n) &gt;&gt;  &lt;/ DEBUG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-name &lt;data-set-name-1 &lt;(data-set-options-1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 . .data-set-name-n &lt;(data-set-options-n)&gt;&gt; 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IEW=view-name &lt;(&lt; password-option&gt;&lt; 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 / PGM=program-name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&lt;password-option&gt;&lt;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PGM=program-name (&lt;password-option&gt;); &lt;DESCRIBE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 REDIRECTREDIRECT INPUT | OUTPUT old-name-1 = new-name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old-name-n = new-name-n&gt;&gt;; &lt;EXECUTE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=view-name (&lt;password-option&gt;); DESCRIB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85560" y="1571400"/>
            <a:ext cx="67863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1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若干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临时变量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point=n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,5,7,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_error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选项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时，经常要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来终止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步的执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943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临时变量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B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num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临时变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point=obsnum   nobs=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027"/>
          <p:cNvSpPr/>
          <p:nvPr/>
        </p:nvSpPr>
        <p:spPr>
          <a:xfrm>
            <a:off x="1785960" y="1285920"/>
            <a:ext cx="5943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观测个数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=nob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905120" y="1599840"/>
            <a:ext cx="559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找数据集最后一个观测值更简单的方法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obs_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_las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lastobs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将临时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ob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赋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last observation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1285560" y="857160"/>
            <a:ext cx="7272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黑体"/>
              </a:rPr>
              <a:t>4.20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选项说明若干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变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(keep=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 (keep= 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 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 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 ag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三段程序的结果相同。注意，但第三段程序用的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KEE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并不是数据集选项的应用。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保留部分变量时可生成多个变量子集，如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(keep=name weight) height(keep=name height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程序将保留变量同时生成两个变量子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714680" y="1071360"/>
            <a:ext cx="3643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观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a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x^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TextBox 2"/>
          <p:cNvSpPr/>
          <p:nvPr/>
        </p:nvSpPr>
        <p:spPr>
          <a:xfrm>
            <a:off x="5214960" y="285768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;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此程序将保留部分观测同时生成两个观测子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3" name="TextBox 3"/>
          <p:cNvSpPr/>
          <p:nvPr/>
        </p:nvSpPr>
        <p:spPr>
          <a:xfrm>
            <a:off x="5214960" y="2143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保留部分观测时可生成多个观测子集，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1523880" y="1752120"/>
            <a:ext cx="640584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相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tt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stk000001 ResDat.stk000002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不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ResDat.stk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横向合并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ERG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将多个数据集中的观测合并为新数据集中的一个观测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合并观测的方式依赖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使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-1  &lt;(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-set-name-2 &lt;( 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data-set-name-n&lt;(data-set-options 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END=variable-name 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选项说明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98" name="Object 2"/>
          <p:cNvGraphicFramePr/>
          <p:nvPr/>
        </p:nvGraphicFramePr>
        <p:xfrm>
          <a:off x="1795320" y="2214720"/>
          <a:ext cx="537228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214720"/>
                    <a:ext cx="537228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71629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24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对一合并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class ResDat.stk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对一合并时，不需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匹配合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1 (keep=date clpr rename=(clpr=clpr000001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2 (keep=date clpr rename=(clpr=clpr000002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匹配合并必须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86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71360" y="4142880"/>
            <a:ext cx="6500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里只给出常用选项的说明，其它选项说明可以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帮助中查找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1523880" y="2133720"/>
          <a:ext cx="6019920" cy="16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1992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1143000" y="1428840"/>
            <a:ext cx="7238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2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数据集选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股票代码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000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006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9009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首次发行与上市数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01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006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009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 stkcd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id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满足条件股票的首次发行与上市数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61976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BY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14280" y="2356920"/>
            <a:ext cx="57866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分组变量。用于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,MERGE,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操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 &lt;Descending&gt; &lt;Groupformat&gt; Variabl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.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&lt;Groupformat&gt; Variable-N&gt; &lt;Notsorted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概念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06" name="Object 2"/>
          <p:cNvGraphicFramePr/>
          <p:nvPr/>
        </p:nvGraphicFramePr>
        <p:xfrm>
          <a:off x="1371600" y="2133720"/>
          <a:ext cx="4876920" cy="11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4876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1371600" y="4343400"/>
          <a:ext cx="3962520" cy="94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39625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FIR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和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LA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对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创建两个自动变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标识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和最后一个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最后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变量不含在新产生的数据集中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1600200" y="1447920"/>
            <a:ext cx="53341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保留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的最后一个观测值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sDat.stk000001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h=month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r=year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st.month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保留每月最后一个观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86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删除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与保留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KEEP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43000" y="20714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出数据集中要删除的变量，它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删除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979640" y="2178000"/>
            <a:ext cx="489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143000" y="1142640"/>
            <a:ext cx="65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9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age;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*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drop=sex age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效果相同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新建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将删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变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23888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输出数据中要保留的变量，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保留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30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 (keep=date clpr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使用规则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42640" y="2428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不用同时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会首先起作用。即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是旧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356840" y="1785960"/>
            <a:ext cx="688356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系统自动规定数据集名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n * 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永久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 data2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两个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特殊名，不创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，用于输出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999720" y="999720"/>
            <a:ext cx="64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4.3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旧变量名时程序运行正常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新变量名时程序运行出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旧变量名，程序运行正常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_SH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新变量名，程序不能正常运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826920" y="5084640"/>
          <a:ext cx="7201080" cy="10605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_SH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IDX0000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选项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规则</a:t>
            </a:r>
            <a:r>
              <a:rPr b="1" lang="zh-TW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785880" y="2357280"/>
            <a:ext cx="7643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使用规则基本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使用规则。但更灵活，实现同样的功能，对于不同的数据集，新旧名的使用规则也不同</a:t>
            </a:r>
            <a:r>
              <a:rPr b="0" lang="zh-TW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只能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使用。为了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保留变量或删掉变量，必须使用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4"/>
          <p:cNvSpPr/>
          <p:nvPr/>
        </p:nvSpPr>
        <p:spPr>
          <a:xfrm>
            <a:off x="1143000" y="875880"/>
            <a:ext cx="6993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4.32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读入数据集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keep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选项使用旧变量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使用旧变量名，程序运行正常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新变量名，程序运行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_SH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_SZ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785880" y="4643280"/>
          <a:ext cx="7993080" cy="19209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39  by dat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0  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A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系统由于错误而停止了该步的处理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4"/>
          <p:cNvSpPr/>
          <p:nvPr/>
        </p:nvSpPr>
        <p:spPr>
          <a:xfrm>
            <a:off x="1753200" y="1433880"/>
            <a:ext cx="642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新创建数据集中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上例中的错误程序，改为新创建数据集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要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(keep=date clpr_SH clpr_SZ 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程序运行正常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没有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的变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p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keep=date 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keep=date 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改变量名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RENAM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更改多个变量的名字。</a:t>
            </a: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ld-name-1=new-name-1… &lt;old-name-n=new-name-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输入数据集中出现的变量名字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w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新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变量的新名字在输出的数据集中才起作用，所以，在当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语句须使用老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1"/>
          <p:cNvSpPr/>
          <p:nvPr/>
        </p:nvSpPr>
        <p:spPr>
          <a:xfrm>
            <a:off x="1428840" y="157176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例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35 RENAME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更改多个变量名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keep=date open low high clos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r=open lopr=low hipr=high clpr=close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2" name="Rectangle 1026"/>
          <p:cNvSpPr/>
          <p:nvPr/>
        </p:nvSpPr>
        <p:spPr>
          <a:xfrm>
            <a:off x="571680" y="50004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应用举例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3" name="矩形 3"/>
          <p:cNvSpPr/>
          <p:nvPr/>
        </p:nvSpPr>
        <p:spPr>
          <a:xfrm>
            <a:off x="1667160" y="371484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UP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714240" y="4214880"/>
          <a:ext cx="7786800" cy="107136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194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      Date        open        high         low       clo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1990-12-19       96.05       99.98       95.79       99.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1990-12-20      104.30      104.39       99.98      104.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   1990-12-21      109.07      109.13      103.73      109.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保留数值语句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NTAIN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规定单个变量，变量列表，或数组元素的初始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lement-list-1&lt;initial-value-1|(initial=value-1)|(initial-value-list-1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element-list-n&lt;initial-value-n|(initial-value-n)|(initial-value-list-n)&gt;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7" name="Object 2"/>
          <p:cNvGraphicFramePr/>
          <p:nvPr/>
        </p:nvGraphicFramePr>
        <p:xfrm>
          <a:off x="1643040" y="4357800"/>
          <a:ext cx="692460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4357800"/>
                    <a:ext cx="692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1285920" y="142848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36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或赋值语句创建的所有变量值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这次执行到下一次重复时被保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数据值在一些观测中可能保留了本应为缺失值的其它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313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都是对的。但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值时，没有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是真的，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接收新的值。由于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所以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保持从上一观测中得到的值，这样就产生错误。若从这段程序删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空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缺失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1" name="Object 2"/>
          <p:cNvGraphicFramePr/>
          <p:nvPr/>
        </p:nvGraphicFramePr>
        <p:xfrm>
          <a:off x="1928880" y="1785960"/>
          <a:ext cx="1230120" cy="27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785960"/>
                    <a:ext cx="12301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6977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_, _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UMERIC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变量列表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前定义的变量才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44" name="Object 2"/>
          <p:cNvGraphicFramePr/>
          <p:nvPr/>
        </p:nvGraphicFramePr>
        <p:xfrm>
          <a:off x="5715000" y="1828800"/>
          <a:ext cx="88596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828800"/>
                    <a:ext cx="885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1028"/>
          <p:cNvSpPr/>
          <p:nvPr/>
        </p:nvSpPr>
        <p:spPr>
          <a:xfrm>
            <a:off x="1357200" y="1785960"/>
            <a:ext cx="68817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数据集选项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drop=var1);   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去掉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keep=_numeric_);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保留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所有数值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label=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股本变动历史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 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规定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标签名为”股本变动历史”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rename=(var1=u var2=v)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将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更名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k(index=(author subject)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ok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对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thor subjec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建立索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357200" y="1285920"/>
            <a:ext cx="66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没有用圆括号括起来初始值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前面列出的所有元素赋初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th1-month5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 c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XYZ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设置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YEA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0,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字符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, B, 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XYZ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8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用圆括号括起来初始值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括号前的第一个变量赋初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1-month5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分配初始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给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被置为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3"/>
          <p:cNvSpPr/>
          <p:nvPr/>
        </p:nvSpPr>
        <p:spPr>
          <a:xfrm>
            <a:off x="1214280" y="114300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列表的用法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 2 3 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,2,3,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果出现变量个数比初值个数多，剩余的变量用缺失值作为初始值，同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发布一个警告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8" name="TextBox 4"/>
          <p:cNvSpPr/>
          <p:nvPr/>
        </p:nvSpPr>
        <p:spPr>
          <a:xfrm>
            <a:off x="1214280" y="371484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是一个功能强大的语句，利用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可以很方便地实现观测值累乘、缺失观测填充等复杂的数据处理。如下例所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3"/>
          <p:cNvSpPr/>
          <p:nvPr/>
        </p:nvSpPr>
        <p:spPr>
          <a:xfrm>
            <a:off x="1285920" y="78588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观测值累乘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eight=mheight*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0" name="矩形 4"/>
          <p:cNvSpPr/>
          <p:nvPr/>
        </p:nvSpPr>
        <p:spPr>
          <a:xfrm>
            <a:off x="1428840" y="2571840"/>
            <a:ext cx="6643440" cy="392904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    Name       Sex    Age    Height    Weight           mheight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Alfred      M      14     69.0      112.5             69.0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   Alice       F      13     56.5       84.0           3898.5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3    Barbara     F      13     65.3       98.0         254572.05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  Carol       F      14     62.8      102.5       15987124.7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5    Henry       M      14     63.5      102.5     1015182420.9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6    James       M      12     57.3       83.0    58169952722.7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7    Jane        F      12     59.8       84.5     34785631728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8    Janet       F      15     62.5      112.5    2.174101983E1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9    Jeffrey     M      13     62.5       84.0    1.358813739E1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John        M      12     59.0       99.5    8.017001062E17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    Joyce       F      11     51.3       50.5    4.112721545E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2    Judy        F      14     64.3       90.0    2.644479953E21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3    Louise      F      12     56.3       77.0    1.488842214E2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   Mary        F      15     66.5      112.0    9.900800722E2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5    Philip      M      16     72.0      150.0     7.12857652E2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6    Robert      M      12     64.8      128.0    4.619317585E28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7    Ronald      M      15     67.0      133.0    3.094942782E3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8    Thomas      M      11     57.5       85.0      1.7795921E32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   William     M      15     66.5      112.0    1.183428746E3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1"/>
          <p:cNvSpPr/>
          <p:nvPr/>
        </p:nvSpPr>
        <p:spPr>
          <a:xfrm>
            <a:off x="1173240" y="112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缺失值填充。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缺失值，由前面的值填充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2" name="TextBox 2"/>
          <p:cNvSpPr/>
          <p:nvPr/>
        </p:nvSpPr>
        <p:spPr>
          <a:xfrm>
            <a:off x="1476360" y="1628640"/>
            <a:ext cx="187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3132000" y="1906560"/>
            <a:ext cx="25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^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=x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^=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的情况下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其它情况并没有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，由于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的作用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保留前面的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这样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不会有缺失值，起到填充的作用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4" name="矩形 4"/>
          <p:cNvSpPr/>
          <p:nvPr/>
        </p:nvSpPr>
        <p:spPr>
          <a:xfrm>
            <a:off x="6535800" y="1781280"/>
            <a:ext cx="2376360" cy="482436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  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  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5" name="TextBox 5"/>
          <p:cNvSpPr/>
          <p:nvPr/>
        </p:nvSpPr>
        <p:spPr>
          <a:xfrm>
            <a:off x="5292720" y="17715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933480" y="604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的一个很好应用案例是填充变量的缺失值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外部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99720" y="1999800"/>
            <a:ext cx="74581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将要输出的外部文件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般要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句配合使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可以用多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可执行语句，因而可以用在条件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—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FILE file-specif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 &lt; options&gt; &lt; host-options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ILE-SPECIFICA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9" name="Object 2"/>
          <p:cNvGraphicFramePr/>
          <p:nvPr/>
        </p:nvGraphicFramePr>
        <p:xfrm>
          <a:off x="1219320" y="4896000"/>
          <a:ext cx="5943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96000"/>
                    <a:ext cx="5943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1186920" y="98064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（部分）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187280" y="1700280"/>
          <a:ext cx="6912000" cy="4691160"/>
        </p:xfrm>
        <a:graphic>
          <a:graphicData uri="http://schemas.openxmlformats.org/drawingml/2006/table">
            <a:tbl>
              <a:tblPr/>
              <a:tblGrid>
                <a:gridCol w="2953080"/>
                <a:gridCol w="3958920"/>
              </a:tblGrid>
              <a:tr h="4125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LIMITER= 'string-in-quotation-marks' |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haracter-variable/ DLM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指定列表输出时所用的分隔符，在别的输出形式中该选项不起作用。缺省情况下为空格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忽略超过的部分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超出部分在下一行输出。缺省状态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数据可以包含分隔符，要用引号括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NAME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字符变量，其值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打开的文件名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VAR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根据其值的变化关闭和打开输出文件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028"/>
          <p:cNvSpPr/>
          <p:nvPr/>
        </p:nvSpPr>
        <p:spPr>
          <a:xfrm>
            <a:off x="1676520" y="14479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规定格式的外部文本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%a(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);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stock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$ stkcd $ b $ lstknm $  c $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程序产生股票宏文本文档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定义外部数据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IN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来定义一个外部数据文件，文件中的数据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取。外部文件可以是已存在的磁盘文件，也可以是从键盘上输入的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-specification &lt;option-list&gt;  &lt;host-option-list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ILE-SPECIFICATI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TERNAL 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RE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类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F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相应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|CARDS4|DATALINES|DATALINES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指明输入数据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, DATALINES, DATALINES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的数据流，而非来自外部数据文件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"/>
          <p:cNvSpPr/>
          <p:nvPr/>
        </p:nvSpPr>
        <p:spPr>
          <a:xfrm>
            <a:off x="2996640" y="1268640"/>
            <a:ext cx="3223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大部分选项的作用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一致。下面只介绍几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独有的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黑体"/>
                <a:hlinkClick r:id="rId1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1116000" y="2421000"/>
          <a:ext cx="7128000" cy="378936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若一个数据由引号括起，则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认为其包含的逗号是字符数据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设定缺省分隔符为逗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两个连续分隔符中间数据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入时去掉数据的引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标记是否已经到达输入文件的结尾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RSTOBS=record-numb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从该记录行开始读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阻止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从下一个数据行读入数据，未赋值的变量设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=record-number | MA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读入的记录数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1285560" y="1071720"/>
            <a:ext cx="58798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3 DELIMITER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,6,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,3,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,8,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要输入的数据用逗号分隔，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时用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IMITER=’,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9" name="Text Box 1024"/>
          <p:cNvSpPr/>
          <p:nvPr/>
        </p:nvSpPr>
        <p:spPr>
          <a:xfrm>
            <a:off x="1428840" y="5357880"/>
            <a:ext cx="92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2643120" y="4786200"/>
          <a:ext cx="2592360" cy="15512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364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矩形 1"/>
          <p:cNvSpPr/>
          <p:nvPr/>
        </p:nvSpPr>
        <p:spPr>
          <a:xfrm>
            <a:off x="1143000" y="128592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数据视窗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vi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存储被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1(keep=name age weight)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cl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c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是被存贮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程序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2"/>
          <p:cNvSpPr/>
          <p:nvPr/>
        </p:nvSpPr>
        <p:spPr>
          <a:xfrm>
            <a:off x="1285920" y="4429080"/>
            <a:ext cx="6786360" cy="9288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已在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RESDAT.CL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中保存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存储的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无法在不同的操作系统下运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1643040" y="1600200"/>
            <a:ext cx="62816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应用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，分隔符为逗号，但第二个观测值的两个相邻分隔符之间还有缺失值，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时，这两个相邻的分隔符组成一个分隔符，于是，输入数据时会出错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1979640" y="5300640"/>
          <a:ext cx="4914720" cy="1163520"/>
        </p:xfrm>
        <a:graphic>
          <a:graphicData uri="http://schemas.openxmlformats.org/drawingml/2006/table">
            <a:tbl>
              <a:tblPr/>
              <a:tblGrid>
                <a:gridCol w="1228680"/>
                <a:gridCol w="1230480"/>
                <a:gridCol w="1226880"/>
                <a:gridCol w="122868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1476360" y="1413000"/>
            <a:ext cx="66960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例加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个相邻分隔符之间的数作为缺失值处理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情况下，同时加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OV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选项是良好的编程习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1979640" y="4437000"/>
          <a:ext cx="4307040" cy="1550880"/>
        </p:xfrm>
        <a:graphic>
          <a:graphicData uri="http://schemas.openxmlformats.org/drawingml/2006/table">
            <a:tbl>
              <a:tblPr/>
              <a:tblGrid>
                <a:gridCol w="1076400"/>
                <a:gridCol w="1077840"/>
                <a:gridCol w="1076400"/>
                <a:gridCol w="107640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登录锐思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库网站（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/>
              </a:rPr>
              <a:t>www.resset.c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，选择股票库的退市信息表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下载格式，得到利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导入外部数据文件的标准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0" y="0"/>
            <a:ext cx="455760" cy="3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8" name="TextBox 8"/>
          <p:cNvSpPr/>
          <p:nvPr/>
        </p:nvSpPr>
        <p:spPr>
          <a:xfrm>
            <a:off x="1357200" y="2643120"/>
            <a:ext cx="700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 Res_sas.DELINFO_1(label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信息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"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'D:/Res_sas/DELINFO20120920132403996(1).txt'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limiter = '09'x Missover Dsd lrecl=32767 firstobs=2 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Comcd $7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knm $12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otr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de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bfdelst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1285920" y="928440"/>
            <a:ext cx="7238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Comcd $7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knm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otr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de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bfdelst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Com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公司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knm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285920" y="71388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otr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时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de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上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bfdels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前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Exch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所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type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类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Thimkt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板市场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ISIN="IS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编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nobs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序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  Comcd  $  stkcd  $  Lstknm  $  Stkcdotrd  $  delstDt  Lstdt  Stkcdbfdelst  $  Exchflg  $  Stktype  $  Thimktflg  $  ISIN  $  nobs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Rectangle 2"/>
          <p:cNvSpPr/>
          <p:nvPr/>
        </p:nvSpPr>
        <p:spPr>
          <a:xfrm>
            <a:off x="1000080" y="5052600"/>
            <a:ext cx="7572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例中，’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09’x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TA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键的十六进制表示。标准程序除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的选项外，还包括由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Format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orma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及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规定变量的输出格式、输入格式及标签等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加密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通常有三种密码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,write, 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应权限分别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ri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修改结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5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带密码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m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create dataset with password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read=read_ps  write=write_ps  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ad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nt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mo(read=read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文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write=write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213920" y="785880"/>
            <a:ext cx="72867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6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比较带密码数据集操作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差别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创建的数据集不是原来的数据集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需要密码，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需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导出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143000" y="1714680"/>
            <a:ext cx="6929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导出数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第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章已经介绍了用菜单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数据文件（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为例）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本章不再赘述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矩形 5"/>
          <p:cNvSpPr/>
          <p:nvPr/>
        </p:nvSpPr>
        <p:spPr>
          <a:xfrm>
            <a:off x="1500120" y="135720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执行一个被存贮的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ResDat.cl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7" name="矩形 7"/>
          <p:cNvSpPr/>
          <p:nvPr/>
        </p:nvSpPr>
        <p:spPr>
          <a:xfrm>
            <a:off x="1571760" y="2857680"/>
            <a:ext cx="6286320" cy="11430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程序加载自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步导出数据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1143000" y="1714680"/>
            <a:ext cx="6929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导出数据与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章过程步导入数据方向相反，句法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EXPORT DATA=LIB.MyDataS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FILE="filename" | TABLE="tablename"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BMS=identifier&gt;&lt;REPLACE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1571760" y="4286160"/>
          <a:ext cx="5715000" cy="1771920"/>
        </p:xfrm>
        <a:graphic>
          <a:graphicData uri="http://schemas.openxmlformats.org/drawingml/2006/table">
            <a:tbl>
              <a:tblPr/>
              <a:tblGrid>
                <a:gridCol w="1724040"/>
                <a:gridCol w="3990960"/>
              </a:tblGrid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IB.MyDataSet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要导出的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FILE =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导出的外部文件的地址及名称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ABLE 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中的表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BMS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格式的标识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已存在文件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矩形 4"/>
          <p:cNvSpPr/>
          <p:nvPr/>
        </p:nvSpPr>
        <p:spPr>
          <a:xfrm>
            <a:off x="1832400" y="385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程序模板：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TextBox 3"/>
          <p:cNvSpPr/>
          <p:nvPr/>
        </p:nvSpPr>
        <p:spPr>
          <a:xfrm>
            <a:off x="1071720" y="142884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xl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exce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t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excel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输出工作表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file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来表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本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a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names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加入变量名称，不加选择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6929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U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IL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组合输出外部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TX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文本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143000" y="1714680"/>
            <a:ext cx="69292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：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写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，将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为外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TextBox 3"/>
          <p:cNvSpPr/>
          <p:nvPr/>
        </p:nvSpPr>
        <p:spPr>
          <a:xfrm>
            <a:off x="1571760" y="264312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$ sex  $ age height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0" name="TextBox 4"/>
          <p:cNvSpPr/>
          <p:nvPr/>
        </p:nvSpPr>
        <p:spPr>
          <a:xfrm>
            <a:off x="16430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1643040" y="47862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1071720" y="1000080"/>
            <a:ext cx="6929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过多时，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写出所有输出变量会很麻烦，下面使用自动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All_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看看输出的结果是不是不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Rectangle 1"/>
          <p:cNvSpPr/>
          <p:nvPr/>
        </p:nvSpPr>
        <p:spPr>
          <a:xfrm>
            <a:off x="1071720" y="2286360"/>
            <a:ext cx="27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列出变量名方法一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00120" y="27860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1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5" name="TextBox 6"/>
          <p:cNvSpPr/>
          <p:nvPr/>
        </p:nvSpPr>
        <p:spPr>
          <a:xfrm>
            <a:off x="14288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500120" y="4714920"/>
          <a:ext cx="5786640" cy="61416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fred Sex=M Age=14 Height=69 Weight=112.5 _ERROR_=0 _N_=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ice Sex=F Age=13 Height=56.5 Weight=84 _ERROR_=0 _N_=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1"/>
          <p:cNvSpPr/>
          <p:nvPr/>
        </p:nvSpPr>
        <p:spPr>
          <a:xfrm>
            <a:off x="1143000" y="1498680"/>
            <a:ext cx="6786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列出变量名方法二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既不需要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后面一一输入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变量名，输出结果又能满足要求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8" name="TextBox 4"/>
          <p:cNvSpPr/>
          <p:nvPr/>
        </p:nvSpPr>
        <p:spPr>
          <a:xfrm>
            <a:off x="1428840" y="242892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3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9" name="TextBox 10"/>
          <p:cNvSpPr/>
          <p:nvPr/>
        </p:nvSpPr>
        <p:spPr>
          <a:xfrm>
            <a:off x="1428840" y="3929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1571760" y="43578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TextBox 12"/>
          <p:cNvSpPr/>
          <p:nvPr/>
        </p:nvSpPr>
        <p:spPr>
          <a:xfrm>
            <a:off x="4357800" y="2428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意思的是在这种情况下，虽然也是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all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但是由于规定了格式，即使规定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ut (_all_)($10. $1. 5*10.2);_ERROR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N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两项都不会显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Box 3"/>
          <p:cNvSpPr/>
          <p:nvPr/>
        </p:nvSpPr>
        <p:spPr>
          <a:xfrm>
            <a:off x="1500120" y="714240"/>
            <a:ext cx="58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外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X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本，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行为变量名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.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4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am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x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h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893960" y="46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571760" y="5072040"/>
          <a:ext cx="5572080" cy="73188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      sex  age  height  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red      M    14   69.0    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F     13    56.5     84.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矩形 6"/>
          <p:cNvSpPr/>
          <p:nvPr/>
        </p:nvSpPr>
        <p:spPr>
          <a:xfrm>
            <a:off x="650160" y="1170360"/>
            <a:ext cx="4546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此段程序模板非常有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8800" y="1142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特殊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Text Box 1031"/>
          <p:cNvSpPr/>
          <p:nvPr/>
        </p:nvSpPr>
        <p:spPr>
          <a:xfrm>
            <a:off x="1428840" y="2500200"/>
            <a:ext cx="57862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_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省略数据集名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0" name="TextBox 3"/>
          <p:cNvSpPr/>
          <p:nvPr/>
        </p:nvSpPr>
        <p:spPr>
          <a:xfrm>
            <a:off x="1571760" y="3143160"/>
            <a:ext cx="38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data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等价于语句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;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自动为数据集赋名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1, data2,…, data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RESSET</cp:lastModifiedBy>
  <dcterms:modified xsi:type="dcterms:W3CDTF">2013-02-26T07:32:12Z</dcterms:modified>
  <cp:revision>269</cp:revision>
  <dc:subject/>
  <dc:title>第1章 SAS软件入门</dc:title>
</cp:coreProperties>
</file>