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BF84-F06E-40B3-8FF9-6583F6BC66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07F2-CA0C-4E10-829A-A5B78A89B684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D8A-25DC-4ABF-9D90-4E11144A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94B-C190-489B-B843-A6B5CF1B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C5206-38EE-47BD-81DD-5EF7F4A0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748E5-B92D-4992-9DCB-0C2787CA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5E330-9CA1-4F1C-892B-EC81474C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B92BA-561B-4A3A-871F-D35B1E72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1E909-F172-4410-8FD2-79CA7F0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2D24D-FF21-4304-910B-9423EED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5C246-31A3-41D0-8362-884C190F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097F8-3248-48CE-ACD3-08D36D1D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7180A-253F-49A0-926D-F2EF1BD7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4525B-18E7-47AD-B25C-34FA733F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15C-8B73-4169-8CCB-4D258779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CB408-2039-4BA0-99F7-E952255E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0D7ED-2CB5-4C5F-841B-0E3D6CD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4C20D-4A84-4159-8C45-1E3B084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45962-8215-4A42-AF11-FEE17194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BEF38-6303-4C00-AA2F-DBF908C8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86FFB-B1BF-4145-A7C3-EFF5F990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A21C1-DD96-4F49-91B4-02F3D386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526CA-8803-44B9-846A-92620ECD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06A73-75E7-4AD7-BB13-F6C2181C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7A08B-9522-4990-9CF2-282D3E56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320-2C04-49EF-B07E-6125CCC5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4F9FC-B911-495A-8752-05BF35EA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B6F6B-CCE8-4A18-AAC9-E8A28370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D8FDC-458D-4921-ADB5-B1A06FCF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D2F02-3D8E-497A-9ECC-5DFBB81E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8D595-4B69-4481-AF09-5AC7A45D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31671-FEA1-400C-A8FD-6D538367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34BFB-76D6-4CE0-B66B-DAB298E3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9D4E3-0061-4E26-A793-159A55E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03545-E65C-4740-830C-4D70D19B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6B028-C74E-40E6-B164-DFD267F8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2FCB-D995-4638-895C-D89F2CCC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17705-4950-420D-A9F7-25264D7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710A5-FC1A-428F-B125-715E7A7E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470D7-D2E9-4F65-A5B0-05C55164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06CD7-E9C8-4DEA-A0BF-3927B278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69A06-A364-454E-9398-0097FF77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C361B-F3D0-4410-9DE8-9C7C85F4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A043A-61B6-4E21-AEE9-684CE6E3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D4DAE-24A8-4B41-AC9D-5D1ADDB3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2FEA4-6697-4F7B-B0FB-C8B3E51B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D639E-EF35-4A97-BF69-8CA55584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F0CC-A3F8-4321-AB4D-5951C3D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0ADD1-EBC9-4275-9F73-BCA3620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521D4-526C-455B-BE66-B3D2F41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558C0-2C31-44E2-B190-2F262797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5B4E0-CEBD-496F-A47A-97E56A28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03026-0E25-4C78-ADA5-82684739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E88B9-8155-41DA-9679-96D01F86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F7D02-D10A-4BB6-BDB1-36CE030B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33D04-E7ED-4196-9085-C6889D35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4C370-082A-44C8-84AB-7FE08290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A9E6D-4ABF-4654-BD78-BE312DFD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2510-21EB-4182-A7DD-1804261C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0315D-AC7F-4078-B371-92A8AD35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BEBF0-383E-47B4-90FA-6C4DF644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FE8AB-3806-4EFF-862F-4666BEF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A1686-7FC3-4FAC-B486-686B61BE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22ED9-00E6-44A4-B56E-60B54E61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C7723-0BDD-4747-841C-5D48D6C6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1503D-F59C-48AD-8F06-B3968C7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916C-2C88-4FEC-BBC2-2279EAE4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AA78-0ED7-409A-B4CF-6FD5542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DD11-BF95-46F2-9C31-45BDBD8F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9C48-5C24-4A00-80BB-16E06F7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9A3-7C25-4FC1-82F2-5B94914B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B244-FFAD-4CAD-AE52-B2C6A632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F253-7A98-4D22-BC77-B2AE5E3B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45C7-EBDD-4615-AA73-AE042585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C529-C142-441F-A220-6015FEFE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2A7C-C5F9-4B27-A071-BC0D354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BD9E-8204-40B3-B1D7-71A4CAF2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7864-45C5-4952-AEBD-3444430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BA92-2E3A-4286-9F60-8D8364CF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B1E3-BFE9-420F-8C53-F437A20C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F476A-52CA-4C63-9960-1B84182A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6A1-69AF-48CC-9A56-EC69C97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914A-A63E-4E90-9E22-D59867D0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7FAB-A1B1-43B8-9522-FA1AA909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3A65-D8B9-456C-83FB-A620ECD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4BD9-8B1E-4FC3-9B60-7536D771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5C9B-DDAA-439C-A822-8D8D6116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24B9-33AD-4ACC-B7D4-1F366622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5D37-B338-494C-A09C-8FA541B8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EC1E2-CB8F-4D51-99E4-AED219CD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3C7AA-DC94-4EBF-B31F-F9E09527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2256-605E-4DDD-8EC2-7D0262E7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659-DEC5-464F-958A-8FC948F6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EA12-E8D9-4993-88C1-47793855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0E57C-8C0C-4EE7-9919-162FDDD6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6DF1-0E34-4C42-973E-FB3498B5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41D71-E36E-4D4D-9D8C-094AD236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D58EB-CEDB-47BD-9C38-78F6DE2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CF15A-962C-4840-BEDB-95B06B0E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2C333-6A3F-4037-85B1-478DFA5E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B35A7-1349-4019-B31F-7993BA8E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848FF-3BFF-4C5B-A7E8-F28F6438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EE300-C13A-45E8-B9F5-952EF972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E4C-C9F4-4576-B467-B248339E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AC49-6B06-417B-8038-83CB488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5A96F-4215-4FB4-AD99-CCEC1598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EBFC3-0F0D-466D-B5C5-734B0371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6B149-7B91-4E2F-AC6C-AB093CE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E7BF-016F-44C4-BCF1-74BD7893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7188-EFE3-44AD-8AC5-56CD071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F7B3-AB61-469C-ACE1-D4060C0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0C520-3DEE-48F3-8B25-2D705DB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551E9-0332-4D22-A68A-1020CB5F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3B2F-A961-4FA3-BEE8-D728C338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5AE-7834-4D12-85DB-43E4B67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8513F-C5B3-4055-ACF1-8FF0610F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A666-754C-4F58-85D3-B702E295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43285-C4B3-4D05-A3A0-6A30E66C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66C8A-05FC-45B0-8FD3-8ABD36F7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4CDA-8504-4AEB-B2BE-EA23E684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087D-50F2-42E0-8D6E-689403E0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87133-69A2-47FA-A5CB-FD0FB816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9DC6-6608-4DB4-81D1-76ACA6A8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5A0DE-0F98-4F96-A7D9-E7ACAECF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E6195-D13F-453E-A481-9197896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56D-D5A6-42C5-9869-38BDB4B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8F6A-6AE1-4578-BA01-20A6A102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856F-7EB2-4CC1-A4D0-71BCDC64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4BE56-4795-4B29-BEB6-BCBBE308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B219C-345B-4F7F-A491-5E64DB43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24880-C9EF-4985-ACDC-16CB59BF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5D7E5-CD16-4A40-A17E-34ABC204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9BB19-3111-415E-A832-5363B999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61A54-A830-41B0-98D7-575848FD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EACB9-0427-4184-B471-3242E257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2CD52-1834-447E-BD2E-62EC6CE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8A6-6820-419F-ADB7-39253F52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ACE46-FFEE-4C45-A135-CA3BE43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9D61-29E7-4FC1-9B83-DEA1D11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2181-1C09-4120-B1B4-0F764919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70435-57C7-41D7-9118-F65581B3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6E36-D6F8-426E-9FAA-D46F4303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274BF-8144-4B16-8C5C-C8308C7B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692B-864E-4607-824E-DAED749E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24AE7-9DF9-43F3-AEF6-3816D78E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2F7E8-0463-4423-87CD-0DEDCB0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863EA-D42F-433E-876A-E8FA0AD2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DA7-7BDD-4B85-AAFD-DC6FCF72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CBD36-959D-4AA4-B045-1B912616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CEFFD-2B6E-4F15-8340-6930E3D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529B5-2A18-49F4-BE8D-590A72C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BB28C-F0C3-481B-8705-279CB44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474FB-2775-484B-B9AE-9244CDE1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DA4A3-2CDC-4EDA-B4AE-9807D135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BE9B2-34BD-4A99-A313-34029E05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37AE8-C325-4ED0-BC52-F546BD63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DDD25-74A7-4190-AAD2-1C75482D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3ABE1-93CE-489C-AB71-DF478EF3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100-A42C-4B71-A4D1-4322F838A3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5509-973B-4DF9-A514-A2AAC34329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B096-9333-4CF7-867D-F7354C85E6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3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F96C-D235-4732-A843-F7B793FD09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3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EE2A-56F4-4395-9528-0C93C8613F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9968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43160" y="6428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2789-71AE-4C86-BE35-17491527F1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7180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5C94-50A2-4D3E-925F-2DB0BC6C6B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3185-0E28-4822-B2BE-4F118FF0DF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789B-946B-42EB-B484-EC78AEE061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76A0-FD3A-4463-86A5-F906FD9FC7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DE96-2B02-407B-939A-4DF8F61D67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398C-6CAD-48AB-9691-9A905997C5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ms-its:base.chm::/base.hlp/a000206074.htm" TargetMode="External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www.resset.cn/" TargetMode="External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ms-its:base.chm::/base.hlp/dsstmt_nobs.htm" TargetMode="External"/><Relationship Id="rId2" Type="http://schemas.openxmlformats.org/officeDocument/2006/relationships/hyperlink" Target="ms-its:base.chm::/base.hlp/dsstmt_point.htm" TargetMode="External"/><Relationship Id="rId3" Type="http://schemas.openxmlformats.org/officeDocument/2006/relationships/hyperlink" Target="ms-its:base.chm::/base.hlp/dsstmt_key.htm" TargetMode="External"/><Relationship Id="rId4" Type="http://schemas.openxmlformats.org/officeDocument/2006/relationships/hyperlink" Target="ms-its:base.chm::/base.hlp/dsstmt_moduniq.htm" TargetMode="External"/><Relationship Id="rId5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6"/>
          <p:cNvSpPr/>
          <p:nvPr/>
        </p:nvSpPr>
        <p:spPr>
          <a:xfrm>
            <a:off x="3591360" y="392976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1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4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DATA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数据集操作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971280" y="1571400"/>
            <a:ext cx="71247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null_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起用。由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结果，只输出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，不会产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Text Box 2048"/>
          <p:cNvSpPr/>
          <p:nvPr/>
        </p:nvSpPr>
        <p:spPr>
          <a:xfrm>
            <a:off x="4214880" y="3071880"/>
            <a:ext cx="4392720" cy="243396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0   data _null_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1   x=exp(5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2   y=log(10)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3   put x= y=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84 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x=148.4131591 y=2.30258509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NOTE: “DATA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”所用时间（总处理时间）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实际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3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时间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3" name="TextBox 3"/>
          <p:cNvSpPr/>
          <p:nvPr/>
        </p:nvSpPr>
        <p:spPr>
          <a:xfrm>
            <a:off x="1116000" y="3143160"/>
            <a:ext cx="280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产生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exp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=log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x= y=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1357200" y="1000080"/>
            <a:ext cx="4357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OL_OBS NEW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51.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0.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25.7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35.00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point=tool_obs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b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ax_ob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error_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ERROR occurred for TOOL_OBS=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ol_obs 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uring DATA step iteration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n_ 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TOOL_OBS value may be out of range.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error_=</a:t>
            </a:r>
            <a:r>
              <a:rPr b="1" lang="en-US" sz="1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=newp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42" name="TextBox 4"/>
          <p:cNvSpPr/>
          <p:nvPr/>
        </p:nvSpPr>
        <p:spPr>
          <a:xfrm>
            <a:off x="1357200" y="6429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5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通过观测序号修改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Box 3"/>
          <p:cNvSpPr/>
          <p:nvPr/>
        </p:nvSpPr>
        <p:spPr>
          <a:xfrm>
            <a:off x="1214280" y="1428840"/>
            <a:ext cx="407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51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索引修改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key=partn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OCK=instock+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iorc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TextBox 4"/>
          <p:cNvSpPr/>
          <p:nvPr/>
        </p:nvSpPr>
        <p:spPr>
          <a:xfrm>
            <a:off x="1143000" y="1071720"/>
            <a:ext cx="5357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5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处理重复索引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创建一个有重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ARTN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值的新修改数据集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O $ 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89R 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J7 2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J7 2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66 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N7 10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66 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03 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V1E 2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45" name="TextBox 5"/>
          <p:cNvSpPr/>
          <p:nvPr/>
        </p:nvSpPr>
        <p:spPr>
          <a:xfrm>
            <a:off x="4714920" y="1714680"/>
            <a:ext cx="3786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则下面程序会出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key=partn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OCK=instock+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可以使用选项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UNIQU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来避免出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key=partno / uniqu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OCK=instock+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iorc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extBox 3"/>
          <p:cNvSpPr/>
          <p:nvPr/>
        </p:nvSpPr>
        <p:spPr>
          <a:xfrm>
            <a:off x="1000080" y="1357200"/>
            <a:ext cx="6357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5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修改，添加，删除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stock95 stock97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date&g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'01jan97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97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date&lt;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'01jan96'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95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=price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集加密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通常有三种密码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ad ,write, alt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对应权限分别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ad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读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wri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写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lt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－修改结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143000" y="149976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.59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带密码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em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create dataset with password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read=read_ps  write=write_ps  alter=alter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read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conten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demo(read=read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write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1143000" y="1499760"/>
            <a:ext cx="6929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*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接上文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write=write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alter access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(alter=alter_ps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1213920" y="785880"/>
            <a:ext cx="72867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.60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比较带密码数据集操作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差别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write access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alter  access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2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mo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创建的数据集不是原来的数据集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可用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不需要密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导出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1143000" y="1714680"/>
            <a:ext cx="69292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导出数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第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章已经介绍了用菜单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C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格式数据文件（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表为例）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，本章不再赘述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过程步导出数据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1143000" y="1714680"/>
            <a:ext cx="6929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过程步导出数据与第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章过程步导入数据方向相反，句法如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EXPORT DATA=LIB.MyDataS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FILE="filename" | TABLE="tablename"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BMS=identifier&gt;&lt;REPLACE&gt;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1571760" y="4286160"/>
          <a:ext cx="5715000" cy="2167200"/>
        </p:xfrm>
        <a:graphic>
          <a:graphicData uri="http://schemas.openxmlformats.org/drawingml/2006/table">
            <a:tbl>
              <a:tblPr/>
              <a:tblGrid>
                <a:gridCol w="1724040"/>
                <a:gridCol w="3990960"/>
              </a:tblGrid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LIB.MyDataSet 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2d69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要导出的</a:t>
                      </a: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2d69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FILE =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导出的外部文件的地址及名称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TABLE =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外部数据文件中的表名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BMS= 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外部数据文件格式的标识名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PLACE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2d69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替换已存在文件</a:t>
                      </a:r>
                      <a:endParaRPr b="0" lang="en-US" sz="1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2d69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9" name="矩形 4"/>
          <p:cNvSpPr/>
          <p:nvPr/>
        </p:nvSpPr>
        <p:spPr>
          <a:xfrm>
            <a:off x="1832400" y="3857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1219320" y="1752480"/>
            <a:ext cx="723888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last_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_last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一个自动变量，取值为最新创建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5" name="TextBox 2"/>
          <p:cNvSpPr/>
          <p:nvPr/>
        </p:nvSpPr>
        <p:spPr>
          <a:xfrm>
            <a:off x="1643040" y="3143160"/>
            <a:ext cx="371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黑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查看最新创建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last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程序模板：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1" name="TextBox 3"/>
          <p:cNvSpPr/>
          <p:nvPr/>
        </p:nvSpPr>
        <p:spPr>
          <a:xfrm>
            <a:off x="1071720" y="142884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6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XCE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表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p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ashelp.class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要导出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数据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class.xls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导出外部文件的地址及名称，可根据需要更改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b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excel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有文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et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excel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输出工作表名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file=yes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来表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6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导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文本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p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ashelp.class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要导出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数据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class.tx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规定导出外部文件的地址及名称，可根据需要更改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b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ta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替换原有文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names=yes;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加入变量名称，不加选择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6929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PUT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FILE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组合输出外部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TXT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文本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143000" y="1714680"/>
            <a:ext cx="692928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要求：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写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，将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clas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输出为外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X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文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4" name="TextBox 3"/>
          <p:cNvSpPr/>
          <p:nvPr/>
        </p:nvSpPr>
        <p:spPr>
          <a:xfrm>
            <a:off x="1571760" y="2643120"/>
            <a:ext cx="45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 $ sex  $ age height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5" name="TextBox 4"/>
          <p:cNvSpPr/>
          <p:nvPr/>
        </p:nvSpPr>
        <p:spPr>
          <a:xfrm>
            <a:off x="1643040" y="4214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1643040" y="4786200"/>
          <a:ext cx="5929200" cy="7858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red    M     14.00     69.00    112.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ice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     13.00     56.50     84.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1071720" y="1000080"/>
            <a:ext cx="69292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过多时，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写出所有输出变量会很麻烦，下面使用自动变量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_All_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看看输出的结果是不是符合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8" name="Rectangle 1"/>
          <p:cNvSpPr/>
          <p:nvPr/>
        </p:nvSpPr>
        <p:spPr>
          <a:xfrm>
            <a:off x="1071720" y="2286360"/>
            <a:ext cx="27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列出变量名方法一：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9" name="TextBox 4"/>
          <p:cNvSpPr/>
          <p:nvPr/>
        </p:nvSpPr>
        <p:spPr>
          <a:xfrm>
            <a:off x="1500120" y="27860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1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0" name="TextBox 6"/>
          <p:cNvSpPr/>
          <p:nvPr/>
        </p:nvSpPr>
        <p:spPr>
          <a:xfrm>
            <a:off x="1428840" y="4214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71" name=""/>
          <p:cNvGraphicFramePr/>
          <p:nvPr/>
        </p:nvGraphicFramePr>
        <p:xfrm>
          <a:off x="1500120" y="4714920"/>
          <a:ext cx="5786640" cy="61416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=Alfred Sex=M Age=14 Height=69 Weight=112.5 _ERROR_=0 _N_=1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=Alice Sex=F Age=13 Height=56.5 Weight=84 _ERROR_=0 _N_=2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1"/>
          <p:cNvSpPr/>
          <p:nvPr/>
        </p:nvSpPr>
        <p:spPr>
          <a:xfrm>
            <a:off x="1143000" y="1498680"/>
            <a:ext cx="6786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列出变量名方法二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既不需要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后面一一输入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las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中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个变量名，输出结果又能满足要求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3" name="TextBox 4"/>
          <p:cNvSpPr/>
          <p:nvPr/>
        </p:nvSpPr>
        <p:spPr>
          <a:xfrm>
            <a:off x="1428840" y="242892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3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$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4" name="TextBox 10"/>
          <p:cNvSpPr/>
          <p:nvPr/>
        </p:nvSpPr>
        <p:spPr>
          <a:xfrm>
            <a:off x="1428840" y="3929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571760" y="4357800"/>
          <a:ext cx="5929200" cy="7858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red    M     14.00     69.00    112.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lice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     13.00     56.50     84.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6" name="TextBox 12"/>
          <p:cNvSpPr/>
          <p:nvPr/>
        </p:nvSpPr>
        <p:spPr>
          <a:xfrm>
            <a:off x="4357800" y="242892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意思的是在这种情况下，虽然也是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_all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，但是由于规定了格式，即使规定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ut (_all_)($10. $1. 5*10.2);_ERROR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_N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两项都不会显示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Box 3"/>
          <p:cNvSpPr/>
          <p:nvPr/>
        </p:nvSpPr>
        <p:spPr>
          <a:xfrm>
            <a:off x="1500120" y="714240"/>
            <a:ext cx="585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输出外部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XT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文本，第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行为变量名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$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  $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ight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4.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D:\class4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n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name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sex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age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heigh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weight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8" name="矩形 4"/>
          <p:cNvSpPr/>
          <p:nvPr/>
        </p:nvSpPr>
        <p:spPr>
          <a:xfrm>
            <a:off x="1893960" y="46432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显示结果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行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1571760" y="5072040"/>
          <a:ext cx="5572080" cy="731880"/>
        </p:xfrm>
        <a:graphic>
          <a:graphicData uri="http://schemas.openxmlformats.org/drawingml/2006/table">
            <a:tbl>
              <a:tblPr/>
              <a:tblGrid>
                <a:gridCol w="55720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      sex  age  height  weigh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fred      M    14   69.0    112.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Alic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F     13    56.5     84.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0" name="矩形 6"/>
          <p:cNvSpPr/>
          <p:nvPr/>
        </p:nvSpPr>
        <p:spPr>
          <a:xfrm>
            <a:off x="650160" y="1170360"/>
            <a:ext cx="4546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此段程序模板非常有用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WordArt 2"/>
          <p:cNvSpPr txBox="1"/>
          <p:nvPr/>
        </p:nvSpPr>
        <p:spPr>
          <a:xfrm>
            <a:off x="1214280" y="342900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一个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DATA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下多个数据集名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5920" y="1928520"/>
            <a:ext cx="68580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8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观测子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St  MaleS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宋体"/>
              </a:rPr>
              <a:t>'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emaleSt ;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t 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Rectangle 1035"/>
          <p:cNvSpPr/>
          <p:nvPr/>
        </p:nvSpPr>
        <p:spPr>
          <a:xfrm>
            <a:off x="1000080" y="45007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中，根据条件产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观测子集，名字分别为女同学信息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ale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男同学信息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e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2"/>
          <p:cNvSpPr/>
          <p:nvPr/>
        </p:nvSpPr>
        <p:spPr>
          <a:xfrm>
            <a:off x="1571760" y="1785960"/>
            <a:ext cx="464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9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变量子集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形成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(keep=name height) weight (keep=name weight);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0" name="Rectangle 1026"/>
          <p:cNvSpPr/>
          <p:nvPr/>
        </p:nvSpPr>
        <p:spPr>
          <a:xfrm>
            <a:off x="642960" y="85716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一个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ATA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语句下多个数据集名 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1" name="Rectangle 1035"/>
          <p:cNvSpPr/>
          <p:nvPr/>
        </p:nvSpPr>
        <p:spPr>
          <a:xfrm>
            <a:off x="1214280" y="428616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例中，根据条件产生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个变量子集，名子分别为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eight, weight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，每个数据集由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语句保留两个变量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行引导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CARD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与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CARDS4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47920" y="1904760"/>
            <a:ext cx="624816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下面跟着的是数据行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之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TextBox 3"/>
          <p:cNvSpPr/>
          <p:nvPr/>
        </p:nvSpPr>
        <p:spPr>
          <a:xfrm>
            <a:off x="1785960" y="4071960"/>
            <a:ext cx="59292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行之前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1 var2 var3 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20 Firs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中含有分号时，必须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 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ds 4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LINES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；；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TextBox 2"/>
          <p:cNvSpPr/>
          <p:nvPr/>
        </p:nvSpPr>
        <p:spPr>
          <a:xfrm>
            <a:off x="1643040" y="3571920"/>
            <a:ext cx="542916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行中含有分号时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S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1$ var2$ var3 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  ;  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  ;   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;;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5429160" y="4357800"/>
            <a:ext cx="3000600" cy="12859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var1    var2    var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A          ;       B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  (           ;       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8" name="TextBox 4"/>
          <p:cNvSpPr/>
          <p:nvPr/>
        </p:nvSpPr>
        <p:spPr>
          <a:xfrm>
            <a:off x="5572080" y="3929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结果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PUT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71760" y="2428560"/>
            <a:ext cx="5952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U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输出信息到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a59a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的外部文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1499760" y="1571400"/>
            <a:ext cx="676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简单方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 specification(s)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 pointer-control&gt;&lt;specification&gt;&lt;...specification &lt;@ | @@&gt;&gt;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方式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格式化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 format.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(variable-list) (format-list)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列表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 &gt; variable &lt;$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 &gt; &lt;n*&gt; 'character-string'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variable &lt;: | ~&gt; format. 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命名方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= &lt;format.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variable= &lt;$&gt; start-column &lt;-end-column&gt;&lt;</a:t>
            </a: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.d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ecimalplaces&gt;&lt;@ | @@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Text Box 1"/>
          <p:cNvSpPr/>
          <p:nvPr/>
        </p:nvSpPr>
        <p:spPr>
          <a:xfrm>
            <a:off x="1000080" y="107172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语句格式</a:t>
            </a:r>
            <a:r>
              <a:rPr b="1" lang="zh-TW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1714680" y="1428840"/>
          <a:ext cx="6286320" cy="4998960"/>
        </p:xfrm>
        <a:graphic>
          <a:graphicData uri="http://schemas.openxmlformats.org/drawingml/2006/table">
            <a:tbl>
              <a:tblPr/>
              <a:tblGrid>
                <a:gridCol w="2033280"/>
                <a:gridCol w="42530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specification(s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变量及其格式的详细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variable-lis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要读入数据值的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@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执行下一个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时指针移到下一记录行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要求一条记录必须对应一个数据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@@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执行下一个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句时指针保持在当前记录行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不要求一条记录对应一个数据行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$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定义字符型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start-colum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变量值在记录行中的起始列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-column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变量值在记录行中的终止列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cimalplace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小数点位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pointer-control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移动输入指针到指定的行或列上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format 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变量的输入格式；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format-list -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列出变量列表对应的输入格式列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cimal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小数部分的位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TextBox 3"/>
          <p:cNvSpPr/>
          <p:nvPr/>
        </p:nvSpPr>
        <p:spPr>
          <a:xfrm>
            <a:off x="3214800" y="10717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Times New Roman"/>
              </a:rPr>
              <a:t>表</a:t>
            </a: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4.1 </a:t>
            </a:r>
            <a:r>
              <a:rPr b="1" lang="zh-CN" sz="1400" spc="-1" strike="noStrike">
                <a:solidFill>
                  <a:srgbClr val="080808"/>
                </a:solidFill>
                <a:latin typeface="Times New Roman"/>
              </a:rPr>
              <a:t>变量及其格式说明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12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宋体"/>
                <a:ea typeface="宋体"/>
              </a:rPr>
              <a:t>PUT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语句产生的输出结果及其比较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3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*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_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输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32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下划线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"_"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1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输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0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个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1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x  y 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_infile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最新的数据行到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AS Log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-5 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 3 7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 2 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3786120" y="4429080"/>
            <a:ext cx="32767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3929040" y="4929120"/>
          <a:ext cx="1928880" cy="109692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1   -5 9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0    3  7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楷体_GB2312"/>
                        </a:rPr>
                        <a:t>10  2 8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5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数据集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行引导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语句</a:t>
            </a:r>
            <a:r>
              <a:rPr b="0" lang="da-DK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已存在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横向合并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删除变量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DROP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保留变量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更改变量名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与保留数值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RETAIN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输出外部文件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FIL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定义外部数据文件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更新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修改数据语句</a:t>
            </a:r>
            <a:r>
              <a:rPr b="0" lang="en-US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导出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5"/>
          <p:cNvSpPr/>
          <p:nvPr/>
        </p:nvSpPr>
        <p:spPr>
          <a:xfrm>
            <a:off x="1785960" y="1571760"/>
            <a:ext cx="300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null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  y  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5 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3 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2 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1785960" y="4357800"/>
          <a:ext cx="5857920" cy="1360440"/>
        </p:xfrm>
        <a:graphic>
          <a:graphicData uri="http://schemas.openxmlformats.org/drawingml/2006/table">
            <a:tbl>
              <a:tblPr/>
              <a:tblGrid>
                <a:gridCol w="5857920"/>
              </a:tblGrid>
              <a:tr h="136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1 y=-5 z=9 _ERROR_=0 _N_=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0 y=3 z=7 _ERROR_=0 _N_=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=10 y=2 z=8 _ERROR_=0 _N_=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矩形 7"/>
          <p:cNvSpPr/>
          <p:nvPr/>
        </p:nvSpPr>
        <p:spPr>
          <a:xfrm>
            <a:off x="2162160" y="3929040"/>
            <a:ext cx="166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1028"/>
          <p:cNvSpPr/>
          <p:nvPr/>
        </p:nvSpPr>
        <p:spPr>
          <a:xfrm>
            <a:off x="1219320" y="1523880"/>
            <a:ext cx="678168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13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其它控制输出格式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ashelp.cla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@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st.sex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'This is the last of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x $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_page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476360" y="213372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一页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4500720" y="2060640"/>
            <a:ext cx="158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二页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1403280" y="1557360"/>
            <a:ext cx="288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输出窗口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1285920" y="2428920"/>
            <a:ext cx="2786040" cy="364320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lice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Barbara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Carol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ne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net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oyce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udy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ouise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Mary        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is the last of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7" name="矩形 7"/>
          <p:cNvSpPr/>
          <p:nvPr/>
        </p:nvSpPr>
        <p:spPr>
          <a:xfrm>
            <a:off x="4429080" y="2428920"/>
            <a:ext cx="2928960" cy="357192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lfred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Henry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ames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effrey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ohn  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Philip  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Robert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Ronald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omas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William     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is the last of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4"/>
          <p:cNvSpPr/>
          <p:nvPr/>
        </p:nvSpPr>
        <p:spPr>
          <a:xfrm>
            <a:off x="1403280" y="1844640"/>
            <a:ext cx="612144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Example of overprin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ver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-------------------------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1403280" y="3429000"/>
            <a:ext cx="41054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0" name="矩形 3"/>
          <p:cNvSpPr/>
          <p:nvPr/>
        </p:nvSpPr>
        <p:spPr>
          <a:xfrm>
            <a:off x="1643040" y="4000680"/>
            <a:ext cx="4286160" cy="57132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xample of overprin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------------------------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列方式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56840" y="4857480"/>
            <a:ext cx="67820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LOG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输出结果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00.00   300.000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1714680" y="2857680"/>
            <a:ext cx="471456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4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控制输出的列位置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4" name="Rectangle 1027"/>
          <p:cNvSpPr/>
          <p:nvPr/>
        </p:nvSpPr>
        <p:spPr>
          <a:xfrm>
            <a:off x="1285920" y="1714680"/>
            <a:ext cx="6781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PUT &lt;variable&gt; &lt;$&gt; start-column &lt;-end-column&gt;&lt;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.d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ecimalplaces&gt; &lt;@ | @@&gt;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列表方式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 &gt; variable &lt;$&gt;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 &gt; &lt;n*&gt; 'character-string' 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pointer-control&gt; variable &lt;: | ~&gt; format. &lt;@ | @@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修饰符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*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后面格式重复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次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: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后面格式输出变量值时去掉前后的空格。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1371600" y="4286160"/>
            <a:ext cx="723888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输出结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34,569.24 18,969.06  3,592.1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TextBox 2"/>
          <p:cNvSpPr/>
          <p:nvPr/>
        </p:nvSpPr>
        <p:spPr>
          <a:xfrm>
            <a:off x="1785960" y="1571760"/>
            <a:ext cx="528624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1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应用举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1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34569.2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2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18969.0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3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592.1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</a:rPr>
              <a:t>comma10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8440" y="85716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格式化输出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934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variable&gt; &lt;$&gt; start-column &lt;-end-column&gt;&lt;.decimalplaces&gt; 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er-control&gt; variable format.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inter-control&gt; (variable-list) (format-list) &lt;@ | @@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1714320" y="1785600"/>
            <a:ext cx="561636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4.16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应用举例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&amp;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ldg $ room;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nam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有空格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bldg room) (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1.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"-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从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20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列开始输出第二、三个变量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U BEIJING  J  12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BERT US  C  23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5"/>
          <p:cNvSpPr/>
          <p:nvPr/>
        </p:nvSpPr>
        <p:spPr>
          <a:xfrm>
            <a:off x="1763640" y="1484280"/>
            <a:ext cx="604836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3   data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4   input name &amp; $10. bldg $ room;      /*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变量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nam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有空格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5   put name @20 (bldg room) ($1."-", 3.); /*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从第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20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列开始输出第二、三个变量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6   card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GU BEIJING         J-12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ROBERT US          C-23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NOTE: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数据集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WORK.A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有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个观测和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个变量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NOTE: “DATA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语句”所用时间（总处理时间）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实际时间        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0.01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CPU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时间        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0.00 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59 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60 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创建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DATA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42640" y="1856880"/>
            <a:ext cx="76201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1 &lt; (data-set-options-1)&gt; &gt; &lt;...data-set--name--n &l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(data-set-options-n) &gt;&gt;  &lt;/ DEBUG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iew-name &lt;data-set-name-1 &lt;(data-set-options-1)&g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 . .data-set-name-n &lt;(data-set-options-n)&gt;&gt; /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VIEW=view-name &lt;(&lt; password-option&gt;&lt; SOURCE=source-option&gt;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ata-set-name / PGM=program-name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&lt;password-option&gt;&lt;SOURCE=source-option&gt;)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PGM=program-name (&lt;password-option&gt;); &lt;DESCRIBE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 REDIRECTREDIRECT INPUT | OUTPUT old-name-1 = new-name-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... old-name-n = new-name-n&gt;&gt;; &lt;EXECUTE;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VIEW=view-name (&lt;password-option&gt;); DESCRIBE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4"/>
          <p:cNvSpPr/>
          <p:nvPr/>
        </p:nvSpPr>
        <p:spPr>
          <a:xfrm>
            <a:off x="1042920" y="1628640"/>
            <a:ext cx="338472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上面程序也可以写成：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me &amp;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</a:rPr>
              <a:t>$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ldg $ room 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-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me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ldg $ a $ room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 BEIJING  J  12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ERT US  C  23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但第一种方法的效果好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4572000" y="1413000"/>
            <a:ext cx="417672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窗口输出结果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1   data a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2   input name &amp; $10. bldg $ room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3   a='-'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4   put name @20 bldg $ a $ room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5   cards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GU BEIJING         J - 125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ROBERT US          C - 233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NOTE: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数据集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WORK.A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有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2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个观测和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4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个变量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NOTE: “DATA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语句”所用时间（总处理时间）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: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     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实际时间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0.03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CPU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时间   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0.00 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PMingLiU"/>
              </a:rPr>
              <a:t>秒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8   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PMingLiU"/>
              </a:rPr>
              <a:t>69   run;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42600" y="107172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读入已存在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AS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SET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99720" y="2142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从一个或多个已存在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读取观测值，并将这些观测组合在一个或多个新的数据集中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&lt;data-set-name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(data-set-options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)&gt;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 data-set-name-n &lt;(data-set-options-n )&gt;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POINT=variable-name |KEY=index-name&gt;/UNIQUE&gt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BS=variable-name &gt; &lt;END=variable-name 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中可以有多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一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可以有任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39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116000" y="2205000"/>
          <a:ext cx="7310520" cy="3745080"/>
        </p:xfrm>
        <a:graphic>
          <a:graphicData uri="http://schemas.openxmlformats.org/drawingml/2006/table">
            <a:tbl>
              <a:tblPr/>
              <a:tblGrid>
                <a:gridCol w="2519280"/>
                <a:gridCol w="4791240"/>
              </a:tblGrid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没有变元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最新创建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组合的数据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-Set-Optio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对数据集的操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常用选项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=,where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和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in=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oint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控制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ET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读入的观测序号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BS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记录读入数据集的观测总数。此变量不含在新产生的数据集中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_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作为文件结束的标识。文件结束时取值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，其它观测取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此变量不含在新的数据集中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285560" y="714240"/>
            <a:ext cx="678636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.17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说明若干举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临时变量选项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s=_n_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point=n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读入数据集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中的第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3,5,7,4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观测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选项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时，经常要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stop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来终止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步的执行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选项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oint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时，经常要用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来终止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执行。因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指针只有在遇到数据集的最后一条观测才会停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执行，而这里选择读入的最后一条观测一般情况下并不是数据集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最后一条观测，所以，需要专门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停止指针执行，否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会陷入死循环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857160" y="1571760"/>
            <a:ext cx="72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去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t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：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o  end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循环不能让指针达到最后一条观测值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会让循环持续执行，形成死循环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o n=3,5,7,4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 a point=n;   /*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读入数据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中的第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,5,7,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outpu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end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中断工具终止程序运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1213920" y="785520"/>
            <a:ext cx="600084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例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4.18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连续两个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y$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Groucho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Harpo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Kart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o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Z$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Chico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 Zeppo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e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o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TextBox 2"/>
          <p:cNvSpPr/>
          <p:nvPr/>
        </p:nvSpPr>
        <p:spPr>
          <a:xfrm>
            <a:off x="5229720" y="1357200"/>
            <a:ext cx="126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n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   Y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1   Grouch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3   Harp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5   Kart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3" name="TextBox 3"/>
          <p:cNvSpPr/>
          <p:nvPr/>
        </p:nvSpPr>
        <p:spPr>
          <a:xfrm>
            <a:off x="5072040" y="292896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w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  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Chic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   Zepp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4" name="TextBox 5"/>
          <p:cNvSpPr/>
          <p:nvPr/>
        </p:nvSpPr>
        <p:spPr>
          <a:xfrm>
            <a:off x="5072040" y="4357800"/>
            <a:ext cx="307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hree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    Y                 Z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2     Groucho     Chic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     Harpo         Zepp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2143080" y="1214280"/>
            <a:ext cx="58341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19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=va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ata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et one(in=one) two(in=two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1=on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2=tw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6" name="Rectangle 5"/>
          <p:cNvSpPr/>
          <p:nvPr/>
        </p:nvSpPr>
        <p:spPr>
          <a:xfrm>
            <a:off x="1857240" y="3431520"/>
            <a:ext cx="114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2143080" y="3857760"/>
          <a:ext cx="4175280" cy="2016000"/>
        </p:xfrm>
        <a:graphic>
          <a:graphicData uri="http://schemas.openxmlformats.org/drawingml/2006/table">
            <a:tbl>
              <a:tblPr/>
              <a:tblGrid>
                <a:gridCol w="362160"/>
                <a:gridCol w="998280"/>
                <a:gridCol w="1014480"/>
                <a:gridCol w="1085760"/>
                <a:gridCol w="714600"/>
              </a:tblGrid>
              <a:tr h="336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in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Grouch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Harp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Kar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Zepp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1752480" y="1905120"/>
            <a:ext cx="5943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规定临时变量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NOBS=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bsnum=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临时变量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ast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point=obsnum   nobs=la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027"/>
          <p:cNvSpPr/>
          <p:nvPr/>
        </p:nvSpPr>
        <p:spPr>
          <a:xfrm>
            <a:off x="1785960" y="1285920"/>
            <a:ext cx="5943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找数据集的观测个数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a=nobs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 nobs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=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找数据集的最后一个观测值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 nobs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_N_=NOB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905120" y="1599840"/>
            <a:ext cx="5595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找数据集最后一个观测值更简单的方法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end=obs_las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bs_last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数据集的最后一个观测值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 End=last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astob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=lastobs;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将临时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lastobs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值赋给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X*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‘last observation:  ’  _all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286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71360" y="4142880"/>
            <a:ext cx="65005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里只给出常用选项的说明，其它选项说明可以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帮助中查找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20" name="Object 2"/>
          <p:cNvGraphicFramePr/>
          <p:nvPr/>
        </p:nvGraphicFramePr>
        <p:xfrm>
          <a:off x="1523880" y="2133720"/>
          <a:ext cx="6019920" cy="161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601992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1285560" y="857160"/>
            <a:ext cx="72723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宋体"/>
                <a:ea typeface="黑体"/>
              </a:rPr>
              <a:t>4.20</a:t>
            </a:r>
            <a:r>
              <a:rPr b="0" lang="zh-CN" sz="18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选项说明若干举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保留部分变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(keep=name sex ag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 (keep= name sex age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ame sex ag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三段程序的结果相同。注意，但第三段程序用的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KEE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并不是数据集选项的应用。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保留部分变量时可生成多个变量子集，如下：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eight(keep=name weight) height(keep=name height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/*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程序将保留变量同时生成两个变量子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1714680" y="1071360"/>
            <a:ext cx="3643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保留部分观测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’M’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=’M’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ale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sex^=’M’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TextBox 2"/>
          <p:cNvSpPr/>
          <p:nvPr/>
        </p:nvSpPr>
        <p:spPr>
          <a:xfrm>
            <a:off x="5214960" y="2857680"/>
            <a:ext cx="314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aleSt  MaleS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F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aleSt ;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x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M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leSt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此程序将保留部分观测同时生成两个观测子集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4" name="TextBox 3"/>
          <p:cNvSpPr/>
          <p:nvPr/>
        </p:nvSpPr>
        <p:spPr>
          <a:xfrm>
            <a:off x="5214960" y="2143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保留部分观测时可生成多个观测子集，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1523880" y="1752120"/>
            <a:ext cx="640584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黑体"/>
              </a:rPr>
              <a:t>4.21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的纵向合并，相同变量的数据集合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qtt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ResDat.stk000001 ResDat.stk000002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黑体"/>
              </a:rPr>
              <a:t>4.2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的纵向合并，不同变量的数据集合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class ResDat.stk000001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1285920" y="499680"/>
            <a:ext cx="357192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4.23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按顺序交替连接数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y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$ x y z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2 3 45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11 2 34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10 4 7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23 7 1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w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$ u v w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20 5 50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12 3 3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16 8 9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27 11 15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TextBox 2"/>
          <p:cNvSpPr/>
          <p:nvPr/>
        </p:nvSpPr>
        <p:spPr>
          <a:xfrm>
            <a:off x="5214960" y="1285920"/>
            <a:ext cx="2786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yz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uv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yz uv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4"/>
          <p:cNvSpPr/>
          <p:nvPr/>
        </p:nvSpPr>
        <p:spPr>
          <a:xfrm>
            <a:off x="956880" y="1341360"/>
            <a:ext cx="99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结果显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755640" y="2205000"/>
          <a:ext cx="8172360" cy="3390840"/>
        </p:xfrm>
        <a:graphic>
          <a:graphicData uri="http://schemas.openxmlformats.org/drawingml/2006/table">
            <a:tbl>
              <a:tblPr/>
              <a:tblGrid>
                <a:gridCol w="1096920"/>
                <a:gridCol w="1281240"/>
                <a:gridCol w="709560"/>
                <a:gridCol w="1281240"/>
                <a:gridCol w="1280880"/>
                <a:gridCol w="1244520"/>
                <a:gridCol w="1278000"/>
              </a:tblGrid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横向合并数据集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MERG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将多个数据集中的观测合并为新数据集中的一个观测。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系统合并观测的方式依赖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使用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data-set-name-1  &lt;(data-set-options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ata-set-name-2 &lt;( data-set-options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data-set-name-n&lt;(data-set-options )&gt;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END=variable-name 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56800" y="85716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选项说明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13" name="Object 2"/>
          <p:cNvGraphicFramePr/>
          <p:nvPr/>
        </p:nvGraphicFramePr>
        <p:xfrm>
          <a:off x="1795320" y="2214720"/>
          <a:ext cx="5372280" cy="161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2214720"/>
                    <a:ext cx="537228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42640" y="1714680"/>
            <a:ext cx="716292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24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对一合并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esDat.class ResDat.stk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一对一合并时，不需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匹配合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stk000001 (keep=date clpr rename=(clpr=clpr000001)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stk000002 (keep=date clpr rename=(clpr=clpr000002)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匹配合并必须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1143000" y="1428840"/>
            <a:ext cx="7238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26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数据集选（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=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股票代码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0000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20001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60060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90090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的首次发行与上市数据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$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1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01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0060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0090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issulst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宋体"/>
              </a:rPr>
              <a:t>resda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issulst stkcd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id)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选择满足条件股票的首次发行与上市数据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kcd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85880" y="1000080"/>
            <a:ext cx="761976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BY</a:t>
            </a: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语句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14280" y="2356920"/>
            <a:ext cx="578664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步中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分组变量。用于控制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,MERGE,UP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操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语句格式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By &lt;Descending&gt; &lt;Groupformat&gt; Variable-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...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escending&gt; &lt;Groupformat&gt; Variable-N&gt; &lt;Notsorted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356840" y="1785960"/>
            <a:ext cx="688356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要创建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系统自动规定数据集名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n 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;   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临时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a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永久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resdat.a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1 data2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创建两个临时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1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data2 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_null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特殊名，不创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数据集，用于输出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1371600" y="1447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选项说明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B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</a:t>
            </a: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概念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21" name="Object 2"/>
          <p:cNvGraphicFramePr/>
          <p:nvPr/>
        </p:nvGraphicFramePr>
        <p:xfrm>
          <a:off x="1371600" y="2133720"/>
          <a:ext cx="4876920" cy="118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4876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3"/>
          <p:cNvGraphicFramePr/>
          <p:nvPr/>
        </p:nvGraphicFramePr>
        <p:xfrm>
          <a:off x="1371600" y="4343400"/>
          <a:ext cx="3962520" cy="94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343400"/>
                    <a:ext cx="39625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FIRST.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变量和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LAST.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宋体"/>
              </a:rPr>
              <a:t>变量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对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创建两个自动变量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.variabl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.variable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标识每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第一个和最后一个观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第一个观测值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.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余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组的最后一个观测值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st.vari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余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些变量不含在新产生的数据集中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1600200" y="1447920"/>
            <a:ext cx="533412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保留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的最后一个观测值。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ResDat.stk000001;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PMingLiU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h=month(dat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ar=year(dat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s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ear 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ear month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st.month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保留每月最后一个观测值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286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删除变量语句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DROP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与保留变量语句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KEEP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43000" y="207144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规定输出数据集中要删除的变量，它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正在创建的所有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都适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ble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要删除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1979640" y="2178000"/>
            <a:ext cx="489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1143000" y="1142640"/>
            <a:ext cx="650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29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r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ex age;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* 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(drop=sex age)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两段程序的效果相同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告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新建数据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将删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X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变量。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143000" y="1928880"/>
            <a:ext cx="7238880" cy="32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规定输出数据中要保留的变量，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正在创建的所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都适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variable-list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-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输出数据集中要保留的变量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1143000" y="14284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.30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与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 (keep=date clpr);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中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esDat.idx000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a 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RO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使用规则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42640" y="242892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步不用同时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起使用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会首先起作用。即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中使用是旧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999720" y="999720"/>
            <a:ext cx="64803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黑体"/>
                <a:ea typeface="黑体"/>
              </a:rPr>
              <a:t>4.31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RENAM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一起使用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用旧变量名时程序运行正常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使用新变量名时程序运行出错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旧变量名，程序运行正常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clpr_SH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e clpr_SH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使用新变量名，程序不能正常运行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lpr=clpr_SH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826920" y="5084640"/>
          <a:ext cx="7201080" cy="106056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未引用过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或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表中的变量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pr_SH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ARNING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未引用过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EP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或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NAME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列表中的变量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lpr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从数据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SDAT.IDX00000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取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89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OTE: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集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WORK.A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有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89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观测和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个变量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6786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Keep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在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rename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的后面也是先起作用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et ResDat.Idx000001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 clpr=clpr_SH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 date clpr_SH; /*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使用新变量名，程序不能正常运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后面也是先起作用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/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1028"/>
          <p:cNvSpPr/>
          <p:nvPr/>
        </p:nvSpPr>
        <p:spPr>
          <a:xfrm>
            <a:off x="1357200" y="1785960"/>
            <a:ext cx="688176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2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数据集选项举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drop=var1);      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去掉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1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keep=_numeric_);   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保留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所有数值变量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label=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股本变动历史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  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规定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标签名为”股本变动历史”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w (rename=(var1=u var2=v))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将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w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中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1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ar2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更名为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*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ok(index=(author subject));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数据集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ook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对变量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uthor subject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建立索引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</a:rPr>
              <a:t>*/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选项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DROP=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KEEP=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使用规则</a:t>
            </a:r>
            <a:r>
              <a:rPr b="1" lang="zh-TW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785880" y="2357280"/>
            <a:ext cx="76438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的使用规则基本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的使用规则。但更灵活，实现同样的功能，对于不同的数据集，新旧名的使用规则也不同</a:t>
            </a:r>
            <a:r>
              <a:rPr b="0" lang="zh-TW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只能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步中使用。为了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步中保留变量或删掉变量，必须使用数据集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EE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＝或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R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＝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4"/>
          <p:cNvSpPr/>
          <p:nvPr/>
        </p:nvSpPr>
        <p:spPr>
          <a:xfrm>
            <a:off x="1143000" y="875880"/>
            <a:ext cx="6993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4.32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读入数据集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keep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选项使用旧变量名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使用旧变量名，程序运行正常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 (keep=date clpr rename=(clpr=clpr_SH)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ResDat.Idx399001 (keep=date clpr rename=(clpr=clpr_SZ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新变量名，程序运行出错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Idx000001 (keep=date clpr_SH rename=(clpr=clpr_SH)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ResDat.Idx399001 (keep=date clpr_SZ rename=(clpr=clpr_SZ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dat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785880" y="4643280"/>
          <a:ext cx="7993080" cy="19209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1920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lpr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不在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000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中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000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ROP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KEEP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或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NAM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选项无效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变量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lpr”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不在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399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中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RROR: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文件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SDAT.IDX399001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ROP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KEEP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或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ENAME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选项无效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39  by date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40  run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NOTE: SAS 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宋体"/>
                          <a:ea typeface="Times New Roman"/>
                        </a:rPr>
                        <a:t>系统由于错误而停止了该步的处理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2020680" y="1353240"/>
            <a:ext cx="531216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3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新创建数据集中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选项使用新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上例中的错误程序，改为新创建数据集中的选项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keep=,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要用新变量名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(keep=date clpr_SH clpr_SZ 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 (rename=(clpr=clpr_SH)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Dat.Idx399001 (rename=(clpr=clpr_SZ))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程序运行正常 </a:t>
            </a:r>
            <a:r>
              <a:rPr b="0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更改变量名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RENAM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42640" y="1856880"/>
            <a:ext cx="728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NAM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可以更改多个变量的名字。</a:t>
            </a: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ld-name-1=new-name-1… &lt;old-name-n=new-name-n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ld-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输入数据集中出现的变量名字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w-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规定变量的新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由于变量的新名字在输出的数据集中才起作用，所以，在当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程序语句须使用老名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1"/>
          <p:cNvSpPr/>
          <p:nvPr/>
        </p:nvSpPr>
        <p:spPr>
          <a:xfrm>
            <a:off x="1428840" y="157176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例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4.34 RENAME</a:t>
            </a:r>
            <a:r>
              <a:rPr b="1" lang="zh-CN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更改多个变量名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keep=date open low high close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Idx00000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pr=open lopr=low hipr=high clpr=close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b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9" name="Rectangle 1026"/>
          <p:cNvSpPr/>
          <p:nvPr/>
        </p:nvSpPr>
        <p:spPr>
          <a:xfrm>
            <a:off x="571680" y="500040"/>
            <a:ext cx="739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应用举例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0" name="矩形 3"/>
          <p:cNvSpPr/>
          <p:nvPr/>
        </p:nvSpPr>
        <p:spPr>
          <a:xfrm>
            <a:off x="1667160" y="371484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OUPPU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窗口显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714240" y="4214880"/>
          <a:ext cx="7786800" cy="107136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194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Obs          Date        open        high         low       clos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   1990-12-19       96.05       99.98       95.79       99.9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   1990-12-20      104.30      104.39       99.98      104.3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3        1990-12-21      109.07      109.13      103.73      109.1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保留数值语句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RETAIN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143000" y="16426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来规定单个变量，变量列表，或数组元素的初始值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为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tain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变量赋新值时会保留该变量前面的值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lement-list-1&lt;initial-value-1|(initial=value-1)|(initial-value-list-1)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…element-list-n&lt;initial-value-n|(initial-value-n)|(initial-value-list-n)&gt;&gt;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54" name="Object 2"/>
          <p:cNvGraphicFramePr/>
          <p:nvPr/>
        </p:nvGraphicFramePr>
        <p:xfrm>
          <a:off x="1643040" y="4599000"/>
          <a:ext cx="6924600" cy="19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4599000"/>
                    <a:ext cx="692460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1285920" y="142848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4.35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没有选项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规定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或赋值语句创建的所有变量值从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的这次执行到下一次重复时被保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于是数据值在一些观测中可能保留了本应为缺失值的其它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@@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ret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pas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fail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2 2 3 5 1 5 3 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1447560" y="1371600"/>
            <a:ext cx="6313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输出结果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都是对的。但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外的值时，没有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条件是真的，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接收新的值。由于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所以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就保持从上一观测中得到的值，这样就产生错误。若从这段程序删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值不等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为空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缺失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58" name="Object 2"/>
          <p:cNvGraphicFramePr/>
          <p:nvPr/>
        </p:nvGraphicFramePr>
        <p:xfrm>
          <a:off x="1928880" y="1785960"/>
          <a:ext cx="1230120" cy="27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785960"/>
                    <a:ext cx="12301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1523520" y="1371240"/>
            <a:ext cx="6977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;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输出结果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 @@;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pass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d=</a:t>
            </a:r>
            <a:r>
              <a:rPr b="1" lang="en-US" sz="2000" spc="-1" strike="noStrike">
                <a:solidFill>
                  <a:srgbClr val="00808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='fail'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2 2 2 3 5 1 5 3 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noo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_, _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UMERIC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规定变量列表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之前定义的变量才有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61" name="Object 2"/>
          <p:cNvGraphicFramePr/>
          <p:nvPr/>
        </p:nvGraphicFramePr>
        <p:xfrm>
          <a:off x="5715000" y="1828800"/>
          <a:ext cx="88596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828800"/>
                    <a:ext cx="885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Box 3"/>
          <p:cNvSpPr/>
          <p:nvPr/>
        </p:nvSpPr>
        <p:spPr>
          <a:xfrm>
            <a:off x="1357200" y="1285920"/>
            <a:ext cx="66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6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对于没有用圆括号括起来初始值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对前面列出的所有元素赋初始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th1-month5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 c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XYZ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句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设置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至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YEA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0,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字符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, B, C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初值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XYZ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7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对于用圆括号括起来初始值时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对括号前的第一个变量赋初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1-month5(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句中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语句分配初始值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给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而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至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onth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初始值被置为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矩形 1"/>
          <p:cNvSpPr/>
          <p:nvPr/>
        </p:nvSpPr>
        <p:spPr>
          <a:xfrm>
            <a:off x="114300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步数据视窗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class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vi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4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存储被编辑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class1(keep=name age weight)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g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cl;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*cl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是被存贮的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SAS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程序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*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黑体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5" name="矩形 2"/>
          <p:cNvSpPr/>
          <p:nvPr/>
        </p:nvSpPr>
        <p:spPr>
          <a:xfrm>
            <a:off x="1285920" y="4429080"/>
            <a:ext cx="6786360" cy="9288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已在文件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CL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中保存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存储的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Times New Roman"/>
              </a:rPr>
              <a:t>程序无法在不同的操作系统下运行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Box 3"/>
          <p:cNvSpPr/>
          <p:nvPr/>
        </p:nvSpPr>
        <p:spPr>
          <a:xfrm>
            <a:off x="1214280" y="114300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8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初始值列表的用法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varl-var4(</a:t>
            </a:r>
            <a:r>
              <a:rPr b="1" lang="sv-SE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 2 3 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tain varl-var4(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,2,3,4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果出现变量个数比初值个数多，剩余的变量用缺失值作为初始值，同时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系统发布一个警告信息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5" name="TextBox 4"/>
          <p:cNvSpPr/>
          <p:nvPr/>
        </p:nvSpPr>
        <p:spPr>
          <a:xfrm>
            <a:off x="1214280" y="371484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是一个功能强大的语句，利用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语句可以很方便地实现观测值累乘、缺失观测填充等复杂的数据处理。如下例所示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矩形 3"/>
          <p:cNvSpPr/>
          <p:nvPr/>
        </p:nvSpPr>
        <p:spPr>
          <a:xfrm>
            <a:off x="1285920" y="78588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39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变量观测值累乘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clas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eight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eight=mheight*h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7" name="矩形 4"/>
          <p:cNvSpPr/>
          <p:nvPr/>
        </p:nvSpPr>
        <p:spPr>
          <a:xfrm>
            <a:off x="1428840" y="2571840"/>
            <a:ext cx="6643440" cy="392904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    Name       Sex    Age    Height    Weight           mheight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   Alfred      M      14     69.0      112.5             69.0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   Alice       F      13     56.5       84.0           3898.5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3    Barbara     F      13     65.3       98.0         254572.05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  Carol       F      14     62.8      102.5       15987124.7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5    Henry       M      14     63.5      102.5     1015182420.9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6    James       M      12     57.3       83.0    58169952722.73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nn-NO" sz="1200" spc="-1" strike="noStrike">
                <a:solidFill>
                  <a:srgbClr val="ffffff"/>
                </a:solidFill>
                <a:latin typeface="Arial"/>
              </a:rPr>
              <a:t>7    Jane        F      12     59.8       84.5     347856317281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8    Janet       F      15     62.5      112.5    2.174101983E1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9    Jeffrey     M      13     62.5       84.0    1.358813739E1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   John        M      12     59.0       99.5    8.017001062E17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    Joyce       F      11     51.3       50.5    4.112721545E19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2    Judy        F      14     64.3       90.0    2.644479953E21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3    Louise      F      12     56.3       77.0    1.488842214E23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   Mary        F      15     66.5      112.0    9.900800722E2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5    Philip      M      16     72.0      150.0     7.12857652E2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6    Robert      M      12     64.8      128.0    4.619317585E28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7    Ronald      M      15     67.0      133.0    3.094942782E30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8    Thomas      M      11     57.5       85.0      1.7795921E32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   William     M      15     66.5      112.0    1.183428746E34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Box 1"/>
          <p:cNvSpPr/>
          <p:nvPr/>
        </p:nvSpPr>
        <p:spPr>
          <a:xfrm>
            <a:off x="1173240" y="11239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.40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缺失值填充。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有缺失值，由前面的值填充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缺失值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9" name="TextBox 2"/>
          <p:cNvSpPr/>
          <p:nvPr/>
        </p:nvSpPr>
        <p:spPr>
          <a:xfrm>
            <a:off x="1476360" y="1628640"/>
            <a:ext cx="187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0" name="TextBox 3"/>
          <p:cNvSpPr/>
          <p:nvPr/>
        </p:nvSpPr>
        <p:spPr>
          <a:xfrm>
            <a:off x="3132000" y="1906560"/>
            <a:ext cx="251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^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=x;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在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^=.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的情况下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赋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,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其它情况并没有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赋值，由于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tain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语句的作用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保留前面的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这样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x1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不会有缺失值，起到填充的作用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1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1" name="矩形 4"/>
          <p:cNvSpPr/>
          <p:nvPr/>
        </p:nvSpPr>
        <p:spPr>
          <a:xfrm>
            <a:off x="6535800" y="1781280"/>
            <a:ext cx="2376360" cy="4824360"/>
          </a:xfrm>
          <a:prstGeom prst="rect">
            <a:avLst/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      x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1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     3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      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2" name="TextBox 5"/>
          <p:cNvSpPr/>
          <p:nvPr/>
        </p:nvSpPr>
        <p:spPr>
          <a:xfrm>
            <a:off x="5292720" y="17715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3" name="TextBox 6"/>
          <p:cNvSpPr/>
          <p:nvPr/>
        </p:nvSpPr>
        <p:spPr>
          <a:xfrm>
            <a:off x="928800" y="42876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Retai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语句的一个很好应用案例是填充变量的缺失值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外部文件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FIL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99720" y="1999800"/>
            <a:ext cx="74581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用于规定将要输出的外部文件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一般要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句配合使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步可以用多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是可执行语句，因而可以用在条件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—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中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语句格式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黑体"/>
              </a:rPr>
              <a:t>FILE file-specif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 &lt; options&gt; &lt; host-options&gt;;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FILE-SPECIFICATIO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选项说明：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76" name="Object 2"/>
          <p:cNvGraphicFramePr/>
          <p:nvPr/>
        </p:nvGraphicFramePr>
        <p:xfrm>
          <a:off x="1219320" y="4896000"/>
          <a:ext cx="59436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896000"/>
                    <a:ext cx="5943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1186920" y="980640"/>
            <a:ext cx="403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（部分）：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1187280" y="1700280"/>
          <a:ext cx="6912000" cy="4691160"/>
        </p:xfrm>
        <a:graphic>
          <a:graphicData uri="http://schemas.openxmlformats.org/drawingml/2006/table">
            <a:tbl>
              <a:tblPr/>
              <a:tblGrid>
                <a:gridCol w="2953080"/>
                <a:gridCol w="3958920"/>
              </a:tblGrid>
              <a:tr h="41256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ELIMITER= 'string-in-quotation-marks' |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character-variable/ DLM=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指定列表输出时所用的分隔符，在别的输出形式中该选项不起作用。缺省情况下为空格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ROP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当输出数据行的长度超过规定值时，忽略超过的部分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LOW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当输出数据行的长度超过规定值时，超出部分在下一行输出。缺省状态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LOWOVER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S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数据可以包含分隔符，要用引号括住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NAME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字符变量，其值为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打开的文件名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VAR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变量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LE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根据其值的变化关闭和打开输出文件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692000" y="1196640"/>
            <a:ext cx="626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.41 filename=variab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应用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xxx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到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OUT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打开的文件名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rint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hello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 OUT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窗口将输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hello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ame=xxx;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数据集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中有一个变量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name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和一个观测值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rint 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2700360" y="4581360"/>
          <a:ext cx="2089080" cy="898560"/>
        </p:xfrm>
        <a:graphic>
          <a:graphicData uri="http://schemas.openxmlformats.org/drawingml/2006/table">
            <a:tbl>
              <a:tblPr/>
              <a:tblGrid>
                <a:gridCol w="1044720"/>
                <a:gridCol w="1044360"/>
              </a:tblGrid>
              <a:tr h="44928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PRINT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d:\a.txt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fil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xxx;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输出到文件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'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:\a.txt'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pu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语句打开的文件名为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:\a.txt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hello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            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/* 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文件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d:\a.txt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的内容为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: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hello*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name=xxx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2700360" y="4581360"/>
          <a:ext cx="2089080" cy="865440"/>
        </p:xfrm>
        <a:graphic>
          <a:graphicData uri="http://schemas.openxmlformats.org/drawingml/2006/table">
            <a:tbl>
              <a:tblPr/>
              <a:tblGrid>
                <a:gridCol w="1044720"/>
                <a:gridCol w="1044360"/>
              </a:tblGrid>
              <a:tr h="43344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:\a.tx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4" name="Text Box 15"/>
          <p:cNvSpPr/>
          <p:nvPr/>
        </p:nvSpPr>
        <p:spPr>
          <a:xfrm>
            <a:off x="1714680" y="4071960"/>
            <a:ext cx="35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                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1028"/>
          <p:cNvSpPr/>
          <p:nvPr/>
        </p:nvSpPr>
        <p:spPr>
          <a:xfrm>
            <a:off x="1676520" y="1447920"/>
            <a:ext cx="5715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出规定格式的外部文本文件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Dat.lstkinf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%a(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');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"D:\stock.tx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$ stkcd $ b $ lstknm $  c $ 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中程序产生股票宏文本文档。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74674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定义外部数据文件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INFIL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用来定义一个外部数据文件，文件中的数据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读取。外部文件可以是已存在的磁盘文件，也可以是从键盘上输入的数据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格式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file-specification &lt;option-list&gt;  &lt;host-option-list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FILE-SPECIFICATION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EXTERNAL 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和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EREF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类似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ILF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相应选项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|CARDS4|DATALINES|DATALINES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指明输入数据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CARDS4, DATALINES, DATALINES4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后面的数据流，而非来自外部数据文件。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2996640" y="1268640"/>
            <a:ext cx="3223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大部分选项的作用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一致。下面只介绍几个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独有的选项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f77a1d"/>
                </a:solidFill>
                <a:uFillTx/>
                <a:latin typeface="Times New Roman"/>
                <a:ea typeface="黑体"/>
                <a:hlinkClick r:id="rId1"/>
              </a:rPr>
              <a:t>OPTION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选项说明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1116000" y="2421000"/>
          <a:ext cx="7128000" cy="378936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选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3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SD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若一个数据由引号括起，则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认为其包含的逗号是字符数据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设定缺省分隔符为逗号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两个连续分隔符中间数据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读入时去掉数据的引号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定义一个变量标记是否已经到达输入文件的结尾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FIRSTOBS=record-numb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从该记录行开始读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ISSOVER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阻止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INPUT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从下一个数据行读入数据，未赋值的变量设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=record-number | MA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612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要读入的记录数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矩形 5"/>
          <p:cNvSpPr/>
          <p:nvPr/>
        </p:nvSpPr>
        <p:spPr>
          <a:xfrm>
            <a:off x="1500120" y="135720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DATA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步执行一个被存贮的编辑程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黑体"/>
              </a:rPr>
              <a:t>pg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=cl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黑体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7" name="矩形 7"/>
          <p:cNvSpPr/>
          <p:nvPr/>
        </p:nvSpPr>
        <p:spPr>
          <a:xfrm>
            <a:off x="1571760" y="2857680"/>
            <a:ext cx="6286320" cy="1143000"/>
          </a:xfrm>
          <a:prstGeom prst="rect">
            <a:avLst/>
          </a:prstGeom>
          <a:noFill/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DATA STEP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程序加载自文件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从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RESDAT.CLASS.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读取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NOTE: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数据集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ASS1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有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9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观测和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个变量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1285560" y="1071720"/>
            <a:ext cx="587988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3 DELIMITER=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应用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x y z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,6,9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,3,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,8,8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中，要输入的数据用逗号分隔，创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集时用选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LIMITER=’,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Text Box 1024"/>
          <p:cNvSpPr/>
          <p:nvPr/>
        </p:nvSpPr>
        <p:spPr>
          <a:xfrm>
            <a:off x="1428840" y="5357880"/>
            <a:ext cx="92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数据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2643120" y="4786200"/>
          <a:ext cx="2592360" cy="155124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  <a:gridCol w="86364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4"/>
          <p:cNvSpPr/>
          <p:nvPr/>
        </p:nvSpPr>
        <p:spPr>
          <a:xfrm>
            <a:off x="1643040" y="1600200"/>
            <a:ext cx="62816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44DS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选项应用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or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st1 test2 test3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,87,9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7,,9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 , 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中，分隔符为逗号，但第二个观测值的两个相邻分隔符之间还有缺失值，没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项时，这两个相邻的分隔符组成一个分隔符，于是，输入数据时会出错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1979640" y="5300640"/>
          <a:ext cx="4914720" cy="1163520"/>
        </p:xfrm>
        <a:graphic>
          <a:graphicData uri="http://schemas.openxmlformats.org/drawingml/2006/table">
            <a:tbl>
              <a:tblPr/>
              <a:tblGrid>
                <a:gridCol w="1228680"/>
                <a:gridCol w="1230480"/>
                <a:gridCol w="1226880"/>
                <a:gridCol w="122868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476360" y="1413000"/>
            <a:ext cx="66960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上例加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S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项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个相邻分隔符之间的数作为缺失值处理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core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ards delimiter=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宋体"/>
              </a:rPr>
              <a:t>',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S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est1 test2 test3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1,87,9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7,,9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1 , 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情况下，同时加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OVE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S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选项是良好的编程习惯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1979640" y="4437000"/>
          <a:ext cx="4307040" cy="1550880"/>
        </p:xfrm>
        <a:graphic>
          <a:graphicData uri="http://schemas.openxmlformats.org/drawingml/2006/table">
            <a:tbl>
              <a:tblPr/>
              <a:tblGrid>
                <a:gridCol w="1076400"/>
                <a:gridCol w="1077840"/>
                <a:gridCol w="1076400"/>
                <a:gridCol w="1076400"/>
              </a:tblGrid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st3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 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6197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.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5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登录锐思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ESSE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库网站（</a:t>
            </a:r>
            <a:r>
              <a:rPr b="0" lang="en-US" sz="18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1"/>
              </a:rPr>
              <a:t>www.resset.c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），选择股票库的退市信息表及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TXT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下载格式，得到利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I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导入外部数据文件的标准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Rectangle 6"/>
          <p:cNvSpPr/>
          <p:nvPr/>
        </p:nvSpPr>
        <p:spPr>
          <a:xfrm>
            <a:off x="0" y="0"/>
            <a:ext cx="455760" cy="3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0" name="TextBox 8"/>
          <p:cNvSpPr/>
          <p:nvPr/>
        </p:nvSpPr>
        <p:spPr>
          <a:xfrm>
            <a:off x="1357200" y="2643120"/>
            <a:ext cx="700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80808"/>
                </a:solidFill>
                <a:latin typeface="Times New Roman"/>
              </a:rPr>
              <a:t>Data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</a:rPr>
              <a:t> Res_sas.DELINFO_1(label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退市信息</a:t>
            </a:r>
            <a:r>
              <a:rPr b="0" lang="pt-BR" sz="1800" spc="-1" strike="noStrike">
                <a:solidFill>
                  <a:srgbClr val="080808"/>
                </a:solidFill>
                <a:latin typeface="Times New Roman"/>
              </a:rPr>
              <a:t>")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nfil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'D:/Res_sas/DELINFO20120920132403996(1).txt'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delimiter = '09'x Missover Dsd lrecl=32767 firstobs=2 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Comcd $7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Lstknm $12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otrd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delstDt YYMMDD10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Lstdt YYMMDD10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ormat Stkcdbfdelst $6.;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1285920" y="928440"/>
            <a:ext cx="7238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Exch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Stktype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Thimkt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ISIN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ormat nobs 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Comcd $7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Lstknm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otrd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delstDt YYMMDD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Lstdt YYMMDD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cdbfdelst $6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Exch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Stktype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Thimktflg $1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ISIN $12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format nobs 10.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Comc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公司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Lstknm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最新股票名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1285920" y="713880"/>
            <a:ext cx="7238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otrd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交易时股票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delstD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日期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Lstd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上市日期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cdbfdelst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退市前代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Exchflg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交易所标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Stktype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股票类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Thimktflg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三板市场标识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ISIN="ISIN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编码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Label nobs="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观测序号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"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nput  Comcd  $  stkcd  $  Lstknm  $  Stkcdotrd  $  delstDt  Lstdt  Stkcdbfdelst  $  Exchflg  $  Stktype  $  Thimktflg  $  ISIN  $  nobs ;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1000080" y="5052600"/>
            <a:ext cx="7572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例中，’</a:t>
            </a:r>
            <a:r>
              <a:rPr b="0" lang="da-DK" sz="1600" spc="-1" strike="noStrike">
                <a:solidFill>
                  <a:srgbClr val="080808"/>
                </a:solidFill>
                <a:latin typeface="Times New Roman"/>
              </a:rPr>
              <a:t>09’x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0" lang="da-DK" sz="1600" spc="-1" strike="noStrike">
                <a:solidFill>
                  <a:srgbClr val="080808"/>
                </a:solidFill>
                <a:latin typeface="Times New Roman"/>
              </a:rPr>
              <a:t>TAB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键的十六进制表示。标准程序除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Infile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的选项外，还包括由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Format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InFormat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及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Label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语句规定变量的输出格式、输入格式及标签等。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5143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更新数据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UPDATE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1143000" y="1714320"/>
            <a:ext cx="692928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通过修改数据集中的观测来更新一个主数据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soptions IN=variable1)&gt; transaction-data-set &lt;(dsoption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IN=variable2)&gt; &lt;END=variable&gt; &lt;updatemode= missingcheck | nomissingcheck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同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BY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黑体"/>
              </a:rPr>
              <a:t>语句一起使用的格式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soptions IN=variable1)&gt; transaction-data-set &lt;(dsoption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IN=variable2)&gt; &lt;END=variable&gt; &lt;updatemode= missingcheck | nomissingcheck&gt;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BY 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variable;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07" name=""/>
          <p:cNvGraphicFramePr/>
          <p:nvPr/>
        </p:nvGraphicFramePr>
        <p:xfrm>
          <a:off x="1285920" y="1714680"/>
          <a:ext cx="6357960" cy="3985920"/>
        </p:xfrm>
        <a:graphic>
          <a:graphicData uri="http://schemas.openxmlformats.org/drawingml/2006/table">
            <a:tbl>
              <a:tblPr/>
              <a:tblGrid>
                <a:gridCol w="2203560"/>
                <a:gridCol w="415440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aster-Data-S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主数据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soptions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对数据集进行的操作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Transaction-Data-S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修改数据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ND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一个临时变量，作为文件结束的标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Y 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定共同的标识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pdatemode= Missingcheck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检查修改数据集，若有缺失值，则保留主数据集中相应数据。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pdatemode= Missingcheck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为缺省设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pdatemode=Nomissingcheck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不检查修改数据集，若有缺失值，则将主数据集中的相应数据更新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1285920" y="1714680"/>
          <a:ext cx="6410160" cy="3990960"/>
        </p:xfrm>
        <a:graphic>
          <a:graphicData uri="http://schemas.openxmlformats.org/drawingml/2006/table">
            <a:tbl>
              <a:tblPr/>
              <a:tblGrid>
                <a:gridCol w="6410160"/>
              </a:tblGrid>
              <a:tr h="39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6572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MERG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和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UPDAT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的比较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143000" y="1714320"/>
            <a:ext cx="692928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和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都能用于更新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当第二个数据集中有缺失数据时，若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则主数据集中的相应数据自动更新为缺失。若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则可以通过选项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mode=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控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通过修改数据集来修改或更新变量，也可以添加新变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143000" y="1225440"/>
            <a:ext cx="450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46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修改数据集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ter; 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创建主数据集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ster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$ name$ age sasgrp$  height sex$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1 GU   20 Y 170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2 YUAN 19 Y 165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3 HU   16 N 163 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4 WANG 21 Y 178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5 ZHU  22 N 176 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;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*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创建修改数据集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 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$  age sasgrp$  h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1  .  N  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2  .  Y   16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3 18  N  .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4  .  Y   18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15 23  Y   176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3" name="TextBox 4"/>
          <p:cNvSpPr/>
          <p:nvPr/>
        </p:nvSpPr>
        <p:spPr>
          <a:xfrm>
            <a:off x="5857920" y="157176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ter tran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4143240" y="5072040"/>
          <a:ext cx="4643640" cy="114768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198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1     9211    GU       20      N         170      F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2     9212    YUAN     19      Y         168      F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3     9213    HU       18      N         163      F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4     9214    WANG     21      Y         180      M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80808"/>
                          </a:solidFill>
                          <a:latin typeface="Terminal"/>
                          <a:ea typeface="Terminal"/>
                        </a:rPr>
                        <a:t>5     9215    ZHU      23      Y         176      M</a:t>
                      </a:r>
                      <a:endParaRPr b="0" lang="en-US" sz="13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2d050"/>
                      </a:solidFill>
                    </a:lnT>
                    <a:lnB w="1368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TextBox 7"/>
          <p:cNvSpPr/>
          <p:nvPr/>
        </p:nvSpPr>
        <p:spPr>
          <a:xfrm>
            <a:off x="6072120" y="46432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更新后信息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28800" y="11426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特殊数据集名 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Text Box 1031"/>
          <p:cNvSpPr/>
          <p:nvPr/>
        </p:nvSpPr>
        <p:spPr>
          <a:xfrm>
            <a:off x="1428840" y="2500200"/>
            <a:ext cx="57862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_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ata_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黑体"/>
              </a:rPr>
              <a:t>省略数据集名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0" name="TextBox 3"/>
          <p:cNvSpPr/>
          <p:nvPr/>
        </p:nvSpPr>
        <p:spPr>
          <a:xfrm>
            <a:off x="1571760" y="3143160"/>
            <a:ext cx="385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_data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8000"/>
                </a:solidFill>
                <a:latin typeface="Times New Roman"/>
              </a:rPr>
              <a:t>等价于语句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data;*/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自动为数据集赋名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1, data2,…, datan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Box 3"/>
          <p:cNvSpPr/>
          <p:nvPr/>
        </p:nvSpPr>
        <p:spPr>
          <a:xfrm>
            <a:off x="1143000" y="1000080"/>
            <a:ext cx="692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.47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对主数据集中的变量重命名，避免被更新数据集覆盖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ter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 $ name $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4 sally 12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1 sue 14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 joey 18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mark 16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04 joe 17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 $ name $ weigh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4 sally 11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mark 17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04 joe 17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7" name="TextBox 4"/>
          <p:cNvSpPr/>
          <p:nvPr/>
        </p:nvSpPr>
        <p:spPr>
          <a:xfrm>
            <a:off x="4214880" y="1357200"/>
            <a:ext cx="43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ter(rename=(weight=orig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(drop=name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and b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=weight-orig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new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4071960" y="4429080"/>
          <a:ext cx="4429080" cy="146376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bs     id     name     orig    weight    chang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1     1114    sally      125      119       -6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2     1441    sue         145        .        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3     1750    joey       189        .        .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4     1994    mark      165      174        9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5     2304    joe         170      170        0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9" name="TextBox 6"/>
          <p:cNvSpPr/>
          <p:nvPr/>
        </p:nvSpPr>
        <p:spPr>
          <a:xfrm>
            <a:off x="4857840" y="4071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更新后信息如下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修改数据语句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宋体"/>
              </a:rPr>
              <a:t>MODIFY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扩充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步功能，它可以替代，删除或添加观测到一个已存在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是在没有备份的情况下处理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，因此使用该语句可以节省磁盘空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但该语句不能修改数据集的描述部分，如添加变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语句格式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1071720" y="1357200"/>
            <a:ext cx="6929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ata-set-option(s))&gt; transaction-data-set &lt;(data-set-option(s))&gt; &lt;NOBS=variable&gt; &lt;END=variable&gt; &lt;UPDATEMODE=MISSINGCHECK|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NOMISSINGCHECK&gt;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 by-variabl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ata-set-option(s))&gt; KEY=index &lt;/ UNIQUE&gt;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OBS=variable&gt; &lt;END=variable&gt; 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aster-data-set &lt;(data-set-option(s))&gt; &lt;NOBS=variable&gt; POINT=variable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master-data-set &lt;(data-set-option(s))&gt; &lt;NOBS=variable&gt; &lt;END=variable&gt;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选项说明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1071720" y="1413000"/>
          <a:ext cx="7000560" cy="5121000"/>
        </p:xfrm>
        <a:graphic>
          <a:graphicData uri="http://schemas.openxmlformats.org/drawingml/2006/table">
            <a:tbl>
              <a:tblPr/>
              <a:tblGrid>
                <a:gridCol w="2279520"/>
                <a:gridCol w="47210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Master-Data-S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主数据集。主数据集必须同时写在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中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Transaction-Data-Set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修改数据集。只有当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步中包含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BY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时才能使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by-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或多个变量作为相应观测的标识变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77a1d"/>
                          </a:solidFill>
                          <a:uFillTx/>
                          <a:latin typeface="Times New Roman"/>
                          <a:hlinkClick r:id="rId1"/>
                        </a:rPr>
                        <a:t>Nobs=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其值为输入数据集的观测总数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nd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，作为文件结束的标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77a1d"/>
                          </a:solidFill>
                          <a:uFillTx/>
                          <a:latin typeface="Times New Roman"/>
                          <a:hlinkClick r:id="rId2"/>
                        </a:rPr>
                        <a:t>Point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=Variabl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一个临时变量控制读入的观测序号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77a1d"/>
                          </a:solidFill>
                          <a:uFillTx/>
                          <a:latin typeface="Times New Roman"/>
                          <a:hlinkClick r:id="rId3"/>
                        </a:rPr>
                        <a:t>Key=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 Index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被修改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数据文件中的索引名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77a1d"/>
                          </a:solidFill>
                          <a:uFillTx/>
                          <a:latin typeface="Times New Roman"/>
                          <a:hlinkClick r:id="rId4"/>
                        </a:rPr>
                        <a:t>Unique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规定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KEY=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总是从索引的开头开始搜索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Updatemode= missingcheck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若修改数据集中有缺失值，则保留主数据集中相应数据。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Updatemode= Missingcheck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为缺省设置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Updatemode= nomissingcheck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允许将主数据集中的相应数据更新为缺失。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80808"/>
                      </a:solidFill>
                    </a:lnL>
                    <a:lnR>
                      <a:noFill/>
                    </a:lnR>
                    <a:lnT w="5760">
                      <a:solidFill>
                        <a:srgbClr val="080808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1042920" y="1413000"/>
          <a:ext cx="6986520" cy="5111640"/>
        </p:xfrm>
        <a:graphic>
          <a:graphicData uri="http://schemas.openxmlformats.org/drawingml/2006/table">
            <a:tbl>
              <a:tblPr/>
              <a:tblGrid>
                <a:gridCol w="6986520"/>
              </a:tblGrid>
              <a:tr h="51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数据集访问方式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1143000" y="1714680"/>
            <a:ext cx="6929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匹配访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通过索引直接访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通过观测序号直接访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顺序访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修改观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1143000" y="1714680"/>
            <a:ext cx="69292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在包含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数据步中，可以采用下面的语句往数据集中写入观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1571760" y="2925720"/>
          <a:ext cx="6072120" cy="3228840"/>
        </p:xfrm>
        <a:graphic>
          <a:graphicData uri="http://schemas.openxmlformats.org/drawingml/2006/table">
            <a:tbl>
              <a:tblPr/>
              <a:tblGrid>
                <a:gridCol w="1089000"/>
                <a:gridCol w="4983120"/>
              </a:tblGrid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PU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如果没有指定数据集，则将当前观测写入到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指定的所有数据集的最后；如果在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OUTPUT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指定了数据集，则写入该数据集最后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PLAC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改写指定数据集的当前观测，如果没有指定数据集，则改写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中指定的所有数据集的当前观测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REMOV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7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删除指定数据集的当前观测，如果没有指定数据集，则删除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DATA</a:t>
                      </a: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语句中指定的所有数据集的当前观测。该删除可以是物理上的，也可以是逻辑上的，依赖于数据集所使用的引擎。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与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UPDATE</a:t>
            </a: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等语句的比较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143000" y="1714680"/>
            <a:ext cx="69292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在数据步中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ERG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ET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或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时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了新的数据集。因此，新数据集的描述符可以和原来不同（如添加和删除变量，修改标签等）。但若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只是在原来的数据集中进行修改，所以不能改变原数据集的描述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若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使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，则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效果和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UPDA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的非常类似，除了以下几点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，主数据集和修改数据集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不需要事先排序或索引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中，主数据集和修改数据集的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B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变量都可以有重复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不能改变原数据集的描述符信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Times New Roman"/>
                <a:ea typeface="宋体"/>
              </a:rPr>
              <a:t>应用举例</a:t>
            </a:r>
            <a:endParaRPr b="1" i="1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1143000" y="1714320"/>
            <a:ext cx="692928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本节的例子均基于以下数据集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TextBox 3"/>
          <p:cNvSpPr/>
          <p:nvPr/>
        </p:nvSpPr>
        <p:spPr>
          <a:xfrm>
            <a:off x="1500120" y="2143080"/>
            <a:ext cx="735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(index=(partno)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O $ DESC $ INSTOCK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DATE 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date7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@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CE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cdate 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date7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89R seal   34  27jul95 245.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J7 sander 98  20jun95 45.88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43 filter 121 19may96 10.9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21 brace 43   10aug96 27.8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85 clamp 80   16aug96 9.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F3 valve 198  20mar96 24.5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66 cutter 6   18jun96 19.7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N7 rod  211   09sep96 11.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03 switch 383 09jan97 13.9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V1E timer 26   03jan97 34.5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999720" y="3714480"/>
            <a:ext cx="6929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将所有观测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ecdat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改为今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TextBox 3"/>
          <p:cNvSpPr/>
          <p:nvPr/>
        </p:nvSpPr>
        <p:spPr>
          <a:xfrm>
            <a:off x="1428840" y="1714680"/>
            <a:ext cx="43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4.48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修改所有观测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date=today()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1142640" y="492912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这里自动变量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_iorc_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是一个自动变量，包含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MODIFY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语句尝试进行的每一次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操作的代码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0" name="TextBox 3"/>
          <p:cNvSpPr/>
          <p:nvPr/>
        </p:nvSpPr>
        <p:spPr>
          <a:xfrm>
            <a:off x="1428840" y="785880"/>
            <a:ext cx="435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黑体"/>
              </a:rPr>
              <a:t>4.4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修改数据集修改观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O $ 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89R 55LK43 43MN21 73UYN7 108JD03 5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ck addinv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o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DATE=today()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OCK=instock+nwstock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iorc_=</a:t>
            </a:r>
            <a:r>
              <a:rPr b="1" lang="en-US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8-04T09:28:20Z</dcterms:modified>
  <cp:revision>300</cp:revision>
  <dc:subject/>
  <dc:title>第1章 SAS软件入门</dc:title>
</cp:coreProperties>
</file>