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BE96-41FB-4C69-97D9-E98D2AA55D2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E3CA-935B-4911-BDA9-80B0A566BCFE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待会一起演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EF17-1498-4FA3-A114-542ACEB22C88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F19B-A1B5-4832-B078-0F9E1EC4F076}" type="slidenum">
              <a:rPr b="0" lang="zh-CN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629D-37C1-4020-AF8E-6EEA3920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839F-91B2-47E7-99DE-9FDEE32C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C15E2-B5E6-4053-8585-653279D4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8EFEC-BF52-461B-B30A-91C2E3CF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A92C5-0AF8-421A-89DC-4CEBFC95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C5F07-3368-45DA-965A-76E316AB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33E27-CC16-4C1C-A126-EE5D65E3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7FD39-6C15-48CE-A45C-69ADDC10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174EB-1248-4E79-B5F4-B7065652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A1FE0-ACAD-4BF8-A2D6-95C87445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47F80-8A7A-4F79-8FB5-C201A8A4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901A7-41F4-47FD-8529-18A4957F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5EB5-2A85-4257-AF17-B3DF48B0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08B81-85E4-4524-AF53-2B788471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45C70-C367-4C07-BCC2-089BF667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67D53-B765-4B5C-803B-29E802A9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9038B-56F5-440D-BC2A-F777DB66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4ADCF-BB74-4979-940F-563A31A9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B825B-2CC0-4152-8AE4-761B89DD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20BFF-C096-4327-9D3D-3C63C50D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F8ED3-BCE0-446E-A565-B888A34C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FFB06-9692-411B-894A-5CB9E342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8A9C9-C094-4305-B947-5D5D2A8A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E9C-9064-43B1-93C3-6F185D40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EFC1E-96DF-4830-A79D-7B06137B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B43C9-9A64-4036-833F-3942A949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72E3A-DEF2-43D3-ADC3-275B1697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8000E-E469-49A3-95D1-5F84414D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6A9DC-5E71-44E4-B08A-9ACB2563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895A8-761B-442C-93BC-4D4D2213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B230D-4728-43E6-B21D-EADD89D0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7AB96-5555-4118-B5C3-20CD7262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6E990-7632-4CF1-9C49-B978E49D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9D38A-616D-4601-B1C2-AF9F889D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71CE-3662-4663-8A51-6F640EFF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1900A-D550-40A5-A43C-0514073C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AA4ED-BC4B-4C3C-97B4-CC013A01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FD37C-DA0C-4904-BD66-17928A92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7B65B-5964-4343-8020-7F574B0F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20B80-F8AF-45FB-811B-E8A77D49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2127B-0461-4D7E-AB5B-4E0EBCE8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FC906-1DFC-429D-8EFD-14E8FAA7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B6859-4691-4D1C-ACC5-2D1705CD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356D1-0454-4974-AFB4-48BBDCBD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C5E49-9A81-4C95-B61E-CEDE5E46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FB78-6092-470D-86C1-31916EBE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B12E3-8B08-4924-812A-C7651664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2532F-7B95-459D-9446-4FF5B274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9DDFC-F756-4386-898D-BCF34AF3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373C0-AD2F-48A4-9F97-FB342EC0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D2A253-0EBE-4691-8912-148EC56C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9CF8-06DB-4C6D-B59E-5F9CB4B1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E28B-9187-40F7-8284-6DCC8327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2916-3A9D-47B1-8A64-56D3E7B9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A4CE-DF34-43D9-830D-32FDC1C9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2EB4-D84B-457B-BFE3-EB4B3E8B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DFFA-3074-41F0-B513-70353FC3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6F31-B3A4-4281-BFED-3AD9BC75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69C4-807C-4A12-9D90-5265A073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3B3C-73D2-4803-B79C-2C5CBD44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3234-533E-4441-9DFF-E8F7498C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002A-45D8-4FB4-A4DB-30A50734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A9568-1459-4AD0-ADD0-B3730232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DDF49-411C-449A-88DD-71E1A294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8BB73-FA62-4626-8651-D984566D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9C9B0-2A5D-4930-8D2B-F84C806C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F1D81-722C-42B9-8D60-E7E5A402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D973-B47E-4F46-8ED2-8A83A279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D92C6-A9C6-41A9-9306-319B66D4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7E52E-DD0C-4D15-B462-7240E262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0B510-C7AA-4D56-BFFD-89BE9E2E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DBE12-1C2C-4C3B-AD63-2CB0D546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08BBD-1E97-4DE0-A19B-FCB7C14E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D70BD-4398-413F-8E14-85164B00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63F9A-22DF-474C-8E9B-BADF558C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D91A3-1852-4C64-954E-CB947130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069A8-248E-4E7F-B213-C3E4127A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8B0A7-9D37-4FAB-9208-9A93599A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D86-D4DE-41ED-96DD-70CF26ED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3E6E4-540E-45D9-A9B5-CBF0CFA3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9ECE9-D480-4B9D-8D92-584F5516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A08AC-6F4E-467B-A4B3-9700B72E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F3E7F-2CF4-43D4-801E-D770DF52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54718-178D-4DAD-9255-96E60E91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902E4-FEBD-40AB-ACF2-84D35C7B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6A174-ED2E-49D5-8300-606B1766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DE1F9-2C61-42CE-A1AB-C761F0BA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B61EC-8DB0-4854-B89B-2EA87E62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DCBF0-98E3-4B25-8B7E-104AF774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C201-B417-49F3-8428-DAB8C0BC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18AD3-02E1-4FEF-A1D9-52939660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E776B-33EA-4E47-AA9A-D2BF0DA0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280D6-B732-4C0D-8307-671FE129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7F914-54EA-47A6-B770-79020044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2730D-201B-4D01-B324-06CECF08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55940-7174-4CB0-9CCE-5DA8CE0A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8616B-611A-4304-870C-37B8A0AF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9E077-C011-4F3B-8FAB-BF9877DA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E8B53-39DC-4707-9F8A-50DCF9E3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A2FD8-73FF-42B4-9141-7D5FC872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ADC6-1E7B-4F41-8A04-E31868C2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16AD8-34BB-4E88-B2C8-F14CF04A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94012-010A-45A9-B641-8CE2ADC0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5E357-ED2B-416E-9A96-BF3228BF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B74BF-C45E-4766-B8EF-CF1EC217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7AC3C-72C5-4B62-AF05-AFAD4208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8B6EF-CBA5-4CBB-8D27-B1699448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08090-E7E1-4FF6-ACB4-BD662D11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0FF56-53B0-433A-909C-A4C9079B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85744-3ACF-4710-8247-3FEA1049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9004B-0514-4AB6-9A8A-852E6512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748-81C7-46CF-A3B5-BF76E03B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1AC29-F08F-4A4C-B7F7-06E1692B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80436-374A-4103-9F64-89477EA7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2E605-9A10-4329-9DAD-5908152E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6F521-7D35-4B4A-AEC8-5A7FB7FA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A01AE-1177-4B5D-94BD-73B2F26C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AFB45-9B87-4C4A-93D9-A08E2A19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6DE0C-59BB-47E9-8C51-EAB3B603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8657E-93CF-49ED-B866-57C64AAA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5FAA6-64F4-427F-A676-4A0E75C5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6CB5D-2C22-450A-9985-F4F56DA0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A01E-E36C-43EC-ACA4-E9C8374F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2F34E-543E-4181-817A-AE6828A0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BA4A8-2CC4-49F4-A1BD-116D1F7D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E1936-5807-4A78-83D8-B57584AE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AFA97-7C8B-44C0-84E9-0D8C168A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2F28E-50E4-4022-90BE-1786B903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98832-13C5-4413-870E-7184A24A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84D53-2859-44FA-B76D-7C57B632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C7AB5-B342-4B88-997A-B2C67093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84060-F21A-4379-BD67-4B77808E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5CA9F-4DF8-4036-966A-3E80E8ED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3AB5-C162-44B5-8716-FE939CF2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F29B9-995D-4FAE-86A3-BC9B742A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7EBF0-117B-446B-964E-42E256FF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2797A-4E70-42B8-B13A-E7B1181F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C29C2-95E2-4455-8FD5-99D86022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859B3-E682-4AF4-BB47-65AE01D6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65482-4180-4DFC-8FC8-6373712A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8D6BE-60BD-4C9B-A3A8-BDA68C94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708C0-C7B6-4986-AF1B-5CA50178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67A54-29A4-41CB-8308-E7889702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D69CD-4A01-482E-BE7F-D126A7DE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0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9DD4-8308-43C1-813A-6B57BBF280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5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FC03-E41F-4D0F-9775-6933FCE75B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B834-6E70-40C4-B801-F127F1BC34F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45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46" name="Freeform 16"/>
            <p:cNvSpPr/>
            <p:nvPr/>
          </p:nvSpPr>
          <p:spPr>
            <a:xfrm>
              <a:off x="277560" y="530280"/>
              <a:ext cx="2011680" cy="3076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" name="Freeform 17"/>
            <p:cNvSpPr/>
            <p:nvPr/>
          </p:nvSpPr>
          <p:spPr>
            <a:xfrm>
              <a:off x="214200" y="824040"/>
              <a:ext cx="54000" cy="442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" name="Freeform 18"/>
            <p:cNvSpPr/>
            <p:nvPr/>
          </p:nvSpPr>
          <p:spPr>
            <a:xfrm>
              <a:off x="701640" y="1019160"/>
              <a:ext cx="6192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9" name="Freeform 19"/>
            <p:cNvSpPr/>
            <p:nvPr/>
          </p:nvSpPr>
          <p:spPr>
            <a:xfrm>
              <a:off x="1942920" y="1108080"/>
              <a:ext cx="155520" cy="117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0" name="Freeform 20"/>
            <p:cNvSpPr/>
            <p:nvPr/>
          </p:nvSpPr>
          <p:spPr>
            <a:xfrm>
              <a:off x="1190520" y="1717560"/>
              <a:ext cx="250920" cy="133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1" name="Freeform 21"/>
            <p:cNvSpPr/>
            <p:nvPr/>
          </p:nvSpPr>
          <p:spPr>
            <a:xfrm>
              <a:off x="1396800" y="1819440"/>
              <a:ext cx="157320" cy="6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1563480" y="186048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3" name="Freeform 23"/>
            <p:cNvSpPr/>
            <p:nvPr/>
          </p:nvSpPr>
          <p:spPr>
            <a:xfrm>
              <a:off x="1652400" y="1865160"/>
              <a:ext cx="19080" cy="39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4" name="Freeform 24"/>
            <p:cNvSpPr/>
            <p:nvPr/>
          </p:nvSpPr>
          <p:spPr>
            <a:xfrm>
              <a:off x="1361880" y="522360"/>
              <a:ext cx="285840" cy="139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5" name="Freeform 25"/>
            <p:cNvSpPr/>
            <p:nvPr/>
          </p:nvSpPr>
          <p:spPr>
            <a:xfrm>
              <a:off x="1488960" y="457200"/>
              <a:ext cx="231840" cy="95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6" name="Freeform 26"/>
            <p:cNvSpPr/>
            <p:nvPr/>
          </p:nvSpPr>
          <p:spPr>
            <a:xfrm>
              <a:off x="1814400" y="568440"/>
              <a:ext cx="370080" cy="301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7" name="Freeform 27"/>
            <p:cNvSpPr/>
            <p:nvPr/>
          </p:nvSpPr>
          <p:spPr>
            <a:xfrm>
              <a:off x="1811160" y="438120"/>
              <a:ext cx="698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8" name="Freeform 28"/>
            <p:cNvSpPr/>
            <p:nvPr/>
          </p:nvSpPr>
          <p:spPr>
            <a:xfrm>
              <a:off x="1677960" y="549360"/>
              <a:ext cx="102960" cy="66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9" name="Freeform 29"/>
            <p:cNvSpPr/>
            <p:nvPr/>
          </p:nvSpPr>
          <p:spPr>
            <a:xfrm>
              <a:off x="1785960" y="561960"/>
              <a:ext cx="8568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0" name="Freeform 30"/>
            <p:cNvSpPr/>
            <p:nvPr/>
          </p:nvSpPr>
          <p:spPr>
            <a:xfrm>
              <a:off x="1739880" y="504720"/>
              <a:ext cx="101520" cy="54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1" name="Freeform 31"/>
            <p:cNvSpPr/>
            <p:nvPr/>
          </p:nvSpPr>
          <p:spPr>
            <a:xfrm>
              <a:off x="1697040" y="453960"/>
              <a:ext cx="6984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2" name="Freeform 32"/>
            <p:cNvSpPr/>
            <p:nvPr/>
          </p:nvSpPr>
          <p:spPr>
            <a:xfrm>
              <a:off x="1877760" y="458640"/>
              <a:ext cx="181080" cy="122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3" name="Freeform 33"/>
            <p:cNvSpPr/>
            <p:nvPr/>
          </p:nvSpPr>
          <p:spPr>
            <a:xfrm>
              <a:off x="152280" y="847800"/>
              <a:ext cx="396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4" name="Freeform 34"/>
            <p:cNvSpPr/>
            <p:nvPr/>
          </p:nvSpPr>
          <p:spPr>
            <a:xfrm>
              <a:off x="1353960" y="16588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5" name="Freeform 35"/>
            <p:cNvSpPr/>
            <p:nvPr/>
          </p:nvSpPr>
          <p:spPr>
            <a:xfrm>
              <a:off x="1358640" y="1698480"/>
              <a:ext cx="2556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" name="Freeform 36"/>
            <p:cNvSpPr/>
            <p:nvPr/>
          </p:nvSpPr>
          <p:spPr>
            <a:xfrm>
              <a:off x="1682640" y="1908360"/>
              <a:ext cx="23760" cy="18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1879560" y="113976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1720800" y="814320"/>
              <a:ext cx="6012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9" name="Freeform 39"/>
            <p:cNvSpPr/>
            <p:nvPr/>
          </p:nvSpPr>
          <p:spPr>
            <a:xfrm>
              <a:off x="1823760" y="530280"/>
              <a:ext cx="619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0" name="Freeform 40"/>
            <p:cNvSpPr/>
            <p:nvPr/>
          </p:nvSpPr>
          <p:spPr>
            <a:xfrm>
              <a:off x="1923840" y="701640"/>
              <a:ext cx="60480" cy="28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1" name="Freeform 41"/>
            <p:cNvSpPr/>
            <p:nvPr/>
          </p:nvSpPr>
          <p:spPr>
            <a:xfrm>
              <a:off x="1949400" y="380880"/>
              <a:ext cx="1104840" cy="549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2" name="Freeform 42"/>
            <p:cNvSpPr/>
            <p:nvPr/>
          </p:nvSpPr>
          <p:spPr>
            <a:xfrm>
              <a:off x="2287440" y="67320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3" name="Freeform 43"/>
            <p:cNvSpPr/>
            <p:nvPr/>
          </p:nvSpPr>
          <p:spPr>
            <a:xfrm>
              <a:off x="2736720" y="777960"/>
              <a:ext cx="20340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4" name="Freeform 44"/>
            <p:cNvSpPr/>
            <p:nvPr/>
          </p:nvSpPr>
          <p:spPr>
            <a:xfrm>
              <a:off x="2896920" y="519120"/>
              <a:ext cx="6192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5" name="Freeform 45"/>
            <p:cNvSpPr/>
            <p:nvPr/>
          </p:nvSpPr>
          <p:spPr>
            <a:xfrm>
              <a:off x="3324240" y="468360"/>
              <a:ext cx="245880" cy="100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" name="Freeform 46"/>
            <p:cNvSpPr/>
            <p:nvPr/>
          </p:nvSpPr>
          <p:spPr>
            <a:xfrm>
              <a:off x="3477960" y="520560"/>
              <a:ext cx="76320" cy="33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" name="Freeform 47"/>
            <p:cNvSpPr/>
            <p:nvPr/>
          </p:nvSpPr>
          <p:spPr>
            <a:xfrm>
              <a:off x="3014640" y="952560"/>
              <a:ext cx="172800" cy="209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" name="Freeform 48"/>
            <p:cNvSpPr/>
            <p:nvPr/>
          </p:nvSpPr>
          <p:spPr>
            <a:xfrm>
              <a:off x="2928960" y="1028880"/>
              <a:ext cx="109440" cy="107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" name="Freeform 49"/>
            <p:cNvSpPr/>
            <p:nvPr/>
          </p:nvSpPr>
          <p:spPr>
            <a:xfrm>
              <a:off x="5605200" y="2843280"/>
              <a:ext cx="752760" cy="785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" name="Freeform 50"/>
            <p:cNvSpPr/>
            <p:nvPr/>
          </p:nvSpPr>
          <p:spPr>
            <a:xfrm>
              <a:off x="5838840" y="2428920"/>
              <a:ext cx="506160" cy="3333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" name="Freeform 51"/>
            <p:cNvSpPr/>
            <p:nvPr/>
          </p:nvSpPr>
          <p:spPr>
            <a:xfrm>
              <a:off x="5852880" y="2432160"/>
              <a:ext cx="493920" cy="3348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2" name="Freeform 52"/>
            <p:cNvSpPr/>
            <p:nvPr/>
          </p:nvSpPr>
          <p:spPr>
            <a:xfrm>
              <a:off x="6218280" y="3654360"/>
              <a:ext cx="71280" cy="92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3" name="Freeform 53"/>
            <p:cNvSpPr/>
            <p:nvPr/>
          </p:nvSpPr>
          <p:spPr>
            <a:xfrm>
              <a:off x="6433920" y="3511440"/>
              <a:ext cx="260640" cy="135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4" name="Freeform 54"/>
            <p:cNvSpPr/>
            <p:nvPr/>
          </p:nvSpPr>
          <p:spPr>
            <a:xfrm>
              <a:off x="6703920" y="3432240"/>
              <a:ext cx="165240" cy="146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5" name="Freeform 55"/>
            <p:cNvSpPr/>
            <p:nvPr/>
          </p:nvSpPr>
          <p:spPr>
            <a:xfrm>
              <a:off x="6791400" y="3367080"/>
              <a:ext cx="586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6" name="Freeform 56"/>
            <p:cNvSpPr/>
            <p:nvPr/>
          </p:nvSpPr>
          <p:spPr>
            <a:xfrm>
              <a:off x="4056120" y="2595600"/>
              <a:ext cx="195120" cy="31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7" name="Freeform 57"/>
            <p:cNvSpPr/>
            <p:nvPr/>
          </p:nvSpPr>
          <p:spPr>
            <a:xfrm>
              <a:off x="4900680" y="2100240"/>
              <a:ext cx="77760" cy="96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8" name="Freeform 58"/>
            <p:cNvSpPr/>
            <p:nvPr/>
          </p:nvSpPr>
          <p:spPr>
            <a:xfrm>
              <a:off x="5429160" y="2205000"/>
              <a:ext cx="176040" cy="290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9" name="Freeform 59"/>
            <p:cNvSpPr/>
            <p:nvPr/>
          </p:nvSpPr>
          <p:spPr>
            <a:xfrm>
              <a:off x="5279760" y="2114640"/>
              <a:ext cx="114480" cy="217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0" name="Freeform 60"/>
            <p:cNvSpPr/>
            <p:nvPr/>
          </p:nvSpPr>
          <p:spPr>
            <a:xfrm>
              <a:off x="5357880" y="2289240"/>
              <a:ext cx="63360" cy="208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Freeform 61"/>
            <p:cNvSpPr/>
            <p:nvPr/>
          </p:nvSpPr>
          <p:spPr>
            <a:xfrm>
              <a:off x="5429160" y="2506680"/>
              <a:ext cx="103320" cy="85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Freeform 62"/>
            <p:cNvSpPr/>
            <p:nvPr/>
          </p:nvSpPr>
          <p:spPr>
            <a:xfrm>
              <a:off x="5594400" y="2355840"/>
              <a:ext cx="131760" cy="185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Freeform 63"/>
            <p:cNvSpPr/>
            <p:nvPr/>
          </p:nvSpPr>
          <p:spPr>
            <a:xfrm>
              <a:off x="5549760" y="1692360"/>
              <a:ext cx="34920" cy="112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Freeform 64"/>
            <p:cNvSpPr/>
            <p:nvPr/>
          </p:nvSpPr>
          <p:spPr>
            <a:xfrm>
              <a:off x="5572080" y="1881360"/>
              <a:ext cx="96840" cy="187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Freeform 65"/>
            <p:cNvSpPr/>
            <p:nvPr/>
          </p:nvSpPr>
          <p:spPr>
            <a:xfrm>
              <a:off x="5640120" y="2128680"/>
              <a:ext cx="101880" cy="125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Freeform 66"/>
            <p:cNvSpPr/>
            <p:nvPr/>
          </p:nvSpPr>
          <p:spPr>
            <a:xfrm>
              <a:off x="5761080" y="2352600"/>
              <a:ext cx="45720" cy="77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Freeform 67"/>
            <p:cNvSpPr/>
            <p:nvPr/>
          </p:nvSpPr>
          <p:spPr>
            <a:xfrm>
              <a:off x="5735520" y="2482920"/>
              <a:ext cx="2844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Freeform 68"/>
            <p:cNvSpPr/>
            <p:nvPr/>
          </p:nvSpPr>
          <p:spPr>
            <a:xfrm>
              <a:off x="5778360" y="2467080"/>
              <a:ext cx="71640" cy="586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Freeform 69"/>
            <p:cNvSpPr/>
            <p:nvPr/>
          </p:nvSpPr>
          <p:spPr>
            <a:xfrm>
              <a:off x="5887800" y="2577960"/>
              <a:ext cx="3816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Freeform 70"/>
            <p:cNvSpPr/>
            <p:nvPr/>
          </p:nvSpPr>
          <p:spPr>
            <a:xfrm>
              <a:off x="6311880" y="2511360"/>
              <a:ext cx="73080" cy="74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Freeform 71"/>
            <p:cNvSpPr/>
            <p:nvPr/>
          </p:nvSpPr>
          <p:spPr>
            <a:xfrm>
              <a:off x="5681520" y="2604960"/>
              <a:ext cx="73080" cy="79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Freeform 72"/>
            <p:cNvSpPr/>
            <p:nvPr/>
          </p:nvSpPr>
          <p:spPr>
            <a:xfrm>
              <a:off x="5603760" y="2635200"/>
              <a:ext cx="5076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3" name="Freeform 73"/>
            <p:cNvSpPr/>
            <p:nvPr/>
          </p:nvSpPr>
          <p:spPr>
            <a:xfrm>
              <a:off x="5570280" y="2589120"/>
              <a:ext cx="38160" cy="49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Freeform 74"/>
            <p:cNvSpPr/>
            <p:nvPr/>
          </p:nvSpPr>
          <p:spPr>
            <a:xfrm>
              <a:off x="5624280" y="2606760"/>
              <a:ext cx="5400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Freeform 75"/>
            <p:cNvSpPr/>
            <p:nvPr/>
          </p:nvSpPr>
          <p:spPr>
            <a:xfrm>
              <a:off x="5546520" y="2079720"/>
              <a:ext cx="42840" cy="87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Freeform 76"/>
            <p:cNvSpPr/>
            <p:nvPr/>
          </p:nvSpPr>
          <p:spPr>
            <a:xfrm>
              <a:off x="5627520" y="2065320"/>
              <a:ext cx="30240" cy="874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Freeform 77"/>
            <p:cNvSpPr/>
            <p:nvPr/>
          </p:nvSpPr>
          <p:spPr>
            <a:xfrm>
              <a:off x="5662440" y="2038320"/>
              <a:ext cx="15840" cy="396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Freeform 78"/>
            <p:cNvSpPr/>
            <p:nvPr/>
          </p:nvSpPr>
          <p:spPr>
            <a:xfrm>
              <a:off x="5678280" y="2057400"/>
              <a:ext cx="33480" cy="763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Freeform 79"/>
            <p:cNvSpPr/>
            <p:nvPr/>
          </p:nvSpPr>
          <p:spPr>
            <a:xfrm>
              <a:off x="5251320" y="2166840"/>
              <a:ext cx="190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Freeform 80"/>
            <p:cNvSpPr/>
            <p:nvPr/>
          </p:nvSpPr>
          <p:spPr>
            <a:xfrm>
              <a:off x="5235480" y="21304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Freeform 81"/>
            <p:cNvSpPr/>
            <p:nvPr/>
          </p:nvSpPr>
          <p:spPr>
            <a:xfrm>
              <a:off x="5229000" y="2102040"/>
              <a:ext cx="19080" cy="21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Freeform 82"/>
            <p:cNvSpPr/>
            <p:nvPr/>
          </p:nvSpPr>
          <p:spPr>
            <a:xfrm>
              <a:off x="5209920" y="2038320"/>
              <a:ext cx="1764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Freeform 83"/>
            <p:cNvSpPr/>
            <p:nvPr/>
          </p:nvSpPr>
          <p:spPr>
            <a:xfrm>
              <a:off x="5213160" y="2077920"/>
              <a:ext cx="255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4" name="Freeform 84"/>
            <p:cNvSpPr/>
            <p:nvPr/>
          </p:nvSpPr>
          <p:spPr>
            <a:xfrm>
              <a:off x="6540480" y="3067200"/>
              <a:ext cx="71280" cy="95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5" name="Freeform 85"/>
            <p:cNvSpPr/>
            <p:nvPr/>
          </p:nvSpPr>
          <p:spPr>
            <a:xfrm>
              <a:off x="6906960" y="2989440"/>
              <a:ext cx="84240" cy="72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6" name="Freeform 86"/>
            <p:cNvSpPr/>
            <p:nvPr/>
          </p:nvSpPr>
          <p:spPr>
            <a:xfrm>
              <a:off x="6653160" y="2949480"/>
              <a:ext cx="27000" cy="36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Freeform 87"/>
            <p:cNvSpPr/>
            <p:nvPr/>
          </p:nvSpPr>
          <p:spPr>
            <a:xfrm>
              <a:off x="6640560" y="2914560"/>
              <a:ext cx="31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8" name="Freeform 88"/>
            <p:cNvSpPr/>
            <p:nvPr/>
          </p:nvSpPr>
          <p:spPr>
            <a:xfrm>
              <a:off x="6397560" y="2606760"/>
              <a:ext cx="38160" cy="522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Freeform 89"/>
            <p:cNvSpPr/>
            <p:nvPr/>
          </p:nvSpPr>
          <p:spPr>
            <a:xfrm>
              <a:off x="6451560" y="2674800"/>
              <a:ext cx="4104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Freeform 90"/>
            <p:cNvSpPr/>
            <p:nvPr/>
          </p:nvSpPr>
          <p:spPr>
            <a:xfrm>
              <a:off x="6494400" y="2774880"/>
              <a:ext cx="4428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Freeform 91"/>
            <p:cNvSpPr/>
            <p:nvPr/>
          </p:nvSpPr>
          <p:spPr>
            <a:xfrm>
              <a:off x="6548400" y="2759040"/>
              <a:ext cx="4428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Freeform 92"/>
            <p:cNvSpPr/>
            <p:nvPr/>
          </p:nvSpPr>
          <p:spPr>
            <a:xfrm>
              <a:off x="6532560" y="2701800"/>
              <a:ext cx="4104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Freeform 93"/>
            <p:cNvSpPr/>
            <p:nvPr/>
          </p:nvSpPr>
          <p:spPr>
            <a:xfrm>
              <a:off x="6491160" y="2662200"/>
              <a:ext cx="41400" cy="55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Freeform 94"/>
            <p:cNvSpPr/>
            <p:nvPr/>
          </p:nvSpPr>
          <p:spPr>
            <a:xfrm>
              <a:off x="6440400" y="2637000"/>
              <a:ext cx="38160" cy="41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Freeform 95"/>
            <p:cNvSpPr/>
            <p:nvPr/>
          </p:nvSpPr>
          <p:spPr>
            <a:xfrm>
              <a:off x="6503760" y="2720880"/>
              <a:ext cx="38160" cy="414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Freeform 96"/>
            <p:cNvSpPr/>
            <p:nvPr/>
          </p:nvSpPr>
          <p:spPr>
            <a:xfrm>
              <a:off x="3948120" y="539640"/>
              <a:ext cx="223560" cy="1717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Freeform 97"/>
            <p:cNvSpPr/>
            <p:nvPr/>
          </p:nvSpPr>
          <p:spPr>
            <a:xfrm>
              <a:off x="4081320" y="704880"/>
              <a:ext cx="63720" cy="19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Freeform 98"/>
            <p:cNvSpPr/>
            <p:nvPr/>
          </p:nvSpPr>
          <p:spPr>
            <a:xfrm>
              <a:off x="4406760" y="457200"/>
              <a:ext cx="66600" cy="44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Freeform 99"/>
            <p:cNvSpPr/>
            <p:nvPr/>
          </p:nvSpPr>
          <p:spPr>
            <a:xfrm>
              <a:off x="4454280" y="477720"/>
              <a:ext cx="79560" cy="320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Freeform 100"/>
            <p:cNvSpPr/>
            <p:nvPr/>
          </p:nvSpPr>
          <p:spPr>
            <a:xfrm>
              <a:off x="4540320" y="482760"/>
              <a:ext cx="79200" cy="50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Freeform 101"/>
            <p:cNvSpPr/>
            <p:nvPr/>
          </p:nvSpPr>
          <p:spPr>
            <a:xfrm>
              <a:off x="5094360" y="525600"/>
              <a:ext cx="139680" cy="489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Freeform 102"/>
            <p:cNvSpPr/>
            <p:nvPr/>
          </p:nvSpPr>
          <p:spPr>
            <a:xfrm>
              <a:off x="5236920" y="523800"/>
              <a:ext cx="73080" cy="381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Freeform 103"/>
            <p:cNvSpPr/>
            <p:nvPr/>
          </p:nvSpPr>
          <p:spPr>
            <a:xfrm>
              <a:off x="5203800" y="569880"/>
              <a:ext cx="58680" cy="2700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Freeform 104"/>
            <p:cNvSpPr/>
            <p:nvPr/>
          </p:nvSpPr>
          <p:spPr>
            <a:xfrm>
              <a:off x="5603760" y="925560"/>
              <a:ext cx="120600" cy="1810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5" name="Freeform 105"/>
            <p:cNvSpPr/>
            <p:nvPr/>
          </p:nvSpPr>
          <p:spPr>
            <a:xfrm>
              <a:off x="5700600" y="1112760"/>
              <a:ext cx="87480" cy="123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6" name="Freeform 106"/>
            <p:cNvSpPr/>
            <p:nvPr/>
          </p:nvSpPr>
          <p:spPr>
            <a:xfrm>
              <a:off x="5643360" y="1239840"/>
              <a:ext cx="173160" cy="29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7" name="Freeform 107"/>
            <p:cNvSpPr/>
            <p:nvPr/>
          </p:nvSpPr>
          <p:spPr>
            <a:xfrm>
              <a:off x="3959280" y="439920"/>
              <a:ext cx="82440" cy="475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8" name="Freeform 108"/>
            <p:cNvSpPr/>
            <p:nvPr/>
          </p:nvSpPr>
          <p:spPr>
            <a:xfrm>
              <a:off x="3789360" y="453960"/>
              <a:ext cx="30240" cy="349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9" name="Freeform 109"/>
            <p:cNvSpPr/>
            <p:nvPr/>
          </p:nvSpPr>
          <p:spPr>
            <a:xfrm>
              <a:off x="3827520" y="452520"/>
              <a:ext cx="58680" cy="428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0" name="Freeform 110"/>
            <p:cNvSpPr/>
            <p:nvPr/>
          </p:nvSpPr>
          <p:spPr>
            <a:xfrm>
              <a:off x="3924360" y="438120"/>
              <a:ext cx="31680" cy="25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1" name="Freeform 111"/>
            <p:cNvSpPr/>
            <p:nvPr/>
          </p:nvSpPr>
          <p:spPr>
            <a:xfrm>
              <a:off x="3895560" y="466560"/>
              <a:ext cx="23760" cy="20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2" name="Freeform 112"/>
            <p:cNvSpPr/>
            <p:nvPr/>
          </p:nvSpPr>
          <p:spPr>
            <a:xfrm>
              <a:off x="5705280" y="492120"/>
              <a:ext cx="28800" cy="525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3" name="Freeform 113"/>
            <p:cNvSpPr/>
            <p:nvPr/>
          </p:nvSpPr>
          <p:spPr>
            <a:xfrm>
              <a:off x="4302000" y="2797200"/>
              <a:ext cx="49320" cy="284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4" name="Freeform 114"/>
            <p:cNvSpPr/>
            <p:nvPr/>
          </p:nvSpPr>
          <p:spPr>
            <a:xfrm>
              <a:off x="4365360" y="278604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5" name="Freeform 115"/>
            <p:cNvSpPr/>
            <p:nvPr/>
          </p:nvSpPr>
          <p:spPr>
            <a:xfrm>
              <a:off x="4259160" y="254160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6" name="Freeform 116"/>
            <p:cNvSpPr/>
            <p:nvPr/>
          </p:nvSpPr>
          <p:spPr>
            <a:xfrm>
              <a:off x="4354560" y="2425680"/>
              <a:ext cx="17280" cy="302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7" name="Freeform 117"/>
            <p:cNvSpPr/>
            <p:nvPr/>
          </p:nvSpPr>
          <p:spPr>
            <a:xfrm>
              <a:off x="4316400" y="2424240"/>
              <a:ext cx="17280" cy="2988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8" name="Freeform 118"/>
            <p:cNvSpPr/>
            <p:nvPr/>
          </p:nvSpPr>
          <p:spPr>
            <a:xfrm>
              <a:off x="4298760" y="245916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9" name="Freeform 119"/>
            <p:cNvSpPr/>
            <p:nvPr/>
          </p:nvSpPr>
          <p:spPr>
            <a:xfrm>
              <a:off x="4259160" y="2513160"/>
              <a:ext cx="144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0" name="Freeform 120"/>
            <p:cNvSpPr/>
            <p:nvPr/>
          </p:nvSpPr>
          <p:spPr>
            <a:xfrm>
              <a:off x="4289400" y="2492280"/>
              <a:ext cx="1584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1" name="Freeform 121"/>
            <p:cNvSpPr/>
            <p:nvPr/>
          </p:nvSpPr>
          <p:spPr>
            <a:xfrm>
              <a:off x="3125520" y="923760"/>
              <a:ext cx="16200" cy="2412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2" name="Freeform 122"/>
            <p:cNvSpPr/>
            <p:nvPr/>
          </p:nvSpPr>
          <p:spPr>
            <a:xfrm>
              <a:off x="3028680" y="870120"/>
              <a:ext cx="16200" cy="2376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53" name="Freeform 123"/>
            <p:cNvSpPr/>
            <p:nvPr/>
          </p:nvSpPr>
          <p:spPr>
            <a:xfrm>
              <a:off x="2651040" y="525600"/>
              <a:ext cx="3270240" cy="2609640"/>
            </a:xfrm>
            <a:prstGeom prst="pie">
              <a:avLst/>
            </a:pr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pic>
        <p:nvPicPr>
          <p:cNvPr id="15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6705720" y="6477120"/>
            <a:ext cx="22860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esse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D33E-A6E4-4539-A1CA-66640185A5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3883-BA4E-45ED-8FF4-D8A8D418F8F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4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52A4-4D80-4576-B2A5-A1A1B08C00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6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E20B-3300-4962-A9B7-8FE528E03F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30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12EA-D41B-440D-B0E0-E7EF0C3C80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74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4827-2DA6-4A69-AA22-2D320E3B32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18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D2B6-A143-4622-B688-0D5C135A62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62" name="图片 118" descr="logo.gif"/>
          <p:cNvPicPr/>
          <p:nvPr/>
        </p:nvPicPr>
        <p:blipFill>
          <a:blip r:embed="rId3"/>
          <a:stretch/>
        </p:blipFill>
        <p:spPr>
          <a:xfrm>
            <a:off x="7380360" y="189000"/>
            <a:ext cx="1512720" cy="684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C4B7-826C-4961-8549-FB29D84101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6"/>
          <p:cNvSpPr/>
          <p:nvPr/>
        </p:nvSpPr>
        <p:spPr>
          <a:xfrm>
            <a:off x="3591360" y="3929760"/>
            <a:ext cx="2375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黑体"/>
              </a:rPr>
              <a:t>清华大学经济管理学院   朱世武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071880" y="4500720"/>
            <a:ext cx="38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sem.tsinghua.edu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zhushw@resset.c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3064680" y="5322600"/>
            <a:ext cx="611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Zhu Shiwu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School of Economics and Management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Tsinghua University 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第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1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章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  <a:ea typeface="宋体"/>
              </a:rPr>
              <a:t>SAS</a:t>
            </a:r>
            <a:r>
              <a:rPr b="1" i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软件入门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工具栏</a:t>
            </a: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*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142640" y="1071720"/>
            <a:ext cx="532908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不同窗口状态下工具栏显示不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宋体"/>
                <a:ea typeface="宋体"/>
              </a:rPr>
              <a:t>资源管理器窗口工具栏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143000" y="2214720"/>
            <a:ext cx="6553080" cy="36324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3"/>
          <p:cNvSpPr/>
          <p:nvPr/>
        </p:nvSpPr>
        <p:spPr>
          <a:xfrm>
            <a:off x="1143000" y="3357720"/>
            <a:ext cx="5329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宋体"/>
              </a:rPr>
              <a:t>编辑器窗口工具栏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83" name="Picture 4" descr=""/>
          <p:cNvPicPr/>
          <p:nvPr/>
        </p:nvPicPr>
        <p:blipFill>
          <a:blip r:embed="rId2"/>
          <a:stretch/>
        </p:blipFill>
        <p:spPr>
          <a:xfrm>
            <a:off x="1143000" y="4071960"/>
            <a:ext cx="6553080" cy="350640"/>
          </a:xfrm>
          <a:prstGeom prst="rect">
            <a:avLst/>
          </a:prstGeom>
          <a:ln w="0">
            <a:noFill/>
          </a:ln>
        </p:spPr>
      </p:pic>
      <p:sp>
        <p:nvSpPr>
          <p:cNvPr id="684" name="矩形 7"/>
          <p:cNvSpPr/>
          <p:nvPr/>
        </p:nvSpPr>
        <p:spPr>
          <a:xfrm>
            <a:off x="928800" y="4786200"/>
            <a:ext cx="700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最为常用的两个工具是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提交程序工具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     </a:t>
            </a:r>
            <a:r>
              <a:rPr b="0" lang="en-US" sz="2800" spc="-1" strike="noStrike" baseline="-25000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中断运行程序工具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85" name="图片 9" descr=""/>
          <p:cNvPicPr/>
          <p:nvPr/>
        </p:nvPicPr>
        <p:blipFill>
          <a:blip r:embed="rId3"/>
          <a:srcRect l="53907" t="6556" r="43074" b="89702"/>
          <a:stretch/>
        </p:blipFill>
        <p:spPr>
          <a:xfrm>
            <a:off x="6929280" y="492912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686" name="图片 1" descr=""/>
          <p:cNvPicPr/>
          <p:nvPr/>
        </p:nvPicPr>
        <p:blipFill>
          <a:blip r:embed="rId4"/>
          <a:srcRect l="59019" t="6608" r="38128" b="89950"/>
          <a:stretch/>
        </p:blipFill>
        <p:spPr>
          <a:xfrm>
            <a:off x="4000680" y="5286240"/>
            <a:ext cx="29988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工具定制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	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 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57120" y="1287000"/>
            <a:ext cx="5943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  <a:ea typeface="宋体"/>
              </a:rPr>
              <a:t>工具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  <a:ea typeface="宋体"/>
              </a:rPr>
              <a:t>=&gt;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  <a:ea typeface="宋体"/>
              </a:rPr>
              <a:t>定制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  <a:ea typeface="宋体"/>
              </a:rPr>
              <a:t>=&gt;“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  <a:ea typeface="宋体"/>
              </a:rPr>
              <a:t>定制”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89" name="Picture 8" descr=""/>
          <p:cNvPicPr/>
          <p:nvPr/>
        </p:nvPicPr>
        <p:blipFill>
          <a:blip r:embed="rId1"/>
          <a:stretch/>
        </p:blipFill>
        <p:spPr>
          <a:xfrm>
            <a:off x="2000160" y="2143080"/>
            <a:ext cx="40323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命令行窗口</a:t>
            </a: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* 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命令行中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可以快速完成一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 ，如键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y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查看功能键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ubm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提交程序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92" name="Picture 6" descr=""/>
          <p:cNvPicPr/>
          <p:nvPr/>
        </p:nvPicPr>
        <p:blipFill>
          <a:blip r:embed="rId1"/>
          <a:stretch/>
        </p:blipFill>
        <p:spPr>
          <a:xfrm>
            <a:off x="1643040" y="2714760"/>
            <a:ext cx="5472000" cy="46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资源管理器窗口</a:t>
            </a: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*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071720" y="1356840"/>
            <a:ext cx="76579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资源管理器窗口下，可以执行基本的   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任务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新的逻辑库和文件快捷方式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创建新的逻辑库成员和目录条目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打开和编辑 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SAS 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文件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“</a:t>
            </a: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树状结构”的资源管理器窗口 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96" name="Picture 5" descr=""/>
          <p:cNvPicPr/>
          <p:nvPr/>
        </p:nvPicPr>
        <p:blipFill>
          <a:blip r:embed="rId1"/>
          <a:srcRect l="30443" t="20010" r="44761" b="38578"/>
          <a:stretch/>
        </p:blipFill>
        <p:spPr>
          <a:xfrm>
            <a:off x="2571840" y="1785960"/>
            <a:ext cx="3105000" cy="3887640"/>
          </a:xfrm>
          <a:prstGeom prst="rect">
            <a:avLst/>
          </a:prstGeom>
          <a:ln w="0">
            <a:noFill/>
          </a:ln>
        </p:spPr>
      </p:pic>
      <p:sp>
        <p:nvSpPr>
          <p:cNvPr id="697" name="矩形 4"/>
          <p:cNvSpPr/>
          <p:nvPr/>
        </p:nvSpPr>
        <p:spPr>
          <a:xfrm>
            <a:off x="857160" y="5929200"/>
            <a:ext cx="70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默认的是“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只显示内容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”的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资源管理器窗口。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打开</a:t>
            </a:r>
            <a:r>
              <a:rPr b="1" lang="en-US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SAS</a:t>
            </a: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资源管理器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57120" y="1500120"/>
            <a:ext cx="822960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操作环境，可以使用以下方法打开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资源管理器”窗口（打开树视图和列表视图）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菜单：    视图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=&gt; SAS 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资源管理器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命令：     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EXPLORER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工具栏： 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SAS 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资源管理器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快捷键： 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CTRL+W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00" name="图片 2" descr=""/>
          <p:cNvPicPr/>
          <p:nvPr/>
        </p:nvPicPr>
        <p:blipFill>
          <a:blip r:embed="rId1"/>
          <a:srcRect l="45480" t="6708" r="51748" b="89864"/>
          <a:stretch/>
        </p:blipFill>
        <p:spPr>
          <a:xfrm>
            <a:off x="5572080" y="3643200"/>
            <a:ext cx="35712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结果窗口</a:t>
            </a: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* 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6840" y="1294920"/>
            <a:ext cx="461484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宋体"/>
                <a:ea typeface="宋体"/>
              </a:rPr>
              <a:t>可以通过结果窗口对程序的输出结果进行浏览和管理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用一种或多种格式（或类型）产生输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默认类型是“列表”输出（如右图的“查询结果”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输出类型包括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TM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“输出数据集”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ostScri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03" name="图片 10" descr=""/>
          <p:cNvPicPr/>
          <p:nvPr/>
        </p:nvPicPr>
        <p:blipFill>
          <a:blip r:embed="rId1"/>
          <a:srcRect l="0" t="10222" r="75798" b="60179"/>
          <a:stretch/>
        </p:blipFill>
        <p:spPr>
          <a:xfrm>
            <a:off x="5429160" y="2000160"/>
            <a:ext cx="25383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增强型编辑器窗口</a:t>
            </a: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*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5" name="矩形 3"/>
          <p:cNvSpPr/>
          <p:nvPr/>
        </p:nvSpPr>
        <p:spPr>
          <a:xfrm>
            <a:off x="611280" y="1285920"/>
            <a:ext cx="67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Times New Roman"/>
              </a:rPr>
              <a:t>三种方式同时打开多个编辑器窗口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1800" spc="-1" strike="noStrike">
                <a:solidFill>
                  <a:srgbClr val="003399"/>
                </a:solidFill>
                <a:latin typeface="Times New Roman"/>
              </a:rPr>
              <a:t>分别运行不同程序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1800" spc="-1" strike="noStrike">
                <a:solidFill>
                  <a:srgbClr val="003399"/>
                </a:solidFill>
                <a:latin typeface="Times New Roman"/>
              </a:rPr>
              <a:t>如图所示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06" name="图片 1" descr=""/>
          <p:cNvPicPr/>
          <p:nvPr/>
        </p:nvPicPr>
        <p:blipFill>
          <a:blip r:embed="rId1"/>
          <a:srcRect l="25169" t="10849" r="20577" b="46387"/>
          <a:stretch/>
        </p:blipFill>
        <p:spPr>
          <a:xfrm>
            <a:off x="3857760" y="2214720"/>
            <a:ext cx="4786200" cy="2931840"/>
          </a:xfrm>
          <a:prstGeom prst="rect">
            <a:avLst/>
          </a:prstGeom>
          <a:ln w="0">
            <a:noFill/>
          </a:ln>
        </p:spPr>
      </p:pic>
      <p:sp>
        <p:nvSpPr>
          <p:cNvPr id="707" name="TextBox 5"/>
          <p:cNvSpPr/>
          <p:nvPr/>
        </p:nvSpPr>
        <p:spPr>
          <a:xfrm>
            <a:off x="309600" y="2276640"/>
            <a:ext cx="340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Times New Roman"/>
              </a:rPr>
              <a:t>菜单方式 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:  1.</a:t>
            </a:r>
            <a:r>
              <a:rPr b="1" lang="zh-CN" sz="1800" spc="-1" strike="noStrike">
                <a:solidFill>
                  <a:srgbClr val="0070c0"/>
                </a:solidFill>
                <a:latin typeface="Times New Roman"/>
              </a:rPr>
              <a:t>文件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=&gt;</a:t>
            </a:r>
            <a:r>
              <a:rPr b="1" lang="zh-CN" sz="1800" spc="-1" strike="noStrike">
                <a:solidFill>
                  <a:srgbClr val="0070c0"/>
                </a:solidFill>
                <a:latin typeface="Times New Roman"/>
              </a:rPr>
              <a:t>新建程序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2.</a:t>
            </a:r>
            <a:r>
              <a:rPr b="1" lang="zh-CN" sz="1800" spc="-1" strike="noStrike">
                <a:solidFill>
                  <a:srgbClr val="0070c0"/>
                </a:solidFill>
                <a:latin typeface="Times New Roman"/>
              </a:rPr>
              <a:t>视图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=&gt;</a:t>
            </a:r>
            <a:r>
              <a:rPr b="1" lang="zh-CN" sz="1800" spc="-1" strike="noStrike">
                <a:solidFill>
                  <a:srgbClr val="0070c0"/>
                </a:solidFill>
                <a:latin typeface="Times New Roman"/>
              </a:rPr>
              <a:t>增强型编辑器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070c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Times New Roman"/>
              </a:rPr>
              <a:t>快捷方式 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:  CTRL+N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070c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Times New Roman"/>
              </a:rPr>
              <a:t>工具栏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:  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2"/>
          <a:srcRect l="26634" t="6604" r="70623" b="89940"/>
          <a:stretch/>
        </p:blipFill>
        <p:spPr>
          <a:xfrm>
            <a:off x="1500120" y="3143160"/>
            <a:ext cx="297000" cy="2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日志窗口</a:t>
            </a: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*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857160" y="1500120"/>
            <a:ext cx="7239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日志”窗口用来查看程序运行信息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提交的程序语句；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系统消息和错误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程序运行速度和时间。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日志”窗口中的元素根据以下类型呈现不同的颜色：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程序行　黑色：以语句标号开始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提示　　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蓝色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：以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NOTE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开始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警告　　</a:t>
            </a:r>
            <a:r>
              <a:rPr b="0" lang="zh-CN" sz="2000" spc="-1" strike="noStrike">
                <a:solidFill>
                  <a:srgbClr val="339933"/>
                </a:solidFill>
                <a:latin typeface="Times New Roman"/>
              </a:rPr>
              <a:t>绿色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：以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WARNING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开始；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错误　　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红色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：以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ERROR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开始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1213920" y="857160"/>
            <a:ext cx="6000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提交如下程序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观察日志窗口不同颜色的显示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x=0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aat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a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x=0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ata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a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x=0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 Narrow"/>
                <a:ea typeface="宋体"/>
              </a:rPr>
              <a:t>本章内容提要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软件功能模块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工作界面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操作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Box 4"/>
          <p:cNvSpPr/>
          <p:nvPr/>
        </p:nvSpPr>
        <p:spPr>
          <a:xfrm>
            <a:off x="857160" y="121428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观察日志中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80808"/>
                </a:solidFill>
                <a:latin typeface="Times New Roman"/>
              </a:rPr>
              <a:t>种颜色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3" name="矩形 3"/>
          <p:cNvSpPr/>
          <p:nvPr/>
        </p:nvSpPr>
        <p:spPr>
          <a:xfrm>
            <a:off x="3500280" y="857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程序行　黑色：以语句标号开始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提示　　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蓝色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：以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NOT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开始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警告　　</a:t>
            </a:r>
            <a:r>
              <a:rPr b="0" lang="zh-CN" sz="1800" spc="-1" strike="noStrike">
                <a:solidFill>
                  <a:srgbClr val="339933"/>
                </a:solidFill>
                <a:latin typeface="Times New Roman"/>
              </a:rPr>
              <a:t>绿色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：以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WARNING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开始；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错误　　</a:t>
            </a:r>
            <a:r>
              <a:rPr b="0" lang="zh-CN" sz="1800" spc="-1" strike="noStrike">
                <a:solidFill>
                  <a:srgbClr val="cc0000"/>
                </a:solidFill>
                <a:latin typeface="Times New Roman"/>
              </a:rPr>
              <a:t>红色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：以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ERROR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开始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rcRect l="24313" t="10535" r="19356" b="27831"/>
          <a:stretch/>
        </p:blipFill>
        <p:spPr>
          <a:xfrm>
            <a:off x="857160" y="2071800"/>
            <a:ext cx="721512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输出窗口</a:t>
            </a: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* 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6" name="矩形 4"/>
          <p:cNvSpPr/>
          <p:nvPr/>
        </p:nvSpPr>
        <p:spPr>
          <a:xfrm>
            <a:off x="1222920" y="1428840"/>
            <a:ext cx="28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输出窗口用来查看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程序的输出结果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7" name="Rectangle 17"/>
          <p:cNvSpPr/>
          <p:nvPr/>
        </p:nvSpPr>
        <p:spPr>
          <a:xfrm>
            <a:off x="857160" y="210888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按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F3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提交如下程序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界面如下所示：</a:t>
            </a:r>
            <a:r>
              <a:rPr b="0" lang="zh-CN" sz="10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1357200" y="2571840"/>
          <a:ext cx="5924520" cy="639720"/>
        </p:xfrm>
        <a:graphic>
          <a:graphicData uri="http://schemas.openxmlformats.org/drawingml/2006/table">
            <a:tbl>
              <a:tblPr/>
              <a:tblGrid>
                <a:gridCol w="5924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roc print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data=sashelp.class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un;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9" name="图片 6" descr=""/>
          <p:cNvPicPr/>
          <p:nvPr/>
        </p:nvPicPr>
        <p:blipFill>
          <a:blip r:embed="rId1"/>
          <a:srcRect l="29256" t="16931" r="10426" b="61854"/>
          <a:stretch/>
        </p:blipFill>
        <p:spPr>
          <a:xfrm>
            <a:off x="1357200" y="3500280"/>
            <a:ext cx="58579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参数设置</a:t>
            </a:r>
            <a:r>
              <a:rPr b="1" lang="en-US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 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28760" y="1285560"/>
            <a:ext cx="8229600" cy="12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要设置输出类型，可使用菜单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工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参数选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&gt;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果”标签，进入参数选择窗口进行设置如下图所示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22" name="Picture 6" descr=""/>
          <p:cNvPicPr/>
          <p:nvPr/>
        </p:nvPicPr>
        <p:blipFill>
          <a:blip r:embed="rId1"/>
          <a:stretch/>
        </p:blipFill>
        <p:spPr>
          <a:xfrm>
            <a:off x="1928880" y="2143080"/>
            <a:ext cx="4680000" cy="360540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7"/>
          <p:cNvSpPr/>
          <p:nvPr/>
        </p:nvSpPr>
        <p:spPr>
          <a:xfrm>
            <a:off x="1143000" y="59292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点选创建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HTML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时，输出结果同时展现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HTML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文件中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56760" y="999720"/>
            <a:ext cx="82803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运行如下程序语句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会产生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TML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输出结果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所示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oc 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ata=sashelp.cla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un;</a:t>
            </a:r>
            <a:br>
              <a:rPr sz="1800"/>
            </a:br>
            <a:endParaRPr b="1" i="1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25" name="图片 4" descr=""/>
          <p:cNvPicPr/>
          <p:nvPr/>
        </p:nvPicPr>
        <p:blipFill>
          <a:blip r:embed="rId1"/>
          <a:srcRect l="24560" t="10378" r="27420" b="31682"/>
          <a:stretch/>
        </p:blipFill>
        <p:spPr>
          <a:xfrm>
            <a:off x="2428920" y="2214720"/>
            <a:ext cx="316368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8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en-US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SAS</a:t>
            </a: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窗口操作 </a:t>
            </a:r>
            <a:br>
              <a:rPr sz="2800"/>
            </a:b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文件浏览及操作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80808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增加目录、数据表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点选目标逻辑库（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hel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p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外）。选择新建， 就可以按照提示增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加目录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表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粘贴数据表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要复制粘贴逻辑库中的数据表和其它文件，只需在资源管理器窗口中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入源逻辑库选择数据表，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trl+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然后进入到目标逻辑库中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trl+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就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把这些表复制过来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新建逻辑库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*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用菜单操作建立逻辑库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SASLib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57120" y="1214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在逻辑库级别，在空白处按右键，选择新建，或在菜单栏选择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工具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=&gt;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新建逻辑库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，打开如下对话框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在打开对话框中输入逻辑库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名称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“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Lib”,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引擎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择默认，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路径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选择“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D:\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”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。点确定即建立新的逻辑库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Lib,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可在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资源管理器中查看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30" name="Picture 2" descr=""/>
          <p:cNvPicPr/>
          <p:nvPr/>
        </p:nvPicPr>
        <p:blipFill>
          <a:blip r:embed="rId1"/>
          <a:srcRect l="23146" t="10022" r="31104" b="46625"/>
          <a:stretch/>
        </p:blipFill>
        <p:spPr>
          <a:xfrm>
            <a:off x="1643040" y="2928960"/>
            <a:ext cx="4687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程序编辑窗口操作</a:t>
            </a: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* 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提交程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直接按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3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或者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F8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提交程序，或点选工具条中的提交按钮        ，或者在命令框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中输入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Submit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命令或者在菜单栏中选择“运行”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—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“提交”菜单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请用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4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种方式提交下面程序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print data=sashelp.class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储存程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程序可以保存为其它格式的文本，也可以直接以编辑器的方式来储存，直接点选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文件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=&gt;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保存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宋体"/>
              </a:rPr>
              <a:t>，选择路径就可以保存这些程序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33" name="图片 9" descr=""/>
          <p:cNvPicPr/>
          <p:nvPr/>
        </p:nvPicPr>
        <p:blipFill>
          <a:blip r:embed="rId1"/>
          <a:srcRect l="53907" t="6556" r="43074" b="89702"/>
          <a:stretch/>
        </p:blipFill>
        <p:spPr>
          <a:xfrm>
            <a:off x="6516720" y="1773360"/>
            <a:ext cx="297000" cy="2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功能键窗口</a:t>
            </a: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* 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28400" y="1714680"/>
            <a:ext cx="468612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中，一些键或组合已经被赋予特定功能，这就是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通过下列方式打开功能键窗口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Times New Roman"/>
                <a:ea typeface="宋体"/>
              </a:rPr>
              <a:t>工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&gt;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  <a:ea typeface="宋体"/>
              </a:rPr>
              <a:t>选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&gt;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  <a:ea typeface="宋体"/>
              </a:rPr>
              <a:t>功能键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者在命令行中输入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宋体"/>
              </a:rPr>
              <a:t>KEY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命令 </a:t>
            </a:r>
            <a:r>
              <a:rPr b="0" lang="zh-CN" sz="2000" spc="-1" strike="noStrike">
                <a:solidFill>
                  <a:srgbClr val="4ab1e4"/>
                </a:solidFill>
                <a:latin typeface="Times New Roman"/>
                <a:ea typeface="宋体"/>
              </a:rPr>
              <a:t>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者按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宋体"/>
              </a:rPr>
              <a:t>F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系统默认设置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4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召回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36" name="Picture 6" descr=""/>
          <p:cNvPicPr/>
          <p:nvPr/>
        </p:nvPicPr>
        <p:blipFill>
          <a:blip r:embed="rId1"/>
          <a:srcRect l="0" t="0" r="0" b="29201"/>
          <a:stretch/>
        </p:blipFill>
        <p:spPr>
          <a:xfrm>
            <a:off x="5286240" y="1214280"/>
            <a:ext cx="2880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457200" y="1294920"/>
            <a:ext cx="4757760" cy="28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按上述方式打开功能键窗口，然后在“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F12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后输入“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clea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，输入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END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或者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SAV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命令来保存修改，退出。之后在不同窗口按“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F12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，查看效果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相当于“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CTRL+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，清除功能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功能键窗口操作</a:t>
            </a: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* 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39" name="Picture 6" descr=""/>
          <p:cNvPicPr/>
          <p:nvPr/>
        </p:nvPicPr>
        <p:blipFill>
          <a:blip r:embed="rId1"/>
          <a:srcRect l="0" t="0" r="0" b="29201"/>
          <a:stretch/>
        </p:blipFill>
        <p:spPr>
          <a:xfrm>
            <a:off x="5286240" y="1214280"/>
            <a:ext cx="2880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数据集导入和导出（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SAS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数据集与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EXCEL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表转换）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785520" y="1295280"/>
            <a:ext cx="7643880" cy="15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数据集的导出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*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例：导出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SASHELP</a:t>
            </a:r>
            <a:r>
              <a:rPr b="1" lang="zh-CN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逻辑库下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CLASS</a:t>
            </a:r>
            <a:r>
              <a:rPr b="1" lang="zh-CN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文件到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EXC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步：点选文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导出数据，进入选择输出数据文件界面，通过下拉菜单选择要导出文件的逻辑库名称和数据文件名称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42" name="Picture 2" descr=""/>
          <p:cNvPicPr/>
          <p:nvPr/>
        </p:nvPicPr>
        <p:blipFill>
          <a:blip r:embed="rId1"/>
          <a:stretch/>
        </p:blipFill>
        <p:spPr>
          <a:xfrm>
            <a:off x="1643040" y="2898720"/>
            <a:ext cx="528624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 Narrow"/>
                <a:ea typeface="宋体"/>
              </a:rPr>
              <a:t>本章操作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294920"/>
            <a:ext cx="822960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SAS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工作界面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——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重要功能键：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5, F6, F7, Ctrl+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命令行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Key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资源管理器窗口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trl+w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Times New Roman"/>
                <a:ea typeface="宋体"/>
              </a:rPr>
              <a:t>输出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窗口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*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7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增强型编辑器窗口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*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5, Ctrl+n(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产生多个编辑器窗口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日志窗口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*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F6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新建逻辑库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复制粘贴数据表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提交程序的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4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种方式：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F3 , F8) ,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命令行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(Submit)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,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菜单， 工具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导入和导出：菜单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, Import, Expor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51" name="图片 9" descr=""/>
          <p:cNvPicPr/>
          <p:nvPr/>
        </p:nvPicPr>
        <p:blipFill>
          <a:blip r:embed="rId1"/>
          <a:stretch/>
        </p:blipFill>
        <p:spPr>
          <a:xfrm>
            <a:off x="7480440" y="4127400"/>
            <a:ext cx="3888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642960" y="1294920"/>
            <a:ext cx="785808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步：点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ex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进入到选择输出格式界面。通过下拉菜单选择想要输出的格式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icrosoft Excel workboo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然后点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ext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44" name="图片 10" descr=""/>
          <p:cNvPicPr/>
          <p:nvPr/>
        </p:nvPicPr>
        <p:blipFill>
          <a:blip r:embed="rId1"/>
          <a:srcRect l="23290" t="10697" r="18529" b="39555"/>
          <a:stretch/>
        </p:blipFill>
        <p:spPr>
          <a:xfrm>
            <a:off x="1500120" y="2428920"/>
            <a:ext cx="5429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 txBox="1"/>
          <p:nvPr/>
        </p:nvSpPr>
        <p:spPr>
          <a:xfrm>
            <a:off x="642600" y="129528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步：进入设定输出文件位置和名称界面，通过浏览按钮选择输出位置，并键入输出文件的名称（比如新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ass.xl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放在桌面上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46" name="Picture 5" descr=""/>
          <p:cNvPicPr/>
          <p:nvPr/>
        </p:nvPicPr>
        <p:blipFill>
          <a:blip r:embed="rId1"/>
          <a:srcRect l="28889" t="55730" r="33289" b="22559"/>
          <a:stretch/>
        </p:blipFill>
        <p:spPr>
          <a:xfrm>
            <a:off x="1143000" y="2428920"/>
            <a:ext cx="58579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Box 3"/>
          <p:cNvSpPr/>
          <p:nvPr/>
        </p:nvSpPr>
        <p:spPr>
          <a:xfrm>
            <a:off x="714240" y="114300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四步：点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进入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Export Wizar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画面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Export Wizar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和后面要介绍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Wizar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转换数据文件的工具。在这个画面中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rt Wizar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要求对这个输出过程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命名，这时可以直接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完成输出，或者命名为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eet1’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48" name="Picture 5" descr=""/>
          <p:cNvPicPr/>
          <p:nvPr/>
        </p:nvPicPr>
        <p:blipFill>
          <a:blip r:embed="rId1"/>
          <a:stretch/>
        </p:blipFill>
        <p:spPr>
          <a:xfrm>
            <a:off x="1187280" y="2747880"/>
            <a:ext cx="633744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五步：如果上一步选择命名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会生产一段与前述导出数据集操作相同的程序，并提示是否要保存这段程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50" name="图片 4" descr=""/>
          <p:cNvPicPr/>
          <p:nvPr/>
        </p:nvPicPr>
        <p:blipFill>
          <a:blip r:embed="rId1"/>
          <a:srcRect l="11575" t="7839" r="41193" b="52679"/>
          <a:stretch/>
        </p:blipFill>
        <p:spPr>
          <a:xfrm>
            <a:off x="857160" y="2357280"/>
            <a:ext cx="6286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928800" y="1428840"/>
            <a:ext cx="704376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将这段程序储存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GM1.sas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放于桌面，点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nis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按钮，就会产生程序文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GM1.sa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打开如图所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2" name="TextBox 3"/>
          <p:cNvSpPr/>
          <p:nvPr/>
        </p:nvSpPr>
        <p:spPr>
          <a:xfrm>
            <a:off x="1000080" y="7858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生成的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as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程序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53" name="Picture 6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5905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数据集导入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*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例：将上步导出的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EXCEL</a:t>
            </a:r>
            <a:r>
              <a:rPr b="1" lang="zh-CN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文件导入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WORK</a:t>
            </a:r>
            <a:r>
              <a:rPr b="1" lang="zh-CN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逻辑库命名为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CLASS</a:t>
            </a:r>
            <a:endParaRPr b="1" i="1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928800" y="1714320"/>
            <a:ext cx="68292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步：文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导入数据，选择导入数据文件的类型，和导出程序一样，选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相关格式。然后点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ex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56" name="图片 28" descr=""/>
          <p:cNvPicPr/>
          <p:nvPr/>
        </p:nvPicPr>
        <p:blipFill>
          <a:blip r:embed="rId1"/>
          <a:srcRect l="23327" t="10459" r="18824" b="39698"/>
          <a:stretch/>
        </p:blipFill>
        <p:spPr>
          <a:xfrm>
            <a:off x="1428840" y="2786040"/>
            <a:ext cx="5500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999720" y="1295280"/>
            <a:ext cx="6357960" cy="9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步：进入到选择导入数据文件的画面，选择刚刚导出的文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ass.xl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如图所示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58" name="图片 13" descr=""/>
          <p:cNvPicPr/>
          <p:nvPr/>
        </p:nvPicPr>
        <p:blipFill>
          <a:blip r:embed="rId1"/>
          <a:srcRect l="27933" t="25359" r="22271" b="52976"/>
          <a:stretch/>
        </p:blipFill>
        <p:spPr>
          <a:xfrm>
            <a:off x="1143000" y="2357280"/>
            <a:ext cx="6108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矩形 2"/>
          <p:cNvSpPr/>
          <p:nvPr/>
        </p:nvSpPr>
        <p:spPr>
          <a:xfrm>
            <a:off x="1214280" y="1357200"/>
            <a:ext cx="721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第三步：进入到选择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table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的画面，这里选择下拉列表中的“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sheet1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。如图所示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60" name="Picture 5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7610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1"/>
          <p:cNvSpPr/>
          <p:nvPr/>
        </p:nvSpPr>
        <p:spPr>
          <a:xfrm>
            <a:off x="1071720" y="149616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第四步：选择要导入的数据文件所在的逻辑库及文件名称，这里选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work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临时库和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class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文件名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62" name="图片 37" descr=""/>
          <p:cNvPicPr/>
          <p:nvPr/>
        </p:nvPicPr>
        <p:blipFill>
          <a:blip r:embed="rId1"/>
          <a:srcRect l="23106" t="10222" r="18750" b="39555"/>
          <a:stretch/>
        </p:blipFill>
        <p:spPr>
          <a:xfrm>
            <a:off x="1428840" y="2357280"/>
            <a:ext cx="52149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矩形 3"/>
          <p:cNvSpPr/>
          <p:nvPr/>
        </p:nvSpPr>
        <p:spPr>
          <a:xfrm>
            <a:off x="1071720" y="1000080"/>
            <a:ext cx="67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第五步：进入到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Import Wizard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画面，给前面的导入过程产生一段程序，并提示是否储存这个程序，如不想存储则直接点击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Finish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按钮。这里将程序命名为“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PGM2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，并放于桌面。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64" name="图片 16" descr=""/>
          <p:cNvPicPr/>
          <p:nvPr/>
        </p:nvPicPr>
        <p:blipFill>
          <a:blip r:embed="rId1"/>
          <a:srcRect l="24877" t="10887" r="17717" b="40126"/>
          <a:stretch/>
        </p:blipFill>
        <p:spPr>
          <a:xfrm>
            <a:off x="1571760" y="2357280"/>
            <a:ext cx="55004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SAS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软件功能模块一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3" name="内容占位符 2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Base SAS ®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核心部件）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SAS/STAT®                                      SAS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经典的统计分析工具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SAS/GRAPH®                                 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图形引擎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SAS/CONNECT®                            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分布式环境支持组件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SAS/SHARE®                                   SAS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高并发协同数据服务器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SAS/Access® to ODBC                   </a:t>
            </a:r>
            <a:r>
              <a:rPr b="1" lang="zh-CN" sz="1600" spc="-1" strike="noStrike">
                <a:solidFill>
                  <a:srgbClr val="080808"/>
                </a:solidFill>
                <a:latin typeface="Times New Roman"/>
              </a:rPr>
              <a:t>外部数据连接和访问模块，提供同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ODBC</a:t>
            </a:r>
            <a:r>
              <a:rPr b="1" lang="zh-CN" sz="1600" spc="-1" strike="noStrike">
                <a:solidFill>
                  <a:srgbClr val="080808"/>
                </a:solidFill>
                <a:latin typeface="Times New Roman"/>
              </a:rPr>
              <a:t>数据源连接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SAS/IML®                                        </a:t>
            </a:r>
            <a:r>
              <a:rPr b="1" lang="zh-CN" sz="1600" spc="-1" strike="noStrike">
                <a:solidFill>
                  <a:srgbClr val="080808"/>
                </a:solidFill>
                <a:latin typeface="Times New Roman"/>
              </a:rPr>
              <a:t>交互式的矩阵语言开发环境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……                                 ……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矩形 2"/>
          <p:cNvSpPr/>
          <p:nvPr/>
        </p:nvSpPr>
        <p:spPr>
          <a:xfrm>
            <a:off x="1473120" y="15001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Times New Roman"/>
              </a:rPr>
              <a:t>打开产生的程序文件，如下所示：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6" name="TextBox 3"/>
          <p:cNvSpPr/>
          <p:nvPr/>
        </p:nvSpPr>
        <p:spPr>
          <a:xfrm>
            <a:off x="785880" y="71424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生成的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as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程序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67" name="Picture 6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7770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Box 3"/>
          <p:cNvSpPr/>
          <p:nvPr/>
        </p:nvSpPr>
        <p:spPr>
          <a:xfrm>
            <a:off x="500040" y="785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AS</a:t>
            </a:r>
            <a:r>
              <a:rPr b="1" lang="zh-CN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系统安装</a:t>
            </a: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32</a:t>
            </a:r>
            <a:r>
              <a:rPr b="1" lang="zh-CN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位与</a:t>
            </a: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64</a:t>
            </a:r>
            <a:r>
              <a:rPr b="1" lang="zh-CN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位的说明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9" name="TextBox 4"/>
          <p:cNvSpPr/>
          <p:nvPr/>
        </p:nvSpPr>
        <p:spPr>
          <a:xfrm>
            <a:off x="785880" y="1714680"/>
            <a:ext cx="742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由于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软件安装要求区分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32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位操作系统与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64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位操作系。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64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位操作系统需要安装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64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位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软件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,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同时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与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Excel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之间转换引擎也需要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64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位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，亦即如果要成功导入与导出文件，需要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64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位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offic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软件。因此，在安装前要先查看操作系统是多少位的，再进行安装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最新操作系统多是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64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位的，因此，建议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offic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软件也使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64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位，以便能够顺利实现文件与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文件的转换。 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2"/>
          <p:cNvSpPr/>
          <p:nvPr/>
        </p:nvSpPr>
        <p:spPr>
          <a:xfrm>
            <a:off x="285840" y="1643040"/>
            <a:ext cx="8571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200" spc="-1" strike="noStrike">
                <a:solidFill>
                  <a:srgbClr val="080808"/>
                </a:solidFill>
                <a:latin typeface="Arial"/>
              </a:rPr>
              <a:t>习   题</a:t>
            </a:r>
            <a:endParaRPr b="0" lang="en-US" sz="4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1" name="Rectangle 3"/>
          <p:cNvSpPr/>
          <p:nvPr/>
        </p:nvSpPr>
        <p:spPr>
          <a:xfrm>
            <a:off x="1071720" y="571680"/>
            <a:ext cx="7238880" cy="55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缺省情况下，快捷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1, F3, F4, F5, F6, F7, F8, F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rl+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作用是什么？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缺省情况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的五个功能窗口及各自的作用是什么？怎样定义激活这些窗口的快捷键？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怎样增加和删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具？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志窗口的信息构成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显示管理系统下，切换窗口和完成各种特定的功能等，有四种发布命令的方式：即，在命令框直接键入命令；使用下拉菜单；使用工具栏；按功能键。试举例说明这些用法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菜单方式新建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逻辑库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下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的用途并举例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gli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m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.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菜单方式导入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和导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集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WordArt 2"/>
          <p:cNvSpPr txBox="1"/>
          <p:nvPr/>
        </p:nvSpPr>
        <p:spPr>
          <a:xfrm>
            <a:off x="1084320" y="3500280"/>
            <a:ext cx="44956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SAS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软件功能模块二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TextBox 3"/>
          <p:cNvSpPr/>
          <p:nvPr/>
        </p:nvSpPr>
        <p:spPr>
          <a:xfrm>
            <a:off x="1285920" y="1428840"/>
            <a:ext cx="621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6" name="内容占位符 2"/>
          <p:cNvSpPr/>
          <p:nvPr/>
        </p:nvSpPr>
        <p:spPr>
          <a:xfrm>
            <a:off x="652320" y="1346040"/>
            <a:ext cx="7839360" cy="41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商业智能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数据仓库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SAS/Intr Net®                                           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基于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WEB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方式的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OLAP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分析工具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SAS® Data Quality Solution                       SAS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数据质量解决方案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JMP® Software                                         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交互式的数据分析软件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……                                                            ……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高级分析工具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Enterprise Miner™                                     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企业级数据挖掘服务器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SAS® Text Miner                                        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文本挖掘工具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……            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                                 ……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SAS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解决方案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SAS® Financial Management Solutions      SAS</a:t>
            </a:r>
            <a:r>
              <a:rPr b="0" lang="zh-CN" sz="1600" spc="-1" strike="noStrike">
                <a:solidFill>
                  <a:srgbClr val="080808"/>
                </a:solidFill>
                <a:latin typeface="Times New Roman"/>
              </a:rPr>
              <a:t>金融管理方案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……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……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6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SAS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工作界面</a:t>
            </a:r>
            <a:r>
              <a:rPr b="1" lang="en-US" sz="2800" spc="-1" strike="noStrike">
                <a:solidFill>
                  <a:srgbClr val="003399"/>
                </a:solidFill>
                <a:latin typeface="Arial Narrow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3399"/>
                </a:solidFill>
                <a:latin typeface="Arial Narrow"/>
                <a:ea typeface="宋体"/>
              </a:rPr>
              <a:t>*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重要功能键：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宋体"/>
              </a:rPr>
              <a:t>F5, F6, F7, </a:t>
            </a:r>
            <a:r>
              <a:rPr b="1" lang="en-US" sz="2800" spc="-1" strike="noStrike">
                <a:solidFill>
                  <a:srgbClr val="003399"/>
                </a:solidFill>
                <a:latin typeface="Arial Narrow"/>
                <a:ea typeface="宋体"/>
              </a:rPr>
              <a:t>CTL+E</a:t>
            </a:r>
            <a:endParaRPr b="1" i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59" name="Picture 21" descr=""/>
          <p:cNvPicPr/>
          <p:nvPr/>
        </p:nvPicPr>
        <p:blipFill>
          <a:blip r:embed="rId1"/>
          <a:srcRect l="17359" t="6068" r="15369" b="34099"/>
          <a:stretch/>
        </p:blipFill>
        <p:spPr>
          <a:xfrm>
            <a:off x="1500120" y="1428840"/>
            <a:ext cx="5832720" cy="4640040"/>
          </a:xfrm>
          <a:prstGeom prst="rect">
            <a:avLst/>
          </a:prstGeom>
          <a:ln w="0">
            <a:noFill/>
          </a:ln>
        </p:spPr>
      </p:pic>
      <p:grpSp>
        <p:nvGrpSpPr>
          <p:cNvPr id="660" name="Group 22"/>
          <p:cNvGrpSpPr/>
          <p:nvPr/>
        </p:nvGrpSpPr>
        <p:grpSpPr>
          <a:xfrm>
            <a:off x="1071720" y="1856880"/>
            <a:ext cx="7358040" cy="3958200"/>
            <a:chOff x="1071720" y="1856880"/>
            <a:chExt cx="7358040" cy="3958200"/>
          </a:xfrm>
        </p:grpSpPr>
        <p:sp>
          <p:nvSpPr>
            <p:cNvPr id="661" name="Line 23"/>
            <p:cNvSpPr/>
            <p:nvPr/>
          </p:nvSpPr>
          <p:spPr>
            <a:xfrm flipH="1">
              <a:off x="2264400" y="3662280"/>
              <a:ext cx="5200920" cy="63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2" name="Text Box 24"/>
            <p:cNvSpPr/>
            <p:nvPr/>
          </p:nvSpPr>
          <p:spPr>
            <a:xfrm>
              <a:off x="1071720" y="2091960"/>
              <a:ext cx="4129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80808"/>
                  </a:solidFill>
                  <a:latin typeface="Times New Roman"/>
                </a:rPr>
                <a:t>命令行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3" name="Text Box 25"/>
            <p:cNvSpPr/>
            <p:nvPr/>
          </p:nvSpPr>
          <p:spPr>
            <a:xfrm>
              <a:off x="7465680" y="1857240"/>
              <a:ext cx="96408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80808"/>
                  </a:solidFill>
                  <a:latin typeface="Times New Roman"/>
                </a:rPr>
                <a:t>菜单栏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4" name="Text Box 26"/>
            <p:cNvSpPr/>
            <p:nvPr/>
          </p:nvSpPr>
          <p:spPr>
            <a:xfrm>
              <a:off x="7465680" y="2193840"/>
              <a:ext cx="96408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80808"/>
                  </a:solidFill>
                  <a:latin typeface="Times New Roman"/>
                </a:rPr>
                <a:t>工具栏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5" name="Text Box 27"/>
            <p:cNvSpPr/>
            <p:nvPr/>
          </p:nvSpPr>
          <p:spPr>
            <a:xfrm>
              <a:off x="7434720" y="5476320"/>
              <a:ext cx="96408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80808"/>
                  </a:solidFill>
                  <a:latin typeface="Times New Roman"/>
                </a:rPr>
                <a:t>窗口条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6" name="Text Box 28"/>
            <p:cNvSpPr/>
            <p:nvPr/>
          </p:nvSpPr>
          <p:spPr>
            <a:xfrm>
              <a:off x="7465680" y="3436200"/>
              <a:ext cx="9640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80808"/>
                  </a:solidFill>
                  <a:latin typeface="Times New Roman"/>
                </a:rPr>
                <a:t>功能窗口</a:t>
              </a:r>
              <a:endParaRPr b="0" lang="en-US" sz="1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7" name="Line 29"/>
            <p:cNvSpPr/>
            <p:nvPr/>
          </p:nvSpPr>
          <p:spPr>
            <a:xfrm flipH="1" flipV="1">
              <a:off x="6639120" y="3322800"/>
              <a:ext cx="826200" cy="338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8" name="Line 30"/>
            <p:cNvSpPr/>
            <p:nvPr/>
          </p:nvSpPr>
          <p:spPr>
            <a:xfrm flipH="1">
              <a:off x="6373800" y="3662280"/>
              <a:ext cx="1091160" cy="996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9" name="Line 31"/>
            <p:cNvSpPr/>
            <p:nvPr/>
          </p:nvSpPr>
          <p:spPr>
            <a:xfrm flipV="1">
              <a:off x="1336680" y="1973880"/>
              <a:ext cx="898200" cy="2347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70" name="Line 32"/>
            <p:cNvSpPr/>
            <p:nvPr/>
          </p:nvSpPr>
          <p:spPr>
            <a:xfrm flipH="1" flipV="1">
              <a:off x="4989600" y="1856880"/>
              <a:ext cx="2613600" cy="11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71" name="Line 33"/>
            <p:cNvSpPr/>
            <p:nvPr/>
          </p:nvSpPr>
          <p:spPr>
            <a:xfrm flipH="1" flipV="1">
              <a:off x="5400000" y="1967400"/>
              <a:ext cx="2065680" cy="338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72" name="Line 34"/>
            <p:cNvSpPr/>
            <p:nvPr/>
          </p:nvSpPr>
          <p:spPr>
            <a:xfrm flipH="1">
              <a:off x="6639120" y="5709600"/>
              <a:ext cx="826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主要功能窗口 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785880" y="1285560"/>
            <a:ext cx="740088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0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32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1" action="ppaction://hlinksldjump"/>
              </a:rPr>
              <a:t>“命令行”窗口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32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2" action="ppaction://hlinksldjump"/>
              </a:rPr>
              <a:t>“</a:t>
            </a:r>
            <a:r>
              <a:rPr b="0" lang="en-US" sz="32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3" action="ppaction://hlinksldjump"/>
              </a:rPr>
              <a:t>SAS </a:t>
            </a:r>
            <a:r>
              <a:rPr b="0" lang="zh-CN" sz="32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4" action="ppaction://hlinksldjump"/>
              </a:rPr>
              <a:t>资源管理器”窗口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32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5" action="ppaction://hlinksldjump"/>
              </a:rPr>
              <a:t>“结果”窗口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32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6" action="ppaction://hlinksldjump"/>
              </a:rPr>
              <a:t>“增强型编辑器”窗口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32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7" action="ppaction://hlinksldjump"/>
              </a:rPr>
              <a:t>“日志”窗口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buClr>
                <a:srgbClr val="5bbe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zh-CN" sz="32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8" action="ppaction://hlinksldjump"/>
              </a:rPr>
              <a:t>“输出”窗口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 Narrow"/>
                <a:ea typeface="宋体"/>
              </a:rPr>
              <a:t>主要功能窗口相关操作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928800" y="1500120"/>
          <a:ext cx="6572160" cy="4324320"/>
        </p:xfrm>
        <a:graphic>
          <a:graphicData uri="http://schemas.openxmlformats.org/drawingml/2006/table">
            <a:tbl>
              <a:tblPr/>
              <a:tblGrid>
                <a:gridCol w="1995480"/>
                <a:gridCol w="1768320"/>
                <a:gridCol w="1152720"/>
                <a:gridCol w="1655640"/>
              </a:tblGrid>
              <a:tr h="654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窗口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菜单路径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快捷键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命令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只显示内容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视图显示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资源管理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窗口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视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&gt;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只显示内容（没有树视图）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默认停放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ENV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窗口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视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&gt;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果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默认停放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SRESULT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6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编辑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窗口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视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&gt;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强型编辑器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DI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日志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窗口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视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&gt;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日志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6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窗口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视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&gt;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出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资源管理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窗口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视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&gt; SAS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资源管理器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RL+W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LORER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宋体"/>
              </a:rPr>
              <a:t>常用功能键示例</a:t>
            </a:r>
            <a:endParaRPr b="1" i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4296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5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激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辑器窗口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6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激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志窗口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7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激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窗口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3       </a:t>
            </a:r>
            <a:r>
              <a:rPr b="0" lang="zh-CN" sz="24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1" action="ppaction://hlinksldjump"/>
              </a:rPr>
              <a:t>提交</a:t>
            </a:r>
            <a:r>
              <a:rPr b="0" lang="zh-CN" sz="24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2" action="ppaction://hlinksldjump"/>
              </a:rPr>
              <a:t>程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RL+E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清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内容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RL+N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辑器窗口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RL+W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打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资源管理器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RL+F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关闭当前窗口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be4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复制下面程序于编辑器窗口，演示上述功能键的操作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roc print data=sashelp.class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run;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3:57:00Z</dcterms:created>
  <dc:creator>微软用户</dc:creator>
  <dc:description/>
  <dc:language>en-US</dc:language>
  <cp:lastModifiedBy>zhushw</cp:lastModifiedBy>
  <dcterms:modified xsi:type="dcterms:W3CDTF">2013-04-18T02:19:44Z</dcterms:modified>
  <cp:revision>106</cp:revision>
  <dc:subject/>
  <dc:title>第1章 SAS软件入门</dc:title>
</cp:coreProperties>
</file>